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1C7-410C-4B38-91BD-C5DDD204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918-6FF1-4FE4-B8C2-5F2C581A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723-F146-40DA-B5C0-16CF94A3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C4E-9687-4CC6-A487-A5984BB0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BCE-FA39-4E94-AD60-377852BB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E44-D65E-4C99-9CA2-9632A9F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D59-5544-4459-B3B3-5B41AB0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829-C6CC-4A67-BC40-AD9B8AE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B69-9418-41D0-9DF6-F820B24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92D-888C-4D8E-A550-AB33994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24E-E33A-4D6E-9C89-5F4F8030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CC6-87B8-4BA0-9F6F-C791DE4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077-1B0E-499F-BBEA-BA9BC9EA9F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689040" y="1682640"/>
            <a:ext cx="7772400" cy="252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a Horáková</dc:creator>
  <dc:description/>
  <dc:language>en-US</dc:language>
  <cp:lastModifiedBy>Jana Horáková</cp:lastModifiedBy>
  <dcterms:modified xsi:type="dcterms:W3CDTF">2020-03-31T16:04:5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