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41D-0BAE-4EE3-9C76-E0645412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40E-7E3D-475F-B5FF-40F4CDF5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39B-439B-4E15-996F-E8AB1561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3D3-DAF1-4ADB-A294-6036C623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0A4-D9C0-4312-8E76-DD553AF9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621-01D6-4A0C-8D2D-73F42F49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515-7FE4-4E86-90C1-0C4897A2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62D-BE0F-401D-9403-7615DF7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DC3-F63F-4C5E-BAAC-4D02779E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F2A-D78E-499F-B192-7A9CBCA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571-357A-4A10-8C15-56C16AF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204-5C49-454C-90FD-FA3D552F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7E2D-CBAA-41A4-A0E1-7AC46D5FCB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689040" y="1682640"/>
            <a:ext cx="7772400" cy="252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a Horáková</dc:creator>
  <dc:description/>
  <dc:language>en-US</dc:language>
  <cp:lastModifiedBy>Jana Horáková</cp:lastModifiedBy>
  <dcterms:modified xsi:type="dcterms:W3CDTF">2020-03-31T16:04:5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