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68B-7A62-4EC5-A9F6-11C5DA87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AFD-A4C8-43BC-A83B-5B803E8F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204-9DF4-44FA-810E-0D984AC9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04E-E04D-42A5-8079-781E3948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E414-4024-403E-A082-2E976882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1675-AF97-4A33-B84F-28A701B8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DBC3-B87E-4CEC-BC6F-56DB9F6B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4FC8-7461-43C6-8F1B-064105B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9D3C-3798-4572-B680-39B2C5B5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4E19-8433-4195-917B-64548B72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F66F-20BC-466D-BEE8-BEBC43A3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42B-911B-457C-8DED-24D39065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BAE0-1208-4542-87A1-392A3584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83FF-3114-4DF2-8160-E3B9B25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3323-E2E1-4AB3-8EB6-60406F5F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9947-DA68-45FF-9B15-A9CBFBA2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5777-59F2-4CCA-A720-122DFF1E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D3D-923B-47DB-911B-C003844F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12C-6689-499D-B7DA-E62BCF4A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3F3-9BFA-4737-80EC-C0500B60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6F0-AF07-4696-BB7D-AFFA6077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721-9CE4-4DCB-B7C3-01BF86A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865-1111-48F5-A833-1AD76B07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60E-88EA-4A1E-BBD7-3B318F6F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0CE0-FA67-48BC-8B81-728A250354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00B6-4F2C-41C8-BEB9-13F8AAF5F1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file:///MDT%20MRF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c.gov/catdir/cpso/lcco/lcco.html" TargetMode="External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koordinace.ht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igma.nkp.cz/F/GB84AY97YDBANYHXXAF3J8LP1KXI9ETLYN2XT5LLSH96QVJFNP-09661?func=file&amp;file_name=find-a&amp;local_base=aut1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uropa.eu.int/celex/eurovoc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N&#225;bo&#382;enstv&#237;%20a%20spole&#269;nost%20v%20Evrop&#283;.htm" TargetMode="External"/><Relationship Id="rId2" Type="http://schemas.openxmlformats.org/officeDocument/2006/relationships/hyperlink" Target="file:///N&#225;bo&#382;enstv&#237;%20a%20spole&#269;nost%20v%20Evrop&#283;.htm" TargetMode="External"/><Relationship Id="rId3" Type="http://schemas.openxmlformats.org/officeDocument/2006/relationships/hyperlink" Target="file:///N&#225;bo&#382;enstv&#237;%20a%20spole&#269;nost%20v%20Evrop&#283;.htm" TargetMode="External"/><Relationship Id="rId4" Type="http://schemas.openxmlformats.org/officeDocument/2006/relationships/hyperlink" Target="file:///N&#225;bo&#382;enstv&#237;%20a%20spole&#269;nost%20v%20Evrop&#283;.htm" TargetMode="External"/><Relationship Id="rId5" Type="http://schemas.openxmlformats.org/officeDocument/2006/relationships/hyperlink" Target="file:///N&#225;bo&#382;enstv&#237;%20a%20spole&#269;nost%20v%20Evrop&#283;.htm" TargetMode="External"/><Relationship Id="rId6" Type="http://schemas.openxmlformats.org/officeDocument/2006/relationships/hyperlink" Target="file:///N&#225;bo&#382;enstv&#237;%20a%20spole&#269;nost%20v%20Evrop&#283;.htm" TargetMode="External"/><Relationship Id="rId7" Type="http://schemas.openxmlformats.org/officeDocument/2006/relationships/hyperlink" Target="file:///N&#225;bo&#382;enstv&#237;%20a%20spole&#269;nost%20v%20Evrop&#283;.htm" TargetMode="External"/><Relationship Id="rId8" Type="http://schemas.openxmlformats.org/officeDocument/2006/relationships/hyperlink" Target="file:///N&#225;bo&#382;enstv&#237;%20a%20spole&#269;nost%20v%20Evrop&#283;.htm" TargetMode="Externa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sigma.nkp.cz/F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ib-info.cuni.cz/dokumenty/sec2004/sec2004_balikova.rtf" TargetMode="External"/><Relationship Id="rId2" Type="http://schemas.openxmlformats.org/officeDocument/2006/relationships/hyperlink" Target="http://jib-info.cuni.cz/dokumenty/sec2004/sec2004_balikova.rtf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Selekční jazyky I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 cvičení 21. 10. 200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Comic Sans MS"/>
              </a:rPr>
              <a:t>Praktické ukázky různých typů S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Silvie Pres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presova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@</a:t>
            </a: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lasifikační tabul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ištěná ve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ůzné druhy vydání tabulek – různý rozsah tříd: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úplné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přibližně 150 000 znaků)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tředn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jednotlivé třídy jsou kráceny v různém poměru)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zkrácené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počet znaků je redukován přibližně stejnou měrou ve všech třídách )a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peciáln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omezeno tematiko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verz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MDT MRF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– tzv. základní vyd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VIDLA?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z tabulky nebo odborná litera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př.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Koncepce MDT MRF v NK ČR -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  <a:hlinkClick r:id="rId2"/>
              </a:rPr>
              <a:t>z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537372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623736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numerativní systém versus fasetový systé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Britská poez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omic Sans MS"/>
              </a:rPr>
              <a:t>Příklad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adf6c"/>
                </a:solidFill>
                <a:uFillTx/>
                <a:latin typeface="Comic Sans MS"/>
                <a:hlinkClick r:id="rId1"/>
              </a:rPr>
              <a:t>LIBRARY OF CONGRESS CLASSIFICATION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ASS P - LANGUAGE AND LITERATURE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Comic Sans MS"/>
              </a:rPr>
              <a:t>VERSU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COLON CLASSIFICATION více z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DT – analyticko-syntetický systé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yužívá enumerativní a fasetový přístup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21.111(73) Americká literatu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hlavní znak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faseta místa –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lavní tabulk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šeobecný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mocný znak míst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pomocné tabulk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zniká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rozvinutý z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2781360"/>
            <a:ext cx="0" cy="50472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2924280"/>
            <a:ext cx="1079640" cy="57600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DT versus DD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81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rican Poetr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821.111(73)-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rická poe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plňující literatura k SSJ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eb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esová, S.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Metoda Konspektu a její vztah k selekčním jazykům : současný stav a trendy se zaměřením na situaci v České republice.</a:t>
            </a:r>
            <a:r>
              <a:rPr b="0" lang="en-US" sz="3200" spc="-1" strike="noStrike">
                <a:solidFill>
                  <a:srgbClr val="33cccc"/>
                </a:solidFill>
                <a:latin typeface="Comic Sans MS"/>
              </a:rPr>
              <a:t> 1. vyd. V Brně : Masarykova univerzita, 2005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apitola 2.2, Stručná charakteristika vybraných systematických selekčních jazyků, s. 30–39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8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ostkoordinace versus prekoordina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proč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liší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lekční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obraz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knih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Náboženství a společnost v Evropě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 katalogu ETF a katalogu NKC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čili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různé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neb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ůzné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druh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J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verzálnost versus specifičnost slovník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932120"/>
            <a:ext cx="3859200" cy="4233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3320" y="1989000"/>
            <a:ext cx="29736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říklad deskriptorového odstav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EUROVO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earch ŠIKA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sychologické obtěž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ásilí ve školá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UROVOC V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UROVOC v katalogu Parlamentní knihovny Č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2b00"/>
                </a:solidFill>
                <a:latin typeface="Comic Sans MS"/>
              </a:rPr>
              <a:t>Tezaurus Eurovoc versus MD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MD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umístění termínu v systé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Eurovoc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uspořádání deskriptorů, deskriptorový odstavec, mikrotezaur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.S. hledáme místo pro knihovn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roč deskriptory a ne klíčová slov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n e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Comic Sans MS"/>
              </a:rPr>
              <a:t>K čemu ty SJ vlastně jsou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DPOVĚĎ hledáme v db LI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cc66"/>
                </a:solidFill>
                <a:latin typeface="Wingdings"/>
                <a:ea typeface="Wingdings"/>
              </a:rPr>
              <a:t>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Č Í M   Z A Č Í 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00"/>
                </a:solidFill>
                <a:latin typeface="Comic Sans MS"/>
              </a:rPr>
              <a:t>Jaké druhy selekčních jazyků používá při indexaci NK Č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1"/>
              </a:rPr>
              <a:t>Náboženství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2"/>
              </a:rPr>
              <a:t> a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3"/>
              </a:rPr>
              <a:t>společnost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4"/>
              </a:rPr>
              <a:t>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5"/>
              </a:rPr>
              <a:t>v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6"/>
              </a:rPr>
              <a:t>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7"/>
              </a:rPr>
              <a:t>Evropě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8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EZNAMY RŮZNÝCH DRUHŮ SJ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rolled vocabularies, thesauri and classification systems available in the WWW. DC Subjec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XONOMY WAREHOUS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yond Book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HNK v katalogu OPAC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00"/>
                </a:solidFill>
                <a:latin typeface="Comic Sans MS"/>
              </a:rPr>
              <a:t>uplatnění syntaktických pravide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krátké jednoduché řetězce hes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vn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í (nosné) heslo se uvádí ve vstupním prvku (pořadatel záhlaví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další prvky řetězce PH (podhesla) doplňují hlavní heslo a jsou v konkrétním pořadí (syntaktická pravidla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Comic Sans MS"/>
              </a:rPr>
              <a:t>tematické zpřes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Comic Sans MS"/>
              </a:rPr>
              <a:t>geografické zpřes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Comic Sans MS"/>
              </a:rPr>
              <a:t>chronologické zpřes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HNK – Předmětová hesla Národní knihovny Č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LOVNÍK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bor věcných autorit je řízený a  měnitelný abecedně uspořádaný soubor  autoritních záhlaví předmětových věcných hesel a s nimi věcně souvisejících znaků M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ztahy ekvivalence, asociace, hierarchické vzta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348000" y="2205000"/>
          <a:ext cx="28861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2205000"/>
                    <a:ext cx="2886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plňující literatura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Web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omic Sans MS"/>
              </a:rPr>
              <a:t>Balíková, M. Harmonizace věcné </a:t>
            </a:r>
            <a:r>
              <a:rPr b="0" lang="cs-CZ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Comic Sans MS"/>
              </a:rPr>
              <a:t>katalogizace v Česku: sen či realita?</a:t>
            </a: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cs-CZ" sz="2800" spc="-1" strike="noStrike">
                <a:solidFill>
                  <a:srgbClr val="66ccff"/>
                </a:solidFill>
                <a:latin typeface="Comic Sans MS"/>
              </a:rPr>
              <a:t>In: Knihovny současnosti 2004. Brno : Sdružení knihoven ČR, 2004. ISBN 80-86249-30-1</a:t>
            </a:r>
            <a:br>
              <a:rPr sz="2800"/>
            </a:br>
            <a:r>
              <a:rPr b="0" lang="cs-CZ" sz="2800" spc="-1" strike="noStrike">
                <a:solidFill>
                  <a:srgbClr val="66ccff"/>
                </a:solidFill>
                <a:latin typeface="Comic Sans MS"/>
              </a:rPr>
              <a:t>Dostupné též na WWW: </a:t>
            </a:r>
            <a:r>
              <a:rPr b="0" lang="cs-CZ" sz="28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http</a:t>
            </a:r>
            <a:r>
              <a:rPr b="0" lang="cs-CZ" sz="2800" spc="-1" strike="noStrike" u="sng">
                <a:solidFill>
                  <a:srgbClr val="ffffcc"/>
                </a:solidFill>
                <a:uFillTx/>
                <a:latin typeface="Comic Sans MS"/>
                <a:hlinkClick r:id="rId2"/>
              </a:rPr>
              <a:t>://jib-info.cuni.cz/dokumenty/sec2004/sec2004_balikova.rt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plňující literatura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Web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alíková, M. Změna koncepce věcného zpracování v Národní knihovně ČR. 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1. vyd. Praha : Národní knihovna ČR, 1998. 22 s. ISBN 80-7050-302-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 mají společné dva rozdílné druhy SJ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792520" cy="4105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00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princip  prekoordina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Mezinárodní Desetinné Třídění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MD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iverzální klasifikační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luje o klasifikaci univerza lidských poznatků a jejich uspořádání v rámci jednotlivých vědních oborů do tříd, podtříd, oddíl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lasifikované pojmy systémů MDT a vztahy mezi pojmy vycházejí z vědních disciplí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ncip desetinné not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chéma MDT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základní třída 3 Společenské věd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0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orie, metodologie a metody společenských věd      všeobecně. Sociograf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Sociologie. Statis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tatistika jako věda. Statistická teor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4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Populační (demografický) výzku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ředmět a rozsah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cká hlediska a tren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ální struktura. Společnost jako sociální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ysté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obální společnosti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ákladní prvky a subsystémy globálních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lečností jako sociologických kategorií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oli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my politické organizace. Státy jako politické síl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357720"/>
            <a:ext cx="863640" cy="431640"/>
          </a:xfrm>
          <a:prstGeom prst="wedgeRoundRectCallout">
            <a:avLst>
              <a:gd name="adj1" fmla="val 52023"/>
              <a:gd name="adj2" fmla="val 113972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t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3213000"/>
            <a:ext cx="165744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lovní vyjádře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20:00:46Z</dcterms:created>
  <dc:creator>SilvieP.</dc:creator>
  <dc:description/>
  <dc:language>en-US</dc:language>
  <cp:lastModifiedBy>SilvieP.</cp:lastModifiedBy>
  <dcterms:modified xsi:type="dcterms:W3CDTF">2005-10-30T20:28:47Z</dcterms:modified>
  <cp:revision>19</cp:revision>
  <dc:subject/>
  <dc:title>Selekční jazyky I  cvičení 5. 11. 2004</dc:title>
</cp:coreProperties>
</file>