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A88-28AC-4DA8-BF9E-80C28E7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DBB-6DD1-4212-8936-A11AF97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5D3-F2F2-4ADA-8706-4F50B979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50A-E3F2-4AEE-AE79-3E5A3373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FB6-1160-431C-8598-89B6533B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73C-15F1-4EB7-95E7-C738FD9E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CC38-8B25-4407-AF18-2CF200F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1C7-4499-46DA-9BD0-66FBDD1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79E4-3BEF-4817-8D1A-2927E08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36F-81B5-4586-A8DB-FB8EFE3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52C9-014D-42C9-ABD7-7AA69EA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75F-7FA4-4209-831F-EEFFF94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5BA6-4E4D-45E8-81A4-E10DB95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711E-830D-4070-AA88-9D6AAC9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C7A8-1D11-4FE6-9FFB-C477C59D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BA6F-93CD-40B0-91F4-7E3F76D5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58D9-D252-4044-8D13-4DC63E84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8B1-8E64-458A-831E-42EFFC74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EBA-530E-48F0-AD7F-3B26C7E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8C-0794-4F04-91FF-D1EFD20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25E-5A08-425D-8B01-FA04957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762-86C3-414D-9451-9E2688D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AE1-037C-469B-8CB6-977BD5F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159-215C-49E7-A8A8-E72417F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379-4908-45F3-93A9-7E9FBFAC4E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D83-7330-49D8-B372-5A46564355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file:///MDT%20MRF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c.gov/catdir/cpso/lcco/lcco.html" TargetMode="Externa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oordinace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igma.nkp.cz/F/GB84AY97YDBANYHXXAF3J8LP1KXI9ETLYN2XT5LLSH96QVJFNP-09661?func=file&amp;file_name=find-a&amp;local_base=aut1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uropa.eu.int/celex/eurovoc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N&#225;bo&#382;enstv&#237;%20a%20spole&#269;nost%20v%20Evrop&#283;.htm" TargetMode="External"/><Relationship Id="rId2" Type="http://schemas.openxmlformats.org/officeDocument/2006/relationships/hyperlink" Target="file:///N&#225;bo&#382;enstv&#237;%20a%20spole&#269;nost%20v%20Evrop&#283;.htm" TargetMode="External"/><Relationship Id="rId3" Type="http://schemas.openxmlformats.org/officeDocument/2006/relationships/hyperlink" Target="file:///N&#225;bo&#382;enstv&#237;%20a%20spole&#269;nost%20v%20Evrop&#283;.htm" TargetMode="External"/><Relationship Id="rId4" Type="http://schemas.openxmlformats.org/officeDocument/2006/relationships/hyperlink" Target="file:///N&#225;bo&#382;enstv&#237;%20a%20spole&#269;nost%20v%20Evrop&#283;.htm" TargetMode="External"/><Relationship Id="rId5" Type="http://schemas.openxmlformats.org/officeDocument/2006/relationships/hyperlink" Target="file:///N&#225;bo&#382;enstv&#237;%20a%20spole&#269;nost%20v%20Evrop&#283;.htm" TargetMode="External"/><Relationship Id="rId6" Type="http://schemas.openxmlformats.org/officeDocument/2006/relationships/hyperlink" Target="file:///N&#225;bo&#382;enstv&#237;%20a%20spole&#269;nost%20v%20Evrop&#283;.htm" TargetMode="External"/><Relationship Id="rId7" Type="http://schemas.openxmlformats.org/officeDocument/2006/relationships/hyperlink" Target="file:///N&#225;bo&#382;enstv&#237;%20a%20spole&#269;nost%20v%20Evrop&#283;.htm" TargetMode="External"/><Relationship Id="rId8" Type="http://schemas.openxmlformats.org/officeDocument/2006/relationships/hyperlink" Target="file:///N&#225;bo&#382;enstv&#237;%20a%20spole&#269;nost%20v%20Evrop&#283;.htm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igma.nkp.cz/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jib-info.cuni.cz/dokumenty/sec2004/sec2004_balikova.rtf" TargetMode="External"/><Relationship Id="rId2" Type="http://schemas.openxmlformats.org/officeDocument/2006/relationships/hyperlink" Target="http://jib-info.cuni.cz/dokumenty/sec2004/sec2004_balikova.rt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elekční jazyky 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 cvičení 21. 10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Praktické ukázky různých typů S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Silvie Pres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resova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@</a:t>
            </a: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lasifikační tabul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ůzné druhy vydání tabulek – různý rozsah tříd: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úpl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řibližně 150 000 znaků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třed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jednotlivé třídy jsou kráceny v různém poměru)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zkrácené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počet znaků je redukován přibližně stejnou měrou ve všech třídách )a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peciáln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omezeno tematiko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verz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MDT MRF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– tzv. základní vyd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VIDLA?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z tabulky nebo odborná litera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př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Koncepce MDT MRF v NK ČR -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z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537372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623736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umerativní systém versus fasetov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Britská poez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omic Sans MS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adf6c"/>
                </a:solidFill>
                <a:uFillTx/>
                <a:latin typeface="Comic Sans MS"/>
                <a:hlinkClick r:id="rId1"/>
              </a:rPr>
              <a:t>LIBRARY OF CONGRESS CLASSIFICATION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ASS P - LANGUAGE AND LITERATURE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Comic Sans MS"/>
              </a:rPr>
              <a:t>VERSU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mic Sans MS"/>
              </a:rPr>
              <a:t>COLON CLASSIFICATION více z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DT – analyticko-syntetický systé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yužívá enumerativní a fasetový přístup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21.111(73) Americká litera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hlavní znak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faseta místa –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lavní tabulk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šeobecný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mocný znak míst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pomocné tabulk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niká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rozvinutý zn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2781360"/>
            <a:ext cx="0" cy="50472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924280"/>
            <a:ext cx="1079640" cy="576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DT versus DD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1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an Poetr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42b00"/>
                </a:solidFill>
                <a:latin typeface="Comic Sans MS"/>
              </a:rPr>
              <a:t>821.111(73)-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rická poe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k SSJ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sová, S.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etoda Konspektu a její vztah k selekčním jazykům : současný stav a trendy se zaměřením na situaci v České republice.</a:t>
            </a: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1. vyd. V Brně : Masarykova univerzita, 2005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pitola 2.2, Stručná charakteristika vybraných systematických selekčních jazyků, s. 30–3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8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ostkoordinace versus prekoordina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proč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liš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kční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obra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knih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Náboženství a společnost v Evropě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katalogu ETF a katalogu NKC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čili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neb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ůzné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druh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J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verzálnost versus specifičnost slovník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932120"/>
            <a:ext cx="3859200" cy="4233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3320" y="1989000"/>
            <a:ext cx="2973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říklad deskriptorového odstav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EUROV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earch ŠIKA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sychologické obtěž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ásilí ve školá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UROVOC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UROVOC v katalogu Parlamentní knihovny Č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2b00"/>
                </a:solidFill>
                <a:latin typeface="Comic Sans MS"/>
              </a:rPr>
              <a:t>Tezaurus Eurovoc versus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MD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místění termínu v systé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Eurovo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uspořádání deskriptorů, deskriptorový odstavec, mikrotezau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.S. hledáme místo pro knihovn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oč deskriptory a ne klíčová slov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n e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K čemu ty SJ vlastně jsou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POVĚĎ hledáme v db LI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cc66"/>
                </a:solidFill>
                <a:latin typeface="Wingdings"/>
                <a:ea typeface="Wingdings"/>
              </a:rPr>
              <a:t>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Č Í M   Z A Č Í 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00"/>
                </a:solidFill>
                <a:latin typeface="Comic Sans MS"/>
              </a:rPr>
              <a:t>Jaké druhy selekčních jazyků používá při indexaci NK Č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1"/>
              </a:rPr>
              <a:t>Náboženství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2"/>
              </a:rPr>
              <a:t> a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3"/>
              </a:rPr>
              <a:t>společnost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4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5"/>
              </a:rPr>
              <a:t>v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6"/>
              </a:rPr>
              <a:t>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7"/>
              </a:rPr>
              <a:t>Evropě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Comic Sans MS"/>
                <a:ea typeface="Arial"/>
                <a:hlinkClick r:id="rId8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ZNAMY RŮZNÝCH DRUHŮ S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HNK v katalogu OPAC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Comic Sans MS"/>
              </a:rPr>
              <a:t>uplatnění syntaktických pravide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krátké jednoduché řetězce hes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vn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í (nosné) heslo se uvádí ve vstupním prvku (pořadatel záhlaví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další prvky řetězce PH (podhesla) doplňují hlavní heslo a jsou v konkrétním pořadí (syntaktická pravidla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temat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geograf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Comic Sans MS"/>
              </a:rPr>
              <a:t>chronologické zpřes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HNK – Předmětová hesla Národní knihovny Č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LOVNÍK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bor věcných autorit je řízený a  měnitelný abecedně uspořádaný soubor  autoritních záhlaví předmětových věcných hesel a s nimi věcně souvisejících znaků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ztahy ekvivalence, asociace, hierarchické vzta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348000" y="2205000"/>
          <a:ext cx="2886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205000"/>
                    <a:ext cx="2886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Balíková, M. Harmonizace věcné 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Comic Sans MS"/>
              </a:rPr>
              <a:t>katalogizace v Česku: sen či realita?</a:t>
            </a:r>
            <a:r>
              <a:rPr b="0" lang="cs-CZ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In: Knihovny současnosti 2004. Brno : Sdružení knihoven ČR, 2004. ISBN 80-86249-30-1</a:t>
            </a:r>
            <a:br>
              <a:rPr sz="2800"/>
            </a:br>
            <a:r>
              <a:rPr b="0" lang="cs-CZ" sz="2800" spc="-1" strike="noStrike">
                <a:solidFill>
                  <a:srgbClr val="66ccff"/>
                </a:solidFill>
                <a:latin typeface="Comic Sans MS"/>
              </a:rPr>
              <a:t>Dostupné též na WWW: 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cs-CZ" sz="2800" spc="-1" strike="noStrike" u="sng">
                <a:solidFill>
                  <a:srgbClr val="ffffcc"/>
                </a:solidFill>
                <a:uFillTx/>
                <a:latin typeface="Comic Sans MS"/>
                <a:hlinkClick r:id="rId2"/>
              </a:rPr>
              <a:t>://jib-info.cuni.cz/dokumenty/sec2004/sec2004_balikova.rt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plňující literatura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eb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alíková, M. Změna koncepce věcného zpracování v Národní knihovně ČR. 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1. vyd. Praha : Národní knihovna ČR, 1998. 22 s. ISBN 80-7050-302-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 mají společné dva rozdílné druhy SJ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792520" cy="410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00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princip  prekoordina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ezinárodní Desetinné Třídění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MD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iverzální klasifikační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luje o klasifikaci univerza lidských poznatků a jejich uspořádání v rámci jednotlivých vědních oborů do tříd, podtříd, oddíl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lasifikované pojmy systémů MDT a vztahy mezi pojmy vycházejí z vědních disciplí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 desetinné not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chéma MDT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základní třída 3 Společenské věd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57720"/>
            <a:ext cx="863640" cy="431640"/>
          </a:xfrm>
          <a:prstGeom prst="wedgeRoundRectCallout">
            <a:avLst>
              <a:gd name="adj1" fmla="val 52023"/>
              <a:gd name="adj2" fmla="val 113972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0:00:46Z</dcterms:created>
  <dc:creator>SilvieP.</dc:creator>
  <dc:description/>
  <dc:language>en-US</dc:language>
  <cp:lastModifiedBy>SilvieP.</cp:lastModifiedBy>
  <dcterms:modified xsi:type="dcterms:W3CDTF">2005-10-30T20:28:47Z</dcterms:modified>
  <cp:revision>19</cp:revision>
  <dc:subject/>
  <dc:title>Selekční jazyky I  cvičení 5. 11. 2004</dc:title>
</cp:coreProperties>
</file>