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EAC-8B72-4C8B-A360-20431CEC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5F0-5B00-419A-BC76-113EBF54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96C-0955-4B02-A540-966594CD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CB1-176A-4DF6-81DB-EF9DC1DA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FCE6-EAF5-473A-A76F-3269CAB1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82B3-551C-416B-8C2E-E10ECF60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9D98-0551-494A-9EE1-FA3ED4AA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FF2B-37F4-4FF5-9482-10B2D280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972B-1668-452C-ADB0-2686BAFA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EC6D-85DD-476B-8546-A8D3EE3A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45B1-4CF0-4982-9767-347A63C7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638-E77B-4EC4-ACB6-B356D94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BB7-C5F3-4BA7-BF33-A3AD203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FD1F-C9CD-495B-A7FD-CCAE5E8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29BC-45E0-4C54-9DD3-12487782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CE4C-528C-4F8B-B45C-EB8A3457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737D-FB34-422F-B0E3-9DCDF806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D1A-2918-4D7B-9D69-866F77AB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BE1-1BE2-474A-A8E7-C92D5F95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8E4-A9FD-4D4D-B9F0-B1CA0221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B50-28DC-46A3-8D7C-004F165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ECD-1E5A-4E76-8597-8A081A0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763-A10F-4B14-88B5-A37B8EDC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9A7-1F87-461F-A51C-C7043F7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D13F-34DF-4CB7-AFA6-9D35F3A7FB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72FD-723A-4F87-8177-5DD34A9E2D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mailto:schwarzjv@seznam.cz" TargetMode="External"/><Relationship Id="rId5" Type="http://schemas.openxmlformats.org/officeDocument/2006/relationships/hyperlink" Target="mailto:schwarzjv@seznam.cz" TargetMode="External"/><Relationship Id="rId6" Type="http://schemas.openxmlformats.org/officeDocument/2006/relationships/hyperlink" Target="mailto:schwarzjv@seznam.cz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781680" cy="29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adání povinného úkolu č.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imní semestr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/sj/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6324480"/>
            <a:ext cx="5623200" cy="21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Úkol č. 3 (povinný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83059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studujte si pravidla pro rozklad sousloví v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AIT00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příloha A (Appendix A: AAT Compound Term Rules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(ke konci knihy, strany se liší  podle vydání – též 5 naskenovaných stránek v tomto zad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erte si libov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lný online dostupný oborový tezaurus (seznam metastránek dále) a u vybraných lexikálních jednotek tvořených souslovími stanov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 jaký typ se podle AIT00 jedná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da lexikální jednotka naplňuje pravidla AIT0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sledek zašlete do 16.11.2005 na adresu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hwarzjv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@seznam.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. Do předmětu napište: ukolSJ3, soubor pojmenujte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jmení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]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_ukolSJ3.doc (např. novak_SJ3.doc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odování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a lexikální jednotka: 0,2 bodu. Minimální počet bodů, který je třeba získat: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Tahoma"/>
              </a:rPr>
              <a:t>Řízené slovníky a klasifikace - metastránk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Controlled vocabularies, thesauri and classification systems available in the WWW. DC Subject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TAXONOMY WAREHOUS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Comic Sans MS"/>
              </a:rPr>
              <a:t>Beyond Bookma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5-11-11T11:29:04Z</dcterms:modified>
  <cp:revision>141</cp:revision>
  <dc:subject/>
  <dc:title>Selekční jazyky</dc:title>
</cp:coreProperties>
</file>