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2CBF-86DE-4AD5-8748-27CDB70FE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3E39-A188-41BA-AD81-D4834EE0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DAC9-B77D-4381-8BED-B53FC21C8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061E-53F4-469A-AF58-0D14388AE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627C-73B7-4999-ABC0-DFA87B807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F02E2-90AE-477A-9D3E-BCF45059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1DEEB-C64C-4E92-9413-6906E5EC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78987-8876-42D2-A1A6-53837EBE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C86C-1A07-4C87-A377-6E460CCB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D50E-DAA9-416A-98ED-00BECCE2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0BE4-F361-425B-8316-A8EE206D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AE29-830E-4C52-8EB4-6C569731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1975-7C93-481F-A97E-1D56F906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05F4D-B113-46B3-B43C-797240C2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AE5A-AB91-4783-A144-05C731BE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1FAA-8CEA-45B5-9276-8A19CCC82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95495-39B1-4DDA-9B14-2F3686166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C969-A16F-495B-A75C-8C28158F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BFE0-B141-4435-A697-F0BABC02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07B4-389E-46CF-B280-A7A4810F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DB8D-6A43-4B96-ACAA-E9AC7BC3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D6FC-E264-46EA-92AD-F0762CCE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B191-8EE8-4C0F-B190-9E95CE02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9C57-DAAF-4C88-9C18-D7E6D793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FF63-75FE-43D9-A994-BB935810446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B92C-1E77-4948-AFFA-3562E71E73E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mailto:schwarzjv@seznam.cz" TargetMode="External"/><Relationship Id="rId5" Type="http://schemas.openxmlformats.org/officeDocument/2006/relationships/hyperlink" Target="mailto:schwarzjv@seznam.cz" TargetMode="External"/><Relationship Id="rId6" Type="http://schemas.openxmlformats.org/officeDocument/2006/relationships/hyperlink" Target="mailto:schwarzjv@seznam.cz" TargetMode="External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lekční jazyk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781680" cy="29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Úvod do problematik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Zadání povinného úkolu č. 3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Filozofická fakulta Masarykova Univerzity, Kabinet knihovnictví - Ústav české literatury a knihovnictv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zimní semestr 2005/2006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Josef Schwarz, informační konzultan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http://schwarz.webpark.cz/sj/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066680" y="6324480"/>
            <a:ext cx="5623200" cy="217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Úkol č. 3 (povinný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830592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rostudujte si pravidla pro rozklad sousloví v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[AIT00]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příloha A (Appendix A: AAT Compound Term Rules)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(ke konci knihy, strany se liší  podle vydání – též 5 naskenovaných stránek v tomto zadání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V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berte si libov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lný online dostupný oborový tezaurus (seznam metastránek dále) a u vybraných lexikálních jednotek tvořených souslovími stanovte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o jaký typ se podle AIT00 jedná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zda lexikální jednotka naplňuje pravidla AIT0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ýsledek zašlete do 16.11.2005 na adresu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schwarzjv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@seznam.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cz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. Do předmětu napište: ukolSJ3, soubor pojmenujte: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[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íjmení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]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_ukolSJ3.doc (např. novak_SJ3.doc)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Bodování: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jedna lexikální jednotka: 0,2 bodu. Minimální počet bodů, který je třeba získat: 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60066"/>
                </a:solidFill>
                <a:latin typeface="Tahoma"/>
              </a:rPr>
              <a:t>Řízené slovníky a klasifikace - metastránky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Comic Sans MS"/>
              </a:rPr>
              <a:t>Controlled vocabularies, thesauri and classification systems available in the WWW. DC Subject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Comic Sans MS"/>
              </a:rPr>
              <a:t>TAXONOMY WAREHOUS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Comic Sans MS"/>
              </a:rPr>
              <a:t>Beyond Bookma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knihovnik</cp:lastModifiedBy>
  <dcterms:modified xsi:type="dcterms:W3CDTF">2005-11-11T11:29:04Z</dcterms:modified>
  <cp:revision>141</cp:revision>
  <dc:subject/>
  <dc:title>Selekční jazyky</dc:title>
</cp:coreProperties>
</file>