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540-1DCA-4007-BC14-491E0B21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26D-CA50-4273-9581-AC9F18F4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79D-5276-43DE-8BD5-9A23D991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81B-FF91-49F4-9BBE-4FCD327F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C1C-D911-4E0B-8A87-0180EDD4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F604-1E95-4FFC-9C5E-8C9605A0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7206-78A6-4024-B42C-85E756D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C144-BBE1-4D9A-8ECC-3C45675A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1EDA-3EA4-4A6A-84E4-0BD9A037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5B79-F545-4D47-882B-74ADADF8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5ABE-645E-4867-AACE-D70A9C54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C58-28C4-49B2-BE9D-3CB2A082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8802-3F70-4C50-A6F7-D4CA22C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4339-9524-452F-8022-8657466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2569-0131-472E-93DF-C358E119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27C9-52D1-4B06-8118-CB7B47FD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1D20-F6B9-4A6C-BC0B-8FDFA4CE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734-BA9D-4FA2-B4EA-EFCEBD35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543-5734-4490-94C1-9C2B6276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A61-203D-4E81-92AE-5650AAB3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FAE-DA79-4E13-A024-CA7987B9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B82-D165-4D0F-A149-D6B8709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430-C2DC-4D9D-92A2-E62017C8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B03-6011-48E0-BD17-71ADF31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7569-22D3-47C2-BE53-CDB174FADE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346C-08E6-4953-B185-85C8FFDAF0E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mailto:schwarzjv@seznam.cz" TargetMode="External"/><Relationship Id="rId5" Type="http://schemas.openxmlformats.org/officeDocument/2006/relationships/hyperlink" Target="mailto:schwarzjv@seznam.cz" TargetMode="External"/><Relationship Id="rId6" Type="http://schemas.openxmlformats.org/officeDocument/2006/relationships/hyperlink" Target="mailto:schwarzjv@seznam.cz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7816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adání povinného úkolu č.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imní semestr 2005/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, informační konzult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http://schwarz.webpark.cz/sj/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632448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Úkol č. 3 (povinný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05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studujte si pravidla pro rozklad sousloví v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AIT00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příloha A (Appendix A: AAT Compound Term Rules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(ke konci knihy, strany se liší  podle vydání – též 5 naskenovaných stránek v tomto zad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erte si libov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lný online dostupný oborový tezaurus (seznam metastránek dále) a u vybraných lexikálních jednotek tvořených souslovími stanov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 jaký typ se podle AIT00 jedn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da lexikální jednotka naplňuje pravidla AIT0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sledek zašlete do 16.11.2005 na adresu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hwarzjv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@seznam.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cz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 Do předmětu napište: ukolSJ3, soubor pojmenujt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jmení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_ukolSJ3.doc (např. novak_SJ3.doc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odování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a lexikální jednotka: 0,2 bodu. Minimální počet bodů, který je třeba získat: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Řízené slovníky a klasifikace - metastránk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Controlled vocabularies, thesauri and classification systems available in the WWW. DC Subject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TAXONOMY WAREHOUS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Beyond Bookma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5-11-11T11:29:04Z</dcterms:modified>
  <cp:revision>141</cp:revision>
  <dc:subject/>
  <dc:title>Selekční jazyky</dc:title>
</cp:coreProperties>
</file>