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EE5-F5A5-44EF-9978-EC75E2F5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7A5-447C-449C-9FBE-8325188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596-67A5-44C4-B923-2E097FCF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14C-6F99-4D47-BC2C-4C62B05B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0B4D-F7D0-4F00-96D5-774305F1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0B76-9561-486C-827F-37C19FF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972-E246-48C1-9718-34D2A00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4060-B1D7-4191-814E-B948A02F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6041-7A59-42C3-9A59-C79073B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F90-337B-40D7-BD04-28200B83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67C1-B667-44E4-88F5-8E3402C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110-CE76-4D22-9996-8EB691AD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BA42-89FD-4CE8-A4CC-E520953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926-86A4-4BDA-8188-A42766D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61A-D309-4E61-B4EC-0D0CAA86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E429-3518-4B25-B0A6-250FFD3A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6845-990A-4361-B738-44D690BD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F63-BA32-453F-9404-AD7C9D6B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282-50F4-4F53-89C6-4C5ECAD1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500-D5D4-444A-933E-152B4BC3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C1E-B25C-4EEC-88B1-70947B4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9B4-D2ED-4847-9C0F-2177C41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41C-37A2-41A2-9A03-133E7C61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731-4C1B-41C2-B2EF-E16910D5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F6BC-720E-4C35-A378-669A88F616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417B-84D4-4847-810E-52C245EE8A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mailto:schwarzjv@seznam.cz" TargetMode="External"/><Relationship Id="rId5" Type="http://schemas.openxmlformats.org/officeDocument/2006/relationships/hyperlink" Target="mailto:schwarzjv@seznam.cz" TargetMode="External"/><Relationship Id="rId6" Type="http://schemas.openxmlformats.org/officeDocument/2006/relationships/hyperlink" Target="mailto:schwarzjv@seznam.cz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adání povinného úkolu č.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imní semestr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/sj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632448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kol č. 3 (povinný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studujte si pravidla pro rozklad sousloví v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AIT00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říloha A (Appendix A: AAT Compound Term Rules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ke konci knihy, strany se liší  podle vydání – též 5 naskenovaných stránek v tomto zad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rte si libo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lný online dostupný oborový tezaurus (seznam metastránek dále) a u vybraných lexikálních jednotek tvořených souslovími stanov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 jaký typ se podle AIT00 jedn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da lexikální jednotka naplňuje pravidla AIT0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sledek zašlete do 16.11.2005 na adresu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hwarzjv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@seznam.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Do předmětu napište: ukolSJ3, soubor pojmenujt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jmení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_ukolSJ3.doc (např. novak_SJ3.do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odování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a lexikální jednotka: 0,2 bodu. Minimální počet bodů, který je třeba získat: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Řízené slovníky a klasifikace - metastránk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5-11-11T11:29:04Z</dcterms:modified>
  <cp:revision>141</cp:revision>
  <dc:subject/>
  <dc:title>Selekční jazyky</dc:title>
</cp:coreProperties>
</file>