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31C4-CB07-4F51-A9CB-42D32096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0272-F39B-4E9E-8BDB-B12000B9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6046-B885-4CD4-A6B9-8976CD3A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4D7B-FE9A-4176-BE6F-43B6F78D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0ED7-3D64-4EF8-A343-CC5C952B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1D88-A9B2-4633-A4A7-A2495A91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EBE7-8EE4-479B-A0D5-667F5D8C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E81F-8BE3-47C0-86FD-8C2A43D6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F6E0-99CD-4616-AF93-7F686E79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1A93-16F1-4863-8AB8-CBFDB1B0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BA1A-69F5-4221-8C48-10A6CBBF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08DB-1B87-402C-AEE9-BBAC29EF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6B2C-4E32-410C-B5DC-92A2814B7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 leksikalsk, semantisk  betydning (innhold, konnotasj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 grammatikalsk betydning (ordklasse: genus, kasus, tall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lassifikasj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kriftspr</a:t>
            </a: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åket – talesprå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Arveord – fremmedord – neologisme – mote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e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Frekve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Ekspressivitet (neutral, vulgær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Kompatibilitet (vale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yntaktiske aspekter (setning, tekst, kontek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I tsjekkisk: til å gjøre seg forstått – nok med 500 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Vanlig bruk: 5000 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KJERNEORD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jádro slovní zásoby) – basisfond er ikke stor, men gammel. Den er av sentralbetydning i kommunikasjon og har h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øy frekvens (germanske, nordgermanske ord) – mann, brød, land, mor, våpen osv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frekv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Heggstad (1982) har undersøkt hvilke ordklasser  som er størst i norsk, i en vanlig rettsskrivningsordliste på 30 000 ord fant h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ubstantiv – 65, 7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Adjektiv – 12,9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Verb 12, 9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Andres ordklasser 8,5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d andre or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 tre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tørste ordklassene dekker 91,5 % av vokabula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AMMENSETNI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ubstantivklasse er størst her o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ubstantiv + substantiv – 80% (landsb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Verb + substantiv – 4 % (leses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Adverb/preposisjon + subst. – 8% (overle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Adjektiv + subst. – 6 % (høysko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Pronomen + subst. (hverdag, allsa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Interjeksjon + subst. (heiagje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pr</a:t>
            </a: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å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lig kompeta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I. Løver spiser ofte gamle ryper til aft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a/ Til aftens spiser løver ofte gamle ry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b/ Gamle løver spiser ofte ryper til aft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c/ Løver ofte spiser gamle ryper til aft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II. Løver ndiser ofte gamle ptyper til aft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III. Pøver spiser ofte sprekkel til aft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18:36:57Z</dcterms:created>
  <dc:creator>nordistika</dc:creator>
  <dc:description/>
  <dc:language>en-US</dc:language>
  <cp:lastModifiedBy>nordistika</cp:lastModifiedBy>
  <dcterms:modified xsi:type="dcterms:W3CDTF">2007-09-25T20:12:36Z</dcterms:modified>
  <cp:revision>3</cp:revision>
  <dc:subject/>
  <dc:title>ORD</dc:title>
</cp:coreProperties>
</file>