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D95-3E96-4A2F-AADB-D4F8EEE7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C51-DD47-4EE7-B304-48E8EDB6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D346-3DEE-4F99-819F-6C01A7B4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3F2-0098-4B6B-8868-DD0A7D98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95A-274C-4A85-AA96-303710A7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7BB-7BF3-4D28-9446-74A32CF4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ADD-C990-4C73-B2B3-7C7790DC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75A-CBC4-410B-A77D-EA59A448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2300-54CC-4572-B160-9CE099E2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FA2-8DE5-4152-A9E7-61C24EB7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EC3-A4F4-48FB-8CD3-0C61C9C9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7570-9761-4FFF-8FBF-86C5F782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A653-534E-4A8D-BFEE-376789BD9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 leksikalsk, semantisk  betydning (innhold, konnotasj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 grammatikalsk betydning (ordklasse: genus, kasus, tall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assifikasj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riftspr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åket – talesprå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Arveord – fremmedord – neologisme – mote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e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Frekv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Ekspressivitet (neutral, vulgær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Kompatibilitet (vale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yntaktiske aspekter (setning, tekst, kontek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I tsjekkisk: til å gjøre seg forstått – nok med 500 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Vanlig bruk: 5000 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KJERNEORD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jádro slovní zásoby) – basisfond er ikke stor, men gammel. Den er av sentralbetydning i kommunikasjon og har h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øy frekvens (germanske, nordgermanske ord) – mann, brød, land, mor, våpen osv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frekv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Heggstad (1982) har undersøkt hvilke ordklasser  som er størst i norsk, i en vanlig rettsskrivningsordliste på 30 000 ord fant h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ubstantiv – 65, 7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Adjektiv – 12,9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Verb 12, 9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Andres ordklasser 8,5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d andre or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 tre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tørste ordklassene dekker 91,5 % av vokabula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AMMENSETN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ubstantivklasse er størst her o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ubstantiv + substantiv – 80% (lands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Verb + substantiv – 4 % (leses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dverb/preposisjon + subst. – 8% (overle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djektiv + subst. – 6 % (høysko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ronomen + subst. (hverdag, alls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nterjeksjon + subst. (heiagje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r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å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ig kompeta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I. Løver spiser ofte gamle ryper til af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a/ Til aftens spiser løver ofte gamle ry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b/ Gamle løver spiser ofte ryper til af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c/ Løver ofte spiser gamle ryper til af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II. Løver ndiser ofte gamle ptyper til af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III. Pøver spiser ofte sprekkel til af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8:36:57Z</dcterms:created>
  <dc:creator>nordistika</dc:creator>
  <dc:description/>
  <dc:language>en-US</dc:language>
  <cp:lastModifiedBy>nordistika</cp:lastModifiedBy>
  <dcterms:modified xsi:type="dcterms:W3CDTF">2007-09-25T20:12:36Z</dcterms:modified>
  <cp:revision>3</cp:revision>
  <dc:subject/>
  <dc:title>ORD</dc:title>
</cp:coreProperties>
</file>