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BD6-DD6D-46C5-BB19-B486931F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66D9-246F-4E8F-9DD3-7E60BB5A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4BA0-491A-4A97-8051-1C5E208A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98A9-18D7-4A54-BC5F-CA6FA74D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DBA7-EABF-42D1-A159-16BDC24B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4229-3540-48AA-A417-00C6DC02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533F-3331-42AD-AE45-B73D4B13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6E9A-4909-4D3F-B368-7095DB69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CD80-92D5-4FF4-8542-DF6747F0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967E-8EDF-4F25-B82C-EBB27214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F244-62F2-457F-AFEA-5C858C12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BD3B-375E-41A9-8FEC-B15A7CAC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1A79-7F9F-4A00-9827-FB3FEE14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9E12-C5FB-423F-9946-9C390717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40A0-0A3B-40AF-8056-057A4361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D6DF-C04C-438E-8CE0-0F879E78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9EE5-D773-4E6D-8F45-4BDA255E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09A-3858-4D3D-9CF1-49F60274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F9D-D0B3-474A-83F8-223C1547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F9D9-F87A-4390-AA01-D8C08C08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08CA-AB20-47D6-8681-C5ED7518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3ED-6ACF-4FBC-B42F-FCAB2CEB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61D-6302-4D5D-B821-E1E55D3A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029-4785-4A10-B4F3-A4DCA29E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9D6B-A23F-4437-B701-EAABEA60EF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D8B1-3D06-4E00-8F9F-0845DED9F5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ip.nkp.cz/mdt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oc.gov/catdir/cpso/lcco/" TargetMode="External"/><Relationship Id="rId2" Type="http://schemas.openxmlformats.org/officeDocument/2006/relationships/hyperlink" Target="http://www.slais.ubc.ca/courses/libr517/winter2000/Group7/index.htm" TargetMode="External"/><Relationship Id="rId3" Type="http://schemas.openxmlformats.org/officeDocument/2006/relationships/hyperlink" Target="http://www.slais.ubc.ca/courses/libr517/winter2000/Group7/index.htm" TargetMode="External"/><Relationship Id="rId4" Type="http://schemas.openxmlformats.org/officeDocument/2006/relationships/hyperlink" Target="file:///Enumerativn&#237;%20syst&#233;m.mht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kp.cz/pages/page.php3?page=fond_Mdt_tabulky1.htm" TargetMode="External"/><Relationship Id="rId2" Type="http://schemas.openxmlformats.org/officeDocument/2006/relationships/hyperlink" Target="http://konspekt.nkp.cz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igma.nkp.cz/F/RP7IQJ1HPXHBQQ3392B26H3QPV3H368B6YBPK1SB8YCFHKGRJF-00790?func=file&amp;file_name=find-a&amp;local_base=NKC" TargetMode="External"/><Relationship Id="rId2" Type="http://schemas.openxmlformats.org/officeDocument/2006/relationships/hyperlink" Target="http://www.vkol.cz/" TargetMode="External"/><Relationship Id="rId3" Type="http://schemas.openxmlformats.org/officeDocument/2006/relationships/hyperlink" Target="http://www.jib.cz/V/NCLG3DL7TPN5VFITY7J3AJN9SRBH1LQ17UR65R1NHDINIY71D1-10617?RN=458914624&amp;pds_handle=GUEST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bka.uni-karlsruhe.de/kvk.html" TargetMode="External"/><Relationship Id="rId2" Type="http://schemas.openxmlformats.org/officeDocument/2006/relationships/hyperlink" Target="http://authorities.loc.gov/" TargetMode="External"/><Relationship Id="rId3" Type="http://schemas.openxmlformats.org/officeDocument/2006/relationships/hyperlink" Target="http://www.loc.gov/catdir/cpso/lcco/lcco.html" TargetMode="External"/><Relationship Id="rId4" Type="http://schemas.openxmlformats.org/officeDocument/2006/relationships/hyperlink" Target="http://www-lib.nearnorth.edu.on.ca/dewey/ddc.htm#Dewey%20Pinball%20-" TargetMode="External"/><Relationship Id="rId5" Type="http://schemas.openxmlformats.org/officeDocument/2006/relationships/hyperlink" Target="http://www.lib.ncsu.edu/catalog/" TargetMode="External"/><Relationship Id="rId6" Type="http://schemas.openxmlformats.org/officeDocument/2006/relationships/hyperlink" Target="http://www.lib.ncsu.edu/catalog/" TargetMode="External"/><Relationship Id="rId7" Type="http://schemas.openxmlformats.org/officeDocument/2006/relationships/hyperlink" Target="http://catalog.loc.gov/" TargetMode="Externa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ibrary.muni.cz/ezdroje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ii.org/pub/htdocs/home.htm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bubl.ac.uk/" TargetMode="External"/><Relationship Id="rId4" Type="http://schemas.openxmlformats.org/officeDocument/2006/relationships/image" Target="../media/image12.png"/><Relationship Id="rId5" Type="http://schemas.openxmlformats.org/officeDocument/2006/relationships/hyperlink" Target="http://search.yahoo.com/dir" TargetMode="External"/><Relationship Id="rId6" Type="http://schemas.openxmlformats.org/officeDocument/2006/relationships/image" Target="../media/image13.png"/><Relationship Id="rId7" Type="http://schemas.openxmlformats.org/officeDocument/2006/relationships/hyperlink" Target="http://www.seznam.cz/" TargetMode="External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hyperlink" Target="http://books.google.com/bkshp?tab=wp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uropa.eu/eurovoc/" TargetMode="External"/><Relationship Id="rId2" Type="http://schemas.openxmlformats.org/officeDocument/2006/relationships/hyperlink" Target="http://europa.eu/eurovoc/" TargetMode="External"/><Relationship Id="rId3" Type="http://schemas.openxmlformats.org/officeDocument/2006/relationships/hyperlink" Target="http://europa.eu/eurovoc/" TargetMode="External"/><Relationship Id="rId4" Type="http://schemas.openxmlformats.org/officeDocument/2006/relationships/hyperlink" Target="http://europa.eu/eurovoc/" TargetMode="External"/><Relationship Id="rId5" Type="http://schemas.openxmlformats.org/officeDocument/2006/relationships/hyperlink" Target="http://europa.eu/eurovoc/" TargetMode="External"/><Relationship Id="rId6" Type="http://schemas.openxmlformats.org/officeDocument/2006/relationships/hyperlink" Target="http://europa.eu/eurovoc/" TargetMode="External"/><Relationship Id="rId7" Type="http://schemas.openxmlformats.org/officeDocument/2006/relationships/hyperlink" Target="http://europa.eu/eurovoc/" TargetMode="External"/><Relationship Id="rId8" Type="http://schemas.openxmlformats.org/officeDocument/2006/relationships/hyperlink" Target="http://www.psp.cz/kps/knih/e_zakinf.htm" TargetMode="External"/><Relationship Id="rId9" Type="http://schemas.openxmlformats.org/officeDocument/2006/relationships/hyperlink" Target="file:///deskriptor.jpg" TargetMode="External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nlk.cz/nlkcz/" TargetMode="External"/><Relationship Id="rId2" Type="http://schemas.openxmlformats.org/officeDocument/2006/relationships/hyperlink" Target="http://www.knihovna.uzpi.cz/default.asp?ids=1607&amp;ch=164&amp;typ=1&amp;val=35114" TargetMode="External"/><Relationship Id="rId3" Type="http://schemas.openxmlformats.org/officeDocument/2006/relationships/hyperlink" Target="http://www.npkk.cz/npkk/zakl_tez.php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taxonomywarehouse.com/" TargetMode="External"/><Relationship Id="rId2" Type="http://schemas.openxmlformats.org/officeDocument/2006/relationships/hyperlink" Target="http://www.public.iastate.edu/~CYBERSTACKS/CTW.htm" TargetMode="External"/><Relationship Id="rId3" Type="http://schemas.openxmlformats.org/officeDocument/2006/relationships/hyperlink" Target="http://www.public.iastate.edu/~CYBERSTACKS/CTW.htm" TargetMode="External"/><Relationship Id="rId4" Type="http://schemas.openxmlformats.org/officeDocument/2006/relationships/hyperlink" Target="http://www.public.iastate.edu/~CYBERSTACKS/CTW.htm" TargetMode="External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igma.nkp.cz/F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sigma.nkp.cz/F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33cc"/>
                </a:solidFill>
                <a:latin typeface="Arial"/>
              </a:rPr>
              <a:t>Selekční jazyky I</a:t>
            </a:r>
            <a:br>
              <a:rPr sz="4400"/>
            </a:br>
            <a:r>
              <a:rPr b="1" lang="cs-CZ" sz="4400" spc="-1" strike="noStrike">
                <a:solidFill>
                  <a:srgbClr val="0033cc"/>
                </a:solidFill>
                <a:latin typeface="Arial"/>
              </a:rPr>
              <a:t>cv</a:t>
            </a:r>
            <a:r>
              <a:rPr b="1" i="1" lang="da-DK" sz="4400" spc="-1" strike="noStrike">
                <a:solidFill>
                  <a:srgbClr val="0033cc"/>
                </a:solidFill>
                <a:latin typeface="Arial"/>
              </a:rPr>
              <a:t>ičení</a:t>
            </a:r>
            <a:br>
              <a:rPr sz="4400"/>
            </a:br>
            <a:r>
              <a:rPr b="0" i="1" lang="cs-CZ" sz="4400" spc="-1" strike="noStrike">
                <a:solidFill>
                  <a:srgbClr val="0033cc"/>
                </a:solidFill>
                <a:latin typeface="Arial"/>
              </a:rPr>
              <a:t>Ukázky SJ různých typů</a:t>
            </a:r>
            <a:r>
              <a:rPr b="0" lang="cs-CZ" sz="44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00"/>
                </a:solidFill>
                <a:latin typeface="Arial"/>
              </a:rPr>
              <a:t>12. 10.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Mgr. Silvie Kořínková Pres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presova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@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phil.muni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Kabinet knihovnictví,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Co s MDT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184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-587-0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-584.5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437.3)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0:82-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cc00"/>
              </a:buClr>
              <a:buSzPct val="9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kde se dozvím, co to znamen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cc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v klasifikačních tabulká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štěné vyd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ze online – </a:t>
            </a:r>
            <a:r>
              <a:rPr b="0" lang="en-US" sz="2200" spc="-1" strike="noStrike">
                <a:solidFill>
                  <a:srgbClr val="00cc00"/>
                </a:solidFill>
                <a:latin typeface="Arial"/>
              </a:rPr>
              <a:t>MDT MR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aip.nkp.cz/mdt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brané zna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0920" y="5661000"/>
            <a:ext cx="5400720" cy="1028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58920" y="1773360"/>
            <a:ext cx="2521080" cy="2303280"/>
          </a:xfrm>
          <a:prstGeom prst="cloudCallout">
            <a:avLst>
              <a:gd name="adj1" fmla="val -25754"/>
              <a:gd name="adj2" fmla="val 60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Schéma MDT – základní třída 3</a:t>
            </a:r>
            <a:r>
              <a:rPr b="0" lang="en-US" sz="4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Teorie, metodologie a metody společenských věd      všeobecně. Sociograf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Demografie. Sociologie. Statisti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tatistika jako věda. Statistická teo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emografie. Populační (demografický) výzk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ociolog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6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edmět a rozsah sociolog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6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ociologická hlediska a tren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6.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ociální struktura. Společnost jako sociál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ysté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6.32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ální společ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6.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kladní prvky a subsystémy globální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lečností jako sociologických kategorií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Politi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rmy politické organizace. Státy jako politické sí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3573360"/>
            <a:ext cx="1152720" cy="432000"/>
          </a:xfrm>
          <a:prstGeom prst="wedgeRectCallout">
            <a:avLst>
              <a:gd name="adj1" fmla="val 51791"/>
              <a:gd name="adj2" fmla="val 1132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3645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213000"/>
            <a:ext cx="2017800" cy="432000"/>
          </a:xfrm>
          <a:prstGeom prst="wedgeRectCallout">
            <a:avLst>
              <a:gd name="adj1" fmla="val -26476"/>
              <a:gd name="adj2" fmla="val 16727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321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vní vyjád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aleznu notaci pro vyjádření předmětu/obsahu kni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mám smůl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 spojování notací zastupující předmě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yjadřování vztahů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ř.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ociolog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ábožen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16.7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2708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4724280"/>
            <a:ext cx="288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500360" y="4724280"/>
            <a:ext cx="21564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yužití faset v MDT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Všeobecné pomocné zna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azyka, formy dokumentu, místa, času, etnick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004.738.5</a:t>
            </a:r>
            <a:r>
              <a:rPr b="0" lang="sv-SE" sz="2400" spc="-1" strike="noStrike">
                <a:solidFill>
                  <a:srgbClr val="0033cc"/>
                </a:solidFill>
                <a:latin typeface="Arial"/>
              </a:rPr>
              <a:t>(437</a:t>
            </a:r>
            <a:r>
              <a:rPr b="0" lang="cs-CZ" sz="2400" spc="-1" strike="noStrike">
                <a:solidFill>
                  <a:srgbClr val="0033cc"/>
                </a:solidFill>
                <a:latin typeface="Arial"/>
              </a:rPr>
              <a:t>.3</a:t>
            </a:r>
            <a:r>
              <a:rPr b="0" lang="sv-SE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0033cc"/>
                </a:solidFill>
                <a:latin typeface="Arial"/>
              </a:rPr>
              <a:t> - pomocný znak mí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interne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3cc"/>
                </a:solidFill>
                <a:latin typeface="Arial"/>
              </a:rPr>
              <a:t>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02</a:t>
            </a: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(038.072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3cc"/>
                </a:solidFill>
                <a:latin typeface="Arial"/>
              </a:rPr>
              <a:t>- pomocný znak formy doku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Arial"/>
              </a:rPr>
              <a:t>výkladové slovník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z oboru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knihovnic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2852640"/>
            <a:ext cx="7128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987280" y="2852640"/>
            <a:ext cx="73080" cy="433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4653000"/>
            <a:ext cx="273672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050560" y="4581360"/>
            <a:ext cx="73080" cy="433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DT není čistě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ni </a:t>
            </a:r>
            <a:r>
              <a:rPr b="0" lang="cs-CZ" sz="2600" spc="-1" strike="noStrike">
                <a:solidFill>
                  <a:srgbClr val="00cc00"/>
                </a:solidFill>
                <a:latin typeface="Arial"/>
              </a:rPr>
              <a:t>enumerativní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klasifikační systém, např. </a:t>
            </a:r>
            <a:r>
              <a:rPr b="0" lang="cs-CZ" sz="26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L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ni </a:t>
            </a:r>
            <a:r>
              <a:rPr b="0" lang="cs-CZ" sz="2600" spc="-1" strike="noStrike">
                <a:solidFill>
                  <a:srgbClr val="ff9900"/>
                </a:solidFill>
                <a:latin typeface="Arial"/>
              </a:rPr>
              <a:t>fasetový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lasifikační systém, např. </a:t>
            </a:r>
            <a:r>
              <a:rPr b="0" lang="cs-CZ" sz="26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Colon</a:t>
            </a:r>
            <a:r>
              <a:rPr b="0" lang="cs-CZ" sz="26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 Classificatio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(Ranganatha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užívá </a:t>
            </a:r>
            <a:r>
              <a:rPr b="0" lang="cs-CZ" sz="2600" spc="-1" strike="noStrike">
                <a:solidFill>
                  <a:srgbClr val="ff9900"/>
                </a:solidFill>
                <a:latin typeface="Arial"/>
              </a:rPr>
              <a:t>fasetový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cs-CZ" sz="2600" spc="-1" strike="noStrike">
                <a:solidFill>
                  <a:srgbClr val="00cc00"/>
                </a:solidFill>
                <a:latin typeface="Arial"/>
              </a:rPr>
              <a:t>enumerativní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příst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ff0000"/>
                </a:solidFill>
                <a:latin typeface="Arial"/>
              </a:rPr>
              <a:t>analyticko-syntetický klasif. systé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příkl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4437000"/>
            <a:ext cx="865440" cy="216000"/>
          </a:xfrm>
          <a:prstGeom prst="rightArrow">
            <a:avLst>
              <a:gd name="adj1" fmla="val 50000"/>
              <a:gd name="adj2" fmla="val 1001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Konspektové schém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920" y="18507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dvouúrovňové kategorizační sché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ický princip, postup od obecnéh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detailnější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nik – pro potřeby metody Konsp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ejvyšší úroveň 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předmětové kategori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2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pecifičtější úroveň 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skupiny Konspekt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500), např.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33 - Okult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3284640"/>
            <a:ext cx="11527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Předmětové kategorie Konspektu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Tematická mapa fond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NK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JI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ematický rozcest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Vědecká knihovna v Olomou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sledování nových titulů v katalogu prostřednictvím oborových RSS kanálů založených na předmětových kategoriích konspektového schéma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716280"/>
            <a:ext cx="380988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Světové kata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KVK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lity and literacy / Ong, Walter 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00"/>
                </a:solidFill>
                <a:latin typeface="Arial"/>
              </a:rPr>
              <a:t>LC subject heading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LC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cc00"/>
                </a:solidFill>
                <a:latin typeface="Arial"/>
              </a:rPr>
              <a:t>LC Classificati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cc"/>
                </a:solidFill>
                <a:latin typeface="Arial"/>
              </a:rPr>
              <a:t>Dewey Class No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DD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Catalog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 NCS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zpřesňování dotazu pomocí věcných S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71640" y="2492280"/>
            <a:ext cx="547200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Databáz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cc"/>
                </a:solidFill>
                <a:latin typeface="Arial"/>
              </a:rPr>
              <a:t>LLI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Library Literature &amp; Information Science Full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33"/>
                </a:solidFill>
                <a:latin typeface="Arial"/>
              </a:rPr>
              <a:t>EBSC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Visual Search in Business Searching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928880"/>
            <a:ext cx="2214720" cy="993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21114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Kategorizační schémat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6" name="" descr="Librarians' Internet Index - Websites You Can Tru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4005360"/>
            <a:ext cx="4752720" cy="681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BUBL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4373640"/>
            <a:ext cx="1800000" cy="1271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5041800"/>
            <a:ext cx="4449960" cy="554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6920" y="3141720"/>
            <a:ext cx="3313440" cy="1009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258920" y="170028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kace – předmětové brány, portály, předmětové kata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Termíny cvič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1., 23. 11., 14. 1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Další aplikace kategoriza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187280" y="4665600"/>
            <a:ext cx="3024360" cy="576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2997360"/>
            <a:ext cx="2736720" cy="1128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716360" y="184464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tegorizace nabízených knih – dvouúrovňové schéma – hledání knih z určitých oblastí formou prohlížení kategor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314172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dvanced Book Sear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--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jec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turn books on 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87640" y="2060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80000" y="3429000"/>
            <a:ext cx="936360" cy="144360"/>
          </a:xfrm>
          <a:custGeom>
            <a:avLst/>
            <a:gdLst>
              <a:gd name="textAreaLeft" fmla="*/ 146160 w 936360"/>
              <a:gd name="textAreaRight" fmla="*/ 819360 w 9363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0000"/>
                </a:solidFill>
                <a:latin typeface="Arial"/>
              </a:rPr>
              <a:t>Tags, folksonomi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ren Blakeman's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u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librarything.com/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56000" y="2492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cc"/>
                </a:solidFill>
                <a:latin typeface="Arial"/>
              </a:rPr>
              <a:t>del.icio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Tezauru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99640" y="1773000"/>
            <a:ext cx="7905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jazyčný polytematický tezaurus zaměřený na oblast práva a legislativy Evropské un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stránkách EU 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europa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eu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/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eurovoc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ČR 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http://www.psp.cz/kps/knih/e_zakinf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příklad deskriptorového odstav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cc33"/>
                </a:solidFill>
                <a:latin typeface="Arial"/>
              </a:rPr>
              <a:t>pro deskripto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národnostní menš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3924360" y="692280"/>
            <a:ext cx="30956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Příklady dalších tezaurů v Č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MeS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CZ -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eský tezaurus termínů z lékařství a zdravotnictví, překlad tezauru Medical Subject Headings, National Library of Medicine,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AGROVOC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 ČR-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 mnohojazyčný tezaurus zaměřený na zemědělství, lesnictví, rybářství, potravinářství, životní prostředí a související ob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Český pedagogický tezaurus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Seznamy různých druhů SJ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TAXONOMY WAREHO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Beyond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 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Book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Doporučené zdroj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sová, S. </a:t>
            </a:r>
            <a:r>
              <a:rPr b="0" lang="cs-CZ" sz="2800" spc="-1" strike="noStrike">
                <a:solidFill>
                  <a:srgbClr val="0033cc"/>
                </a:solidFill>
                <a:latin typeface="Arial"/>
              </a:rPr>
              <a:t>Metoda Konspektu a její vztah k selekčním jazykům : současný stav a trendy se zaměřením na situaci v České republi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Brno : Masarykova univerzita v Brně, 2005. 152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apitoly týkající se nejen konspektového schématu, ale i SSJ (zejména MDT), kategorizace IZ na intern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cc"/>
                </a:solidFill>
                <a:latin typeface="Arial"/>
              </a:rPr>
              <a:t>Národní autority Č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ortál sdružující informace o jmenných a věcných autoritách. Dostupné z http://autority.nkp.cz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lady termínů viz </a:t>
            </a:r>
            <a:r>
              <a:rPr b="0" i="1" lang="cs-CZ" sz="2800" spc="-1" strike="noStrike">
                <a:solidFill>
                  <a:srgbClr val="0033cc"/>
                </a:solidFill>
                <a:latin typeface="Arial"/>
              </a:rPr>
              <a:t>TDKIV : Česká terminologická databáze z oblasti knihovnictví a informační věd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[online databáze]. Praha : Národní knihovna České republiky, 2001- . Dostupné na World Wide Web: &lt;http://sigma.nkp.cz:4505/F/?func=file&amp;file_name=find-a&amp;local_base=ktd&gt;.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Č Í M   Z A Č Í T 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0010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cc33"/>
                </a:solidFill>
                <a:latin typeface="Arial"/>
              </a:rPr>
              <a:t>autoritou nejvyšší</a:t>
            </a:r>
            <a:r>
              <a:rPr b="0" lang="cs-CZ" sz="26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elekčními jazyky v katalogu NK Č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BO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aké druhy selekčních jazyků používá při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aci NK Č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cc33"/>
                </a:solidFill>
                <a:latin typeface="Arial"/>
              </a:rPr>
              <a:t>Příkl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Hledáme knihu o drahokamech (nerost)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mocí klíčového slova z názvu - </a:t>
            </a:r>
            <a:r>
              <a:rPr b="0" lang="cs-CZ" sz="26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drahoka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728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ojednává kniha </a:t>
            </a:r>
            <a:br>
              <a:rPr sz="3200"/>
            </a:b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 tímto názvem o problematice, která nás zajím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240840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Záznam v katalogu NK Č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40000" y="1671480"/>
            <a:ext cx="446400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Záznam v katalogu AV Č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5300280"/>
            <a:ext cx="828036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Nezjistíme, že jde o knihu s odlišnou tematikou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274160" cy="3168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4360" y="5950080"/>
            <a:ext cx="936360" cy="142920"/>
          </a:xfrm>
          <a:custGeom>
            <a:avLst/>
            <a:gdLst>
              <a:gd name="textAreaLeft" fmla="*/ 146160 w 936360"/>
              <a:gd name="textAreaRight" fmla="*/ 819360 w 93636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Selekční jazyky používané NK Č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ystic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- Česko - 20. stol.  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ys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uchovní cesta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e i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Če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HNK        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předmětový SJ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0. st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-587-0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-584.5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437.3)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0:82-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D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systematický S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33 - Okultism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kupina Konspekt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hybridní SJ blížící 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se k SS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2708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49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805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PH je jako skládačka</a:t>
            </a:r>
            <a:r>
              <a:rPr b="0" lang="en-US" sz="4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ystic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- 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Česk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- 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0. st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ředmětové heslo NK ČR – jednoduchý řetězec tvořený autorizovanými termín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tematická autorit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00cc00"/>
                </a:solidFill>
                <a:latin typeface="Arial"/>
              </a:rPr>
              <a:t>geografická autorit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chronologický úd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2205000"/>
            <a:ext cx="57600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1640" y="2205000"/>
            <a:ext cx="122400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2276640"/>
            <a:ext cx="6494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Odkud se jednotlivé prvky hesla berou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0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ystic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- 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Česk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- 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0. st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cc"/>
                </a:solidFill>
                <a:latin typeface="Arial"/>
              </a:rPr>
              <a:t>tematická autorita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600" spc="-1" strike="noStrike">
                <a:solidFill>
                  <a:srgbClr val="00cc00"/>
                </a:solidFill>
                <a:latin typeface="Arial"/>
              </a:rPr>
              <a:t>geografická autorita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ff9900"/>
                </a:solidFill>
                <a:latin typeface="Arial"/>
              </a:rPr>
              <a:t>chronologický úda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132000" y="4508640"/>
          <a:ext cx="2886120" cy="95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4508640"/>
                    <a:ext cx="288612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987640" y="2997360"/>
            <a:ext cx="792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140360" y="3068640"/>
            <a:ext cx="576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13:18:53Z</dcterms:created>
  <dc:creator>Silvie Presová</dc:creator>
  <dc:description/>
  <dc:language>en-US</dc:language>
  <cp:lastModifiedBy>kabinet knihovnictvi</cp:lastModifiedBy>
  <dcterms:modified xsi:type="dcterms:W3CDTF">2007-10-15T20:00:07Z</dcterms:modified>
  <cp:revision>49</cp:revision>
  <dc:subject/>
  <dc:title>Snímek 1</dc:title>
</cp:coreProperties>
</file>