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552-4A6E-4D5B-A588-1E329B4E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800-B1E5-45B8-A0E7-130F6AB3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F5D-B68D-464B-942A-FCE70248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8F8-3B8A-4981-B61F-725E1605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52FE-34B1-4A48-8A12-369162DF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2A98-1F46-4AF6-8F5F-759415A1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3ABA-761E-46BF-93C8-888AE913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9356-0307-40AA-8915-2E57B742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6ADD-C07F-454A-B5A8-56E2F1EB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CFDE-AE45-4D61-84CA-C4A2DD2E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D68D-50A4-476E-8563-50BED137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8EB-BC84-4DD6-93CB-9A2D1F82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E845-5E69-4D38-9CE9-8FF1E92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394B-94B5-4505-A7A8-1A017E4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9D72-B7FF-4CCF-BDC0-9830B050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27B-9AC6-40EF-9B0E-C478CCE5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4A56-6943-4D8C-A402-E975416D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8ED-8C36-43B5-88C6-8EE449B3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30D-B320-4D4F-BAF8-B0560A48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619-38F3-4269-BB9D-A902389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614-CD9F-475D-B561-C78C6AB7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FCE-4FB7-4833-ABF8-3EC678B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AAD-E6C1-4DB2-B047-5B330C1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CB0-8500-4690-A4F1-2BEBEACA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901B-C04F-424A-90F8-E5FF1C995C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06A5-8DE7-429E-9EF3-C6DC0B838A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ip.nkp.cz/md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o.org/aims/ag_intro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AATCTR.jpg" TargetMode="External"/><Relationship Id="rId4" Type="http://schemas.openxmlformats.org/officeDocument/2006/relationships/hyperlink" Target="file:///AATCTR.jpg" TargetMode="External"/><Relationship Id="rId5" Type="http://schemas.openxmlformats.org/officeDocument/2006/relationships/hyperlink" Target="file:///AATCTR.jpg" TargetMode="External"/><Relationship Id="rId6" Type="http://schemas.openxmlformats.org/officeDocument/2006/relationships/hyperlink" Target="file:///AATCTR.jpg" TargetMode="External"/><Relationship Id="rId7" Type="http://schemas.openxmlformats.org/officeDocument/2006/relationships/hyperlink" Target="file:///AATCTR.jpg" TargetMode="Externa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IKBA11 Selekční jazyky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7816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ednáška č. 3 (denní studium) – 16.11.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odzim 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Mgr. 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ealko pivo – klasifikace II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MD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663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Průmyslová mikrobiologie. Průmyslová mykologie. Kvasný průmysl. Nápojový průmysl. Průmysl pochutin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663.4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Pivo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. Pivovarnictví. Sladování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663.41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Typy pi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Příklady: 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Chmelená piva.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Nechmelená piva. Smrkové pivo. Zázvorové pivo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663.8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Hlavní složky míchaných nápojů. Ovocné a zeleninové šťávy. Sirupy. Likéry.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Nealkoholické nápoje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ealko pivo – klasifikace III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AGROV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ápoje (T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koholické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i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ealkoholické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ealko pivo – klasifikace IV</a:t>
            </a:r>
            <a:br>
              <a:rPr sz="4400"/>
            </a:br>
            <a:r>
              <a:rPr b="0" lang="cs-CZ" sz="2000" spc="-1" strike="noStrike">
                <a:solidFill>
                  <a:srgbClr val="660066"/>
                </a:solidFill>
                <a:latin typeface="Tahoma"/>
              </a:rPr>
              <a:t>(fazetové řešení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nápoj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druh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í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o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lék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obsah alkoholu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lkoholické nápoj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nealkoholické nápoj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původ nápoje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původ nápoje - piv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razdro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elkopopovick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Radeg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původ nápoje - vín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elkopavlovická podobl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ělnická podobl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Litoměřická podobl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typ nápoje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typ nápoje - piv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ležák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kvasnicov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šeničn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typ nápoje - vín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ílá ví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üller-Thurga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ramín červený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Sauvign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růžová ví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Ros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červená ví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rankov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ortuga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Denis d’O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a struktura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řádací znak (PZ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ystematické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lasifikační zna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t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vní vyjádř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mětové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J typu P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edmětové hesl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edmětový prv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skriptorové SJ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exikální jednot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eskriptor (preferovaná LJ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deskriptor (nepreferovaná LJ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34120" y="18288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základ: kó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553.068.9 Metamorfovaná ložisk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004.354.5 Myš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80 Středověká filozof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základ: přirozený jazy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ložiska metamorfovaná – těžb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yši (hlodavci) – škody na úrodě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tředověká filozofie – důkazy boha teleologick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etamorfovaná ložis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yš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tředověká filozof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S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ystematické SJ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(klasifikační zna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řída -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kupina klasifikovaných pojmů vzniklá na základě shodných charakteristik za účelem definování sémantických vztahů mezi nimi, která je označená notací. Tvoří základní prvek klasifikačního systému označující základní kategorii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otační systém (notac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notace podle druhu použitých zna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lfabetická notace (KK, Odee,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  <a:ea typeface="Tahoma"/>
              </a:rPr>
              <a:t>ЖД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  <a:ea typeface="Tahoma"/>
              </a:rPr>
              <a:t>КЛ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umerická notace (III.V, 4.6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7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esetinná notace (656.7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lfanumerická notace (smíšená notace) (A65,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  <a:ea typeface="Tahoma"/>
              </a:rPr>
              <a:t>Ж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II.X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notace podle počtu zna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inární notace (06-1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S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ystematick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notace podle struk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anzivní notace (pohostinnost no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ineární notace (A11, A12, A13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ierarchická notace (A11, A11.1, A11.1.01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nemotechničnost notac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(L1.0 – literární teor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parátor not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P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mětová hes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vky P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a P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člen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eslo (vstupní prvek) – hlavní téma dokument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ícečlenné PH (řetězec PH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eslo (vstupní prvek) – hlavní téma dokumentu (+doplněk hesl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dheslo (specifikuje význam hesla) – vedlejší téma dokumentu (+doplněk podhesl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eslo (doplněk hesla) – 1. podheslo (doplněk 1. podhesla) – 2. podheslo (doplněk 2. podhesl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verze souslov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SN 01018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vořák, Antonín (dramatik) – hry divadelní - bibli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P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eskriptorov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exikální jednotky (deskriptory, nedeskriptory) </a:t>
            </a:r>
            <a:r>
              <a:rPr b="0" lang="cs-CZ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tezaur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í slovníku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(vocabulary contro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ace/postkoordin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émantický/syntaktický roz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/invertovaný slovosl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deskriptoru, nedeskriptorů (řešení synonymie, kvazisynonymie, hierarchizace vztahu ekvivalen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omografy, polysémy -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relá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urál/singulá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orma lexikální jednotky (pravopis, zkratky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skriptorový odstav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SN 010193 (jednojazyčné tezaury), ČSN 010172 (vícejazyčné tezaur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ekoordinace/postkoordin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émantický rozklad – nedoporučuje se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barometr = tlak + měření + přístroj 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yntaktický rozklad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knihovnické časopisy = knihovnictví + časopisy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ousloví je běžné a užívané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informační zdroje, invalidní vozík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klad vede ke ztrátě významu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filozofie dějin, letadlová loď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ousloví obsahuje vlastní jméno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Bradfordův zákon, Planckova konstanta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ifikátor ztratil původní význam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lehký průmysl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ifikátor bez přímého vztahu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stromová struktura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ousloví se „středním členem“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benzinový motor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kategorematická substantiva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umělé květiny, čokoládová vejce, světelný rok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sledky 2. úkol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rfologie selekčních jazy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ekoordinace/postkoordinace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stkoordin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kl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lastnost/část x modifikát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osite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celek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lodní motor = lodě + motory; knihovní personál = knihovny + personál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innost/objekt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signování knih = signování + knihy; indexace článků = indexace + články; stěhování ptáků = stěhování + ptáci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říklad pravidel pro souslov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ppendix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A – AAT 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compound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 term 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rules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In Aichison, J., Gilchrist, A., Bawden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Thesaurus construction and use : a practical manu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4th ed. Chicago : Fitzroy Dearborn Publishers, c2000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arakteristika slovníku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aložen na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SJ: klasifika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SJ: oborové terminologi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vykle strukturován pomocí sémantických vztah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lovník SJ se nazývá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SJ: klasifikační tabul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H: předmětový heslá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SJ: tezaur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lavní část uspořádán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SJ: systemat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ční sché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SJ: abecedn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Charakteristika slovníku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ná část uspořádána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: abecedn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abecední nebo rotovaný (permutovaný) rejstří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SJ: systemat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ezaurus: kategorie – mikrotezaury (tematické oblast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graf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užití faz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: fazetový klasifikační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SJ: fazetový tezaurus (thesauroface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ruktura slovníku SJ (vztahy mezi PZ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ecn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aradigmatické/syntagmatické vztahy (apriorní/aposteriorní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artitivní vztah (celek-část), generický vztah (rod-druh), logický vztah (příčina-následek apod.) a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lyhierarch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soci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ekvival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ilná“ 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sociace (viz té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ruktura slovníku SJ (vztahy mezi PZ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ástečná 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ástečná asociace (viz té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ástečná ekvivalence (viz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SJ (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dřazený deskriptor (ND/B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dřazený deskriptor (PD/N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ekvivalence (nedeskriptor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VIZ/USE – EKV/UF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soci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buzný deskriptor (AD/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yntax (pravidla pro užívání slovníku SJ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nohierarchický/fasetový klasifikační systé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zna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mocné znaky (pomocné tabul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šeobecné pz (např. pomocný znak místa, času, jazyka, formy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ecifické p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inuté znaky (hlavní z.+pomocný z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ené znaky (hlavní z.+hlavní z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jovací symboly (přiřazení, rozšíření, vztah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Syntax (pokr.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eslo (doplněk hesla) – podheslo (doplněk podhesl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binace prvků předmětového hes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íjení předmětového hes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SJ (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deskriptor-&gt;deskrip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stkoordin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gramatické prv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le – A (X), B (Z), 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je – A (1), B (2), C (1), D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sledky 2. úkol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nalýza jídelních a nápojových líst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ategor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ze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je nealkoholické pivo alkoholický nápoj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k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alk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je alko nápo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ivo je z definice alkoholický nápoj, tudíž i nealkoholické pivo musí být alkoholický nápo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 nealkoholické pivo obsahuje alkohol (do 0,5 %), je tedy alkoholickým nápoj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alkoholické pivo není uvedeno v seznamu nealkolických nápojů, který uvádí vyhl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 praxi protialkoholních léčeben je pití nealko piva považováno za porušení abstin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značení nealkoholické pivo je </a:t>
            </a: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oxymorónem,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 a jako takové pouze marketingovám tah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je nealko nápo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hl. č. 335/1997 Sb. (provádí zák. č. 110/1997) – nealkoholický nápoj = nápoj do 0,5 % objemu ethanol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vyhlášky je nealkoholické pivo pivem s obsahem do 0,5 %, je tedy nealkoholickým nápoj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alko pivo je doporučováno řidičů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- terminolog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844280"/>
            <a:ext cx="76215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ěkolik poznámek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djektivum „nealkoholické“ není zcela vhodné, lepší by bylo používat výraz „nízkoalkoholické“ - použití výrazu „nealkoholické“ je vlastně záležitost marketing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alkoholické pivo vlastně není pivo, ale „pivu podobný nápoj“ – z tohoto hlediska patří výraz „pivo“ v sousloví „nealkoholické pivo“ mezi tzv. synkategorematická substantiva, stejně jako např.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umělé květin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okoládová vej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holické pivo - východis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ro účely této vyhlášky...“ – funkce normativních dokumentů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ealkoholický nápoj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říve do 0,75 % alkohol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yní do 0,5 % alkohol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ČR (EU) – 0,5 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B – 0,05 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A – 0 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Japonsko – nápoj do 0,5 % - „nápoj podobný pivu“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– klasifikace 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alko pivo je nealko nápo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 náp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 nealko náp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1 nealko p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21 p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2 dealko ví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22 ví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3 vo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2 alko náp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21 p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11 nealko p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22 ví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12 dealko ví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– klasifikace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ealko pivo je alko nápo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1 nealko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11 vo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12 mlék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 alko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1 p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11 nealko p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2 ví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12 dealko ví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7-11-16T12:18:18Z</dcterms:modified>
  <cp:revision>137</cp:revision>
  <dc:subject/>
  <dc:title>Selekční jazyky</dc:title>
</cp:coreProperties>
</file>