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62D-9F7F-44B9-99FA-55797ED2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6BB-A608-475B-B87E-D25A92CF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286-6951-4BA1-9FD3-F0CA80F9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2EA-BE78-4BFD-A564-6027F2F4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6F0-858A-4B16-B7CF-DC422505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5D29-43B0-4845-A9CE-673F0FE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2909-343A-4873-AAE4-232FB54B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15D-47A0-4BEB-AD1A-6AE7FBA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491-0468-40C8-870A-3796136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52C8-DE84-4786-AB22-62C2BC06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48B-A980-4A61-9D25-4729525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21C-183A-406F-8EC2-588EB1CC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2A4E-9C45-4938-8ADF-AA70BC3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ED65-CB1A-4942-92AE-67715CF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379B-AF2C-4391-960C-7961DB5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D1E-2B54-4FBF-9ED7-A98742DB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E4BB-6DB8-45B4-87A0-C66FC1C1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F05-FF76-4B1D-BA95-F8169F7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7C7-58D3-4245-B7A8-EEC08F7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DD2-BB81-4DE3-BA78-1AB9A97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0AF-9747-4403-AB60-CE5A940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B32-DBCD-4B05-B6A3-34C600B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F71-FA0E-4436-852B-8B95631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8BD-6B19-468B-852B-05EAB07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7A1E-5C9D-40C8-A439-F86E78479D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63A-6B41-4D7D-8ECF-E420B17A0A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o.org/aims/ag_intro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AATCTR.jpg" TargetMode="External"/><Relationship Id="rId4" Type="http://schemas.openxmlformats.org/officeDocument/2006/relationships/hyperlink" Target="file:///AATCTR.jpg" TargetMode="External"/><Relationship Id="rId5" Type="http://schemas.openxmlformats.org/officeDocument/2006/relationships/hyperlink" Target="file:///AATCTR.jpg" TargetMode="External"/><Relationship Id="rId6" Type="http://schemas.openxmlformats.org/officeDocument/2006/relationships/hyperlink" Target="file:///AATCTR.jpg" TargetMode="External"/><Relationship Id="rId7" Type="http://schemas.openxmlformats.org/officeDocument/2006/relationships/hyperlink" Target="file:///AATCTR.jpg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ednáška č. 3 (denní studium) – 16.11.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Mgr. 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MD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růmyslová mikrobiologie. Průmyslová mykologie. Kvasný průmysl. Nápojový průmysl. Průmysl pochutin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.4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ivo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. Pivovarnictví. Sladování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41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Typy 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říklady: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Chmelená piva.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Nechmelená piva. Smrkové pivo. Zázvorové pivo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8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Hlavní složky míchaných nápojů. Ovocné a zeleninové šťávy. Sirupy. Likéry.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Nealkoholické nápoje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AGROV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ápoje (T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V</a:t>
            </a:r>
            <a:br>
              <a:rPr sz="44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(fazetové řešení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druh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o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lék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obsah alkoholu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e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původ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azdro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opov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adeg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avlov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ěln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itoměř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typ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ežák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kvasnicov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šeničn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íl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üller-Thurga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ramín červený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auvign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ůžov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os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erven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ankov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ortuga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Denis d’O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a struktura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řádací znak (PZ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ční zna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t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vní vyjádř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 typu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é hesl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ý prv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é SJ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jednot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eskriptor (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deskriptor (ne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kó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553.068.9 Metamorfovaná ložisk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004.354.5 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80 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přirozený 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ložiska metamorfovaná – těžb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 (hlodavci) – škody na úrodě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 – důkazy boha teleolog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etamorfovaná ložis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klasifikační zna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řída -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tační systém (nota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druhu použitých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betická notace (KK, Odee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Д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КЛ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umerická notace (III.V, 4.6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esetinná notace (656.7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II.X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počtu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inární notace (06-1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struk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anzivní notace (pohostinnost no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neární notace (A11, A12, A13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ierarchická notace (A11, A11.1, A11.1.01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nemotechničnost notac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L1.0 – literární teor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parátor not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á hes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vky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a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člen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ícečlenné PH (řetězec P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verze souslov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8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vořák, Antonín (dramatik) – hry divadelní - bibli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eskriptorov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í slovníku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(vocabulary contro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ace/postkoordin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émantický/syntaktický roz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/invertovaný slovosl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grafy, polysémy -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l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urál/singulá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a lexikální jednotky (pravopis, zkratk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ý odstav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ický rozklad – nedoporučuje se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barometr = tlak + měření + přístroj 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ntaktický rozklad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knihovnické časopisy = knihovnictví + časopisy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je běžné a užívané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informační zdroje, invalidní vozí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klad vede ke ztrátě význam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filozofie dějin, letadlová loď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obsahuje vlastní jméno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radfordův zákon, Planckova konstanta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ztratil původní význam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lehký průmysl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bez přímého vztah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stromová struktura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se „středním členem“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enzinový motor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kategorematická substantiva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umělé květiny, čokoládová vejce, světelný ro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sledky 2. úkol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fologie selekčních jazy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kl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lastnost/část x modifikát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sit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celek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innost/objekt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íklad pravidel pro souslov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ppendix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A – AAT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compound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term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rules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In Aichison, J., Gilchrist, A., Bawden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4th ed. Chicago : Fitzroy Dearborn Publishers, c2000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rakteristika slovníku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aložen 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oborové terminologi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vykle strukturován pomocí sémantických vztah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lovník SJ se nazývá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ční tabul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: předmětový heslá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SJ: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lavní část uspořádán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ční sché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Charakteristika slovníku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ná část uspořádá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abecední nebo rotovaný (permutovaný) rejstř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ezaurus: kategorie – mikrotezaury (tematické oblas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graf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užití faz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fazetový klasifikační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: fazetový tezaurus (thesauroface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ec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aradigmatické/syntagmatické vztahy (apriorní/aposterior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lyhierarch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ilná“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ekvivalence (vi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dřazený deskriptor (ND/B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dřazený deskriptor (PD/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 (nedeskripto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VIZ/USE – EKV/U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buzný deskriptor (AD/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yntax (pravidla pro užívání slovníku SJ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nohierarchický/fasetový klasifikační systé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zna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mocné znaky (pomocné tabul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ecifické p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inuté znaky (hlavní z.+pomocný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ené znaky (hlavní z.+hlavní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ovací symboly (přiřazení, rozšíření, vzta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yntax (pokr.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podheslo (doplněk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binace prvků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íjení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eskriptor-&gt;deskrip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cké prv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le – A (X), B (Z), 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e – A (1), B (2), C (1), D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sledky 2. úkol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jídelních a nápojových líst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ategor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z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 nealkoholické pivo alkoholický nápoj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ivo je z definice alkoholický nápoj, tudíž i nealkoholické pivo musí být alkoholický nápo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 nealkoholické pivo obsahuje alkohol (do 0,5 %), je tedy alkoholickým nápoj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není uvedeno v seznamu nealkolických nápojů, který uvádí vyhl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praxi protialkoholních léčeben je pití nealko piva považováno za porušení abstin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značení nealkoholické pivo je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oxymorónem,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a jako takové pouze marketingovám tah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ne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hl. č. 335/1997 Sb. (provádí zák. č. 110/1997) – nealkoholický nápoj = nápoj do 0,5 % objemu ethanol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vyhlášky je nealkoholické pivo pivem s obsahem do 0,5 %, je tedy nealkoholickým nápoj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doporučováno řidičů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- termin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76215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ěkolik poznámek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djektivum „nealkoholické“ není zcela vhodné, lepší by bylo používat výraz „nízkoalkoholické“ - použití výrazu „nealkoholické“ je vlastně záležitost marketing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vlastně není pivo, ale „pivu podobný nápoj“ – z tohoto hlediska patří výraz „pivo“ v sousloví „nealkoholické pivo“ mezi tzv. synkategorematická substantiva, stejně jako např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umělé květi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okoládová vej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holické pivo - východis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o účely této vyhlášky...“ – funkce normativních dokumentů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ealkoholický nápoj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říve do 0,7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yní do 0,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ČR (EU) – 0,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B – 0,0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A – 0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aponsko – nápoj do 0,5 % - „nápoj podobný pivu“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nealko nápo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1 nealko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1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2 dealko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2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3 vo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1 nealko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2 dealko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alko pivo je alko nápo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1 vo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2 mlék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1 nealko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2 dealko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7-11-16T12:18:18Z</dcterms:modified>
  <cp:revision>137</cp:revision>
  <dc:subject/>
  <dc:title>Selekční jazyky</dc:title>
</cp:coreProperties>
</file>