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CECB-9796-4161-855B-4A6DFD61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FA2-2146-400D-9496-F2EA9E0B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9D0E-D6B6-4548-B974-AFEAA9CA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A310-BA51-4762-BE14-49C01437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CE6A-7D42-41D0-B0CC-0BA072C5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8DE0-793E-4835-94BD-BFA3A4E9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7525-CFEC-4FAB-A02F-F922952D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77C4-EB0E-49BE-9684-B7ADEFFC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670E-4C04-4F78-AB50-881408A9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5E1C-8E4F-4C23-A2E1-A85C3400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4708-8CAC-4323-A8F9-8811984A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8392-FF13-49DE-9551-4E007964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0963-7775-4AD1-8980-5C42033F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0AC9-FBA9-4A87-90F6-FB43DCC8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2D75-0B0E-4992-B86F-6760F448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0D2F-6618-4062-9A9D-C32616A7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554E-3659-4F86-8810-19A8B1BF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8A2B-40C4-4D7B-B8B1-4059AC1F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2562-42A6-4913-9E56-2A9BA1B1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95E7-F4DC-414A-8ECB-39726922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6D2-DC80-4A88-8D62-3C720E19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0D93-F616-461B-B17A-8BE05029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B4CD-9BA2-4FB2-9A25-05B5F4B2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356E-8BD5-4C89-9E8E-DCDFBCB3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244F-05C4-46F4-91CF-8B2C46B4E3F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0DD5-0B9C-4DA4-B9DE-F2C87999BEB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ip.nkp.cz/mdt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ao.org/aims/ag_intro.ht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ile:///AATCTR.jpg" TargetMode="External"/><Relationship Id="rId4" Type="http://schemas.openxmlformats.org/officeDocument/2006/relationships/hyperlink" Target="file:///AATCTR.jpg" TargetMode="External"/><Relationship Id="rId5" Type="http://schemas.openxmlformats.org/officeDocument/2006/relationships/hyperlink" Target="file:///AATCTR.jpg" TargetMode="External"/><Relationship Id="rId6" Type="http://schemas.openxmlformats.org/officeDocument/2006/relationships/hyperlink" Target="file:///AATCTR.jpg" TargetMode="External"/><Relationship Id="rId7" Type="http://schemas.openxmlformats.org/officeDocument/2006/relationships/hyperlink" Target="file:///AATCTR.jpg" TargetMode="Externa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IKBA11 Selekční jazyky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781680" cy="29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řednáška č. 3 (denní studium) – 16.11.200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podzim 200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Mgr. Josef Schwar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Nealko pivo – klasifikace II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Arial"/>
                <a:hlinkClick r:id="rId1"/>
              </a:rPr>
              <a:t>MD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663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Průmyslová mikrobiologie. Průmyslová mykologie. Kvasný průmysl. Nápojový průmysl. Průmysl pochutin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663.4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Pivo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. Pivovarnictví. Sladování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663.41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Typy piv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Příklady: 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  <a:ea typeface="Arial"/>
              </a:rPr>
              <a:t>Chmelená piva.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  <a:ea typeface="Arial"/>
              </a:rPr>
              <a:t>Nechmelená piva. Smrkové pivo. Zázvorové pivo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663.8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Hlavní složky míchaných nápojů. Ovocné a zeleninové šťávy. Sirupy. Likéry.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Nealkoholické nápoje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Nealko pivo – klasifikace III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Arial"/>
                <a:hlinkClick r:id="rId1"/>
              </a:rPr>
              <a:t>AGROV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ápoje (T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lkoholické náp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iv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ealkoholické náp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Nealko pivo – klasifikace IV</a:t>
            </a:r>
            <a:br>
              <a:rPr sz="4400"/>
            </a:br>
            <a:r>
              <a:rPr b="0" lang="cs-CZ" sz="2000" spc="-1" strike="noStrike">
                <a:solidFill>
                  <a:srgbClr val="660066"/>
                </a:solidFill>
                <a:latin typeface="Tahoma"/>
              </a:rPr>
              <a:t>(fazetové řešení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nápoj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0f0f"/>
                </a:solidFill>
                <a:latin typeface="Tahoma"/>
                <a:ea typeface="Times New Roman"/>
              </a:rPr>
              <a:t>[druh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piv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v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ín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vod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mlék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bd0f0f"/>
                </a:solidFill>
                <a:latin typeface="Tahoma"/>
                <a:ea typeface="Times New Roman"/>
              </a:rPr>
              <a:t>[obsah alkoholu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alkoholické nápoj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nealkoholické nápoj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0f0f"/>
                </a:solidFill>
                <a:latin typeface="Tahoma"/>
                <a:ea typeface="Times New Roman"/>
              </a:rPr>
              <a:t>[původ nápoje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[původ nápoje - pivo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Prazdro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Velkopopovické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Radegas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[původ nápoje - víno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Velkopavlovická podoblas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Mělnická podoblas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Litoměřická podoblast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0f0f"/>
                </a:solidFill>
                <a:latin typeface="Tahoma"/>
                <a:ea typeface="Times New Roman"/>
              </a:rPr>
              <a:t>[typ nápoje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[typ nápoje - pivo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ležák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kvasnicové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pšeničné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[typ nápoje - víno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bílá vín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Müller-Thurgau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Tramín červený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Sauvignon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růžová vín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Rosé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červená vín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Frankovk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Portugal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Denis d’Or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rfologie a struktura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řádací znak (PZ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ystematické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lasifikační zna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ot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lovní vyjádře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mětové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J typu P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edmětové heslo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edmětový prv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Deskriptorové SJ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exikální jednot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deskriptor (preferovaná LJ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edeskriptor (nepreferovaná LJ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334120" y="18288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základ: kó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11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  <a:ea typeface="Arial"/>
              </a:rPr>
              <a:t>553.068.9 Metamorfovaná ložisk</a:t>
            </a: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11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  <a:ea typeface="Arial"/>
              </a:rPr>
              <a:t>004.354.5 Myši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11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180 Středověká filozofi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základ: přirozený jazy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11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ložiska metamorfovaná – těžb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11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myši (hlodavci) – škody na úrodě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11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středověká filozofie – důkazy boha teleologické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11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metamorfovaná ložisk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11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myši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f89f7"/>
              </a:buClr>
              <a:buSzPct val="11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středověká filozofi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rfologie PZ (SSJ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ystematické SJ 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(klasifikační znak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řída -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kupina klasifikovaných pojmů vzniklá na základě shodných charakteristik za účelem definování sémantických vztahů mezi nimi, která je označená notací. Tvoří základní prvek klasifikačního systému označující základní kategorii.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otační systém (notac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ypy notace podle druhu použitých znak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lfabetická notace (KK, Odee,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  <a:ea typeface="Tahoma"/>
              </a:rPr>
              <a:t>ЖД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  <a:ea typeface="Tahoma"/>
              </a:rPr>
              <a:t>КЛ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umerická notace (III.V, 4.6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70000"/>
              </a:lnSpc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esetinná notace (656.7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lfanumerická notace (smíšená notace) (A65,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  <a:ea typeface="Tahoma"/>
              </a:rPr>
              <a:t>Ж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II.X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ypy notace podle počtu znak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inární notace (06-11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rfologie PZ (SSJ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ystematické SJ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ypy notace podle strukt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xpanzivní notace (pohostinnost nota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ineární notace (A11, A12, A13..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ierarchická notace (A11, A11.1, A11.1.01..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nemotechničnost notac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(L1.0 – literární teori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eparátor not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rfologie PZ (PSJ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mětová hesl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vky P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a P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ednočlenné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heslo (vstupní prvek) – hlavní téma dokumentu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ícečlenné PH (řetězec PH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heslo (vstupní prvek) – hlavní téma dokumentu (+doplněk hesla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dheslo (specifikuje význam hesla) – vedlejší téma dokumentu (+doplněk podhesla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eslo (doplněk hesla) – 1. podheslo (doplněk 1. podhesla) – 2. podheslo (doplněk 2. podhesl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verze souslov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ČSN 01018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Dvořák, Antonín (dramatik) – hry divadelní - bibliograf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rfologie PZ (PSJ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Deskriptorové SJ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lexikální jednotky (deskriptory, nedeskriptory) </a:t>
            </a:r>
            <a:r>
              <a:rPr b="0" lang="cs-CZ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tezauru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í slovníku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(vocabulary contro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ekoordinace/postkoordina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émantický/syntaktický rozkl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rozený/invertovaný slovosl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olba deskriptoru, nedeskriptorů (řešení synonymie, kvazisynonymie, hierarchizace vztahu ekvivalen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omografy, polysémy -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relá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urál/singulá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orma lexikální jednotky (pravopis, zkratky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deskriptorový odstave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ČSN 010193 (jednojazyčné tezaury), ČSN 010172 (vícejazyčné tezaur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rekoordinace/postkoordin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349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émantický rozklad – nedoporučuje se </a:t>
            </a: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(př.: barometr = tlak + měření + přístroj )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yntaktický rozklad </a:t>
            </a: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(př.: knihovnické časopisy = knihovnictví + časopisy)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ekoordinac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ousloví je běžné a užívané </a:t>
            </a:r>
            <a:r>
              <a:rPr b="0" i="1" lang="cs-CZ" sz="1200" spc="-1" strike="noStrike">
                <a:solidFill>
                  <a:srgbClr val="40458c"/>
                </a:solidFill>
                <a:latin typeface="Tahoma"/>
              </a:rPr>
              <a:t>(př.: informační zdroje, invalidní vozík)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zklad vede ke ztrátě významu </a:t>
            </a:r>
            <a:r>
              <a:rPr b="0" i="1" lang="cs-CZ" sz="1200" spc="-1" strike="noStrike">
                <a:solidFill>
                  <a:srgbClr val="40458c"/>
                </a:solidFill>
                <a:latin typeface="Tahoma"/>
              </a:rPr>
              <a:t>(př.: filozofie dějin, letadlová loď)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ousloví obsahuje vlastní jméno </a:t>
            </a:r>
            <a:r>
              <a:rPr b="0" i="1" lang="cs-CZ" sz="1200" spc="-1" strike="noStrike">
                <a:solidFill>
                  <a:srgbClr val="40458c"/>
                </a:solidFill>
                <a:latin typeface="Tahoma"/>
              </a:rPr>
              <a:t>(př.: Bradfordův zákon, Planckova konstanta)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difikátor ztratil původní význam </a:t>
            </a:r>
            <a:r>
              <a:rPr b="0" i="1" lang="cs-CZ" sz="1200" spc="-1" strike="noStrike">
                <a:solidFill>
                  <a:srgbClr val="40458c"/>
                </a:solidFill>
                <a:latin typeface="Tahoma"/>
              </a:rPr>
              <a:t>(př.: lehký průmysl)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difikátor bez přímého vztahu </a:t>
            </a:r>
            <a:r>
              <a:rPr b="0" i="1" lang="cs-CZ" sz="1200" spc="-1" strike="noStrike">
                <a:solidFill>
                  <a:srgbClr val="40458c"/>
                </a:solidFill>
                <a:latin typeface="Tahoma"/>
              </a:rPr>
              <a:t>(př.: stromová struktura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ousloví se „středním členem“</a:t>
            </a:r>
            <a:r>
              <a:rPr b="0" i="1" lang="cs-CZ" sz="1200" spc="-1" strike="noStrike">
                <a:solidFill>
                  <a:srgbClr val="40458c"/>
                </a:solidFill>
                <a:latin typeface="Tahoma"/>
              </a:rPr>
              <a:t>(př.: benzinový motor)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ynkategorematická substantiva </a:t>
            </a:r>
            <a:r>
              <a:rPr b="0" i="1" lang="cs-CZ" sz="1200" spc="-1" strike="noStrike">
                <a:solidFill>
                  <a:srgbClr val="40458c"/>
                </a:solidFill>
                <a:latin typeface="Tahoma"/>
              </a:rPr>
              <a:t>(př.: umělé květiny, čokoládová vejce, světelný rok)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gra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ýsledky 2. úkol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rfologie selekčních jazyk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rekoordinace/postkoordinace</a:t>
            </a: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ostkoordina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Zákla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lastnost/část x modifikáto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osite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/celek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(př.: lodní motor = lodě + motory; knihovní personál = knihovny + personál)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innost/objekt </a:t>
            </a: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(př.: signování knih = signování + knihy; indexace článků = indexace + články; stěhování ptáků = stěhování + ptáci)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říklad pravidel pro souslov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Appendix</a:t>
            </a:r>
            <a:r>
              <a:rPr b="0" lang="cs-CZ" sz="16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 A – AAT </a:t>
            </a:r>
            <a:r>
              <a:rPr b="0" lang="cs-CZ" sz="16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compound</a:t>
            </a:r>
            <a:r>
              <a:rPr b="0" lang="cs-CZ" sz="16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 term </a:t>
            </a:r>
            <a:r>
              <a:rPr b="0" lang="cs-CZ" sz="16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rules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In Aichison, J., Gilchrist, A., Bawden, D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Thesaurus construction and use : a practical manual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4th ed. Chicago : Fitzroy Dearborn Publishers, c2000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harakteristika slovníku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aložen na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SJ: klasifikac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SJ: oborové terminologi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bvykle strukturován pomocí sémantických vztah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lovník SJ se nazývá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SJ: klasifikační tabul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H: předmětový heslá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SJ: tezauru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lavní část uspořádán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SJ: systematic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lasifikační sché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SJ: abecedn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Charakteristika slovníku SJ (pokr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omocná část uspořádána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SJ: abecedn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apř. abecední nebo rotovaný (permutovaný) rejstří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SJ: systematic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ezaurus: kategorie – mikrotezaury (tematické oblast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grafic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oužití faz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SJ: fazetový klasifikační systé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SJ: fazetový tezaurus (thesauroface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ruktura slovníku SJ (vztahy mezi PZ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ecn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aradigmatické/syntagmatické vztahy (apriorní/aposteriorní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ierarch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artitivní vztah (celek-část), generický vztah (rod-druh), logický vztah (příčina-následek apod.) a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lyhierarchi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soci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ekvival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ilná“ hierarch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sociace (viz též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ruktura slovníku SJ (vztahy mezi PZ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částečná hierarch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částečná asociace (viz též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částečná ekvivalence (viz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SJ (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ierarch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dřazený deskriptor (ND/B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dřazený deskriptor (PD/N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ekvivalence (nedeskriptor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VIZ/USE – EKV/UF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soci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buzný deskriptor (AD/R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yntax (pravidla pro užívání slovníku SJ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nohierarchický/fasetový klasifikační systé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lavní zna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omocné znaky (pomocné tabulk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šeobecné pz (např. pomocný znak místa, času, jazyka, formy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ecifické p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zvinuté znaky (hlavní z.+pomocný z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ložené znaky (hlavní z.+hlavní z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ojovací symboly (přiřazení, rozšíření, vztah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Syntax (pokr.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eslo (doplněk hesla) – podheslo (doplněk podhesl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mbinace prvků předmětového hes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zvíjení předmětového hes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SJ (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ační pravid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deskriptor-&gt;deskript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ostkoordin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gramatické prv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le – A (X), B (Z), 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oje – A (1), B (2), C (1), D (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ýsledky 2. úkol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analýza jídelních a nápojových lístk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lasifik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ategori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ze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je nealkoholické pivo alkoholický nápoj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lk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alk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alko pivo je alko nápo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ivo je z definice alkoholický nápoj, tudíž i nealkoholické pivo musí být alkoholický nápo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 nealkoholické pivo obsahuje alkohol (do 0,5 %), je tedy alkoholickým nápoje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alkoholické pivo není uvedeno v seznamu nealkolických nápojů, který uvádí vyhláš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 praxi protialkoholních léčeben je pití nealko piva považováno za porušení abstin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značení nealkoholické pivo je </a:t>
            </a:r>
            <a:r>
              <a:rPr b="0" i="1" lang="cs-CZ" sz="2400" spc="-1" strike="noStrike">
                <a:solidFill>
                  <a:srgbClr val="40458c"/>
                </a:solidFill>
                <a:latin typeface="Tahoma"/>
              </a:rPr>
              <a:t>oxymorónem,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 a jako takové pouze marketingovám tahe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alko pivo je nealko nápo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yhl. č. 335/1997 Sb. (provádí zák. č. 110/1997) – nealkoholický nápoj = nápoj do 0,5 % objemu ethanol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dle vyhlášky je nealkoholické pivo pivem s obsahem do 0,5 %, je tedy nealkoholickým nápoj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alko pivo je doporučováno řidičů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alko pivo - terminologi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844280"/>
            <a:ext cx="76215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ěkolik poznámek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djektivum „nealkoholické“ není zcela vhodné, lepší by bylo používat výraz „nízkoalkoholické“ - použití výrazu „nealkoholické“ je vlastně záležitost marketing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alkoholické pivo vlastně není pivo, ale „pivu podobný nápoj“ – z tohoto hlediska patří výraz „pivo“ v sousloví „nealkoholické pivo“ mezi tzv. synkategorematická substantiva, stejně jako např.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umělé květin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okoládová vej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alkoholické pivo - východisk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pro účely této vyhlášky...“ – funkce normativních dokumentů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č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ealkoholický nápoj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dříve do 0,75 % alkoholu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nyní do 0,5 % alkoholu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ís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ČR (EU) – 0,5 %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GB – 0,05 %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SA – 0 %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Japonsko – nápoj do 0,5 % - „nápoj podobný pivu“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alko pivo – klasifikace 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alko pivo je nealko nápo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 náp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.1 nealko náp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.11 nealko piv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viz též 100.21 piv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.12 dealko vín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viz též 100.22 vín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.13 vod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.2 alko náp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.21 piv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viz též 100.11 nealko piv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.22 vín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viz též 100.12 dealko vín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alko pivo – klasifikace I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Nealko pivo je alko nápoj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00 náp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00.1 nealko náp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00.11 vo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00.12 mlék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00.2 alko náp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00.21 piv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00.211 nealko piv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00.22 ví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00.212 dealko ví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knihovnik</cp:lastModifiedBy>
  <dcterms:modified xsi:type="dcterms:W3CDTF">2007-11-16T12:18:18Z</dcterms:modified>
  <cp:revision>137</cp:revision>
  <dc:subject/>
  <dc:title>Selekční jazyky</dc:title>
</cp:coreProperties>
</file>