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C4C-37F7-47A0-978B-EDFA158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66D-2452-4FCC-9CB2-D380FC10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304-FDE3-49E0-8201-D8C44086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41A-F72A-4E13-A072-8C090AB5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4932-3A53-4B78-99C0-D67D12BE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C3D3-50F5-4E40-B1B5-7970F86D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E889-8035-4D6B-99D6-255505B5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AB9E-F019-475A-8ABA-A09A4719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404C-0336-47AD-8A4F-97145C97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E1B-F3DE-4648-84DB-1131608B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4D87-0FD4-4ACA-9823-638C43B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54A-CF89-48AC-9725-779703B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9625-3F11-4824-83AF-BC0806E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9947-C407-4672-AD53-49A8A60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8C5-3C61-481A-B3B5-8F6464F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DE37-0787-4F5E-A167-811DBB63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0F9F-FD0C-4C0D-B308-B7FD90F7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8C2-E1D8-466D-B6FA-7D6BA3EE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4CD-5B7B-40B2-B479-3B729910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DC6-F6E2-48F2-B9ED-0EE734F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12A-A307-4743-ABD9-8682F2A0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5A9-7FDF-441D-AD10-7E933C89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D53-C588-4D60-A3E7-B21AF16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3DB-2702-42E5-B400-79AC154C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9C9F-645A-4F06-B1A3-135DE2ECFAE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CFE-1A1D-45F8-8C2D-FD19BA7383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cerm.jpg" TargetMode="External"/><Relationship Id="rId4" Type="http://schemas.openxmlformats.org/officeDocument/2006/relationships/hyperlink" Target="file:///cerm.jpg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SJpojmylingv.doc" TargetMode="External"/><Relationship Id="rId4" Type="http://schemas.openxmlformats.org/officeDocument/2006/relationships/hyperlink" Target="file:///SJpojmylingv.doc" TargetMode="External"/><Relationship Id="rId5" Type="http://schemas.openxmlformats.org/officeDocument/2006/relationships/hyperlink" Target="file:///SJpojmylingv.doc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tis.usda.gov/" TargetMode="External"/><Relationship Id="rId2" Type="http://schemas.openxmlformats.org/officeDocument/2006/relationships/hyperlink" Target="http://www.itis.usda.gov/" TargetMode="External"/><Relationship Id="rId3" Type="http://schemas.openxmlformats.org/officeDocument/2006/relationships/hyperlink" Target="http://www.itis.usda.gov/" TargetMode="External"/><Relationship Id="rId4" Type="http://schemas.openxmlformats.org/officeDocument/2006/relationships/hyperlink" Target="http://www.itis.usda.gov/" TargetMode="External"/><Relationship Id="rId5" Type="http://schemas.openxmlformats.org/officeDocument/2006/relationships/hyperlink" Target="http://www.itis.usda.gov/" TargetMode="External"/><Relationship Id="rId6" Type="http://schemas.openxmlformats.org/officeDocument/2006/relationships/hyperlink" Target="http://www.itis.usda.gov/" TargetMode="External"/><Relationship Id="rId7" Type="http://schemas.openxmlformats.org/officeDocument/2006/relationships/hyperlink" Target="http://www.itis.usda.gov/" TargetMode="External"/><Relationship Id="rId8" Type="http://schemas.openxmlformats.org/officeDocument/2006/relationships/hyperlink" Target="http://www.itis.usda.gov/" TargetMode="External"/><Relationship Id="rId9" Type="http://schemas.openxmlformats.org/officeDocument/2006/relationships/hyperlink" Target="file:///klas001.jpg" TargetMode="External"/><Relationship Id="rId10" Type="http://schemas.openxmlformats.org/officeDocument/2006/relationships/hyperlink" Target="file:///klas001.jpg" TargetMode="Externa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eco.jpg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SJzaklpojmy.doc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erm.jpg" TargetMode="External"/><Relationship Id="rId3" Type="http://schemas.openxmlformats.org/officeDocument/2006/relationships/hyperlink" Target="file:///cerm.jpg" TargetMode="External"/><Relationship Id="rId4" Type="http://schemas.openxmlformats.org/officeDocument/2006/relationships/hyperlink" Target="file:///eco.jpg" TargetMode="External"/><Relationship Id="rId5" Type="http://schemas.openxmlformats.org/officeDocument/2006/relationships/hyperlink" Target="file:///eco.jpg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SJlit.doc" TargetMode="External"/><Relationship Id="rId3" Type="http://schemas.openxmlformats.org/officeDocument/2006/relationships/hyperlink" Target="file:///doplit1.doc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:4505/F/?func=find-b%26local_base=KTD%26find_code=SYS%26request=000000993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KBA11 Selekční jazyk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dklad pro samostudium č.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odzim 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oretické základy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ie SJ čerpá z několika různých oborů. Z nich nejvýznamnější je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lingvistika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. Pokud se budete chtít v této oblasti trošku orientovat, můžete (ale nemusíte) si přečíst publikac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ČERMÁK, František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Jazyk a jazykověda : přehled a slovníky. Praha : Karolinum, 2001. 341 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Tahoma"/>
              </a:rPr>
              <a:t>V každém případě si však určitě přečtěte alespoň vstupní pasáže této knihy na s. 13-32.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Pro vaše pohodlí je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ikládám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naskenované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abyste je měli bezprostředně přístupné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inými knihami, které vás uvedenou do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lingvistiky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jsou: </a:t>
            </a: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[ERH01]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PAL89]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AK84-kap. 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nikající studijní pomůckou j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ncyklopedický slovník češtiny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 noviny, 2002.  604 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 tohoto slovníku jsem vybral hesla relevantní našemu předmětu, jsou uvedena v samostatném souboru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Jpojmylingv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– podívejte se, jestli je vám většina jasná, </a:t>
            </a:r>
            <a:r>
              <a:rPr b="0" lang="cs-CZ" sz="2400" spc="-1" strike="noStrike">
                <a:solidFill>
                  <a:srgbClr val="fd4633"/>
                </a:solidFill>
                <a:latin typeface="Tahoma"/>
              </a:rPr>
              <a:t>pokud ne, nahlédněte do slovníku (nebo jinam, to záleží na vás)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. Něco málo se ještě také dozvíte v této prezentac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alší oblastí, která podstatně přispívá k teorii SJ, je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sémiotika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(resp. někdy jinak též sémiologie). Někdy se chápe jako součást jazykovědy, někdy jako samostatná disciplína, každopádně si pamatujte, že je to obecná teorie znaků, resp. obecná nauka o znacích. Kdo se chce dozvědět více, může se podívat sem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CER0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DOU0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TON96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 téměř samostatnou disciplínu se také rozrostla oblast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teorie pojmu a reprezentace znalost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několik odkazů na odbornou literaturu najdete v základní i doplňkové literatuře (např.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AL74, 1.kap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UG9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PAT00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RIG96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TON0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[DUZ03]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DAH9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. Zatím z toho moc číst nemusíte, budeme o tom v přijatelnější podobě mluvit na přednášká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 teorii SJ přispívají i další disciplíny, jako j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matematika a logika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de n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ás zajímá především teorie množin a kombinatori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psychologie a kognitivní vědy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které nám pomáhají pochopit různé věci, např.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funguje myšlení a paměť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vznikají pojmy a jak jsou tvořeny znal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fungují psychické mechanismy tvorby a chápání výpovědí, jak jsou v mysli uspořádány znalosti o jazyce (psycholingvistik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0458c"/>
                </a:solidFill>
                <a:latin typeface="Tahoma"/>
              </a:rPr>
              <a:t>teorie vědy, věda o vědě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– zde jsou dvě podstatné oblasti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1) 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protože značná část naší profese spočívá ve zprostředkování vědeckých poznatků, je důležité vědět, jak tyto poznatky (a následně samozřejmě i dokumenty) vznikají a jakou mají strukturu a vlastnosti. K tomu viz blíže např.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[TON02]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 nebo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[TON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94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2) pro SJ nejzásadnější je klasifikace věd – jak obecná klasifikace věd, tak klasifikace (taxonomie, nomenklatura) v jednotlivých oborech.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Podívejte na server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Integrated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Taxonomic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Information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System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(ITIS), jak taková taxonomie vypadá, a přečtěte si heslo </a:t>
            </a:r>
            <a:r>
              <a:rPr b="0" i="1" lang="cs-CZ" sz="2200" spc="-1" strike="noStrike">
                <a:solidFill>
                  <a:srgbClr val="fd4633"/>
                </a:solidFill>
                <a:latin typeface="Tahoma"/>
              </a:rPr>
              <a:t>Klasifikace vlastních jmen místních modelová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v </a:t>
            </a:r>
            <a:r>
              <a:rPr b="0" i="1" lang="cs-CZ" sz="2200" spc="-1" strike="noStrike">
                <a:solidFill>
                  <a:srgbClr val="fd4633"/>
                </a:solidFill>
                <a:latin typeface="Tahoma"/>
              </a:rPr>
              <a:t>Encyklopedickém slovníku češtiny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, abyste zjistili, jak taková taxonomie vzniká (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přikládám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naskenováno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gvistika – základní pojm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i dalších přednáškách se neobejdete bez znalosti zejména těchto pojmů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, umělý jazyk, přirozený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díly mezi přirozeným a umělým (selekčním) jazykem najdete na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další straně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vník (lexiku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gramatika (syntax, morfologi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exikální séman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monymie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puk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polysémie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cukrovk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omofona (výška/vížka), homografa (panický/panický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ynonymie (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k-kotouč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antonymie (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eplo x chla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yponymie (podř.: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lípa -&gt; stro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hyperonymie (nadř.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om -&gt; lípa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kohyponymie (souř.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ípa, jasan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ozdíly mezi přirozeným a selekčním jazyke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symet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nejen komunikační funk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implicitní vztahy pojm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tylov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fonetická/písemná slož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(funkční) redund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šechny druhy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lovesné katego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metajazy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52680" y="1752120"/>
            <a:ext cx="289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lekční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ymet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komunikační funk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explicitní vztah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ylučuje sty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pouze písemná slož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omezení redund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ybrané druhy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bez slovesných ka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není metajazyk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1752480"/>
            <a:ext cx="2895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0458c"/>
                </a:solidFill>
                <a:latin typeface="Arial"/>
              </a:rPr>
              <a:t>Poznámk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homonyma, synonyma..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emoční, nařizovací,..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rod-druh, asociac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publicist., vědecký styl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(IS s fon. vstupem)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substantiva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čas, vid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plní přirozený jazyk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Lingvistika – základní pojmy </a:t>
            </a: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(pokr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Lexikální jednotka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minimální posloupnost fonémů nebo grafémů, která je dále sémanticky nedělitelná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lovo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základní jazyková jednotka (vzhledem k formální a funkční různorodosti obtížně definovatelná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ousloví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lexikální jednotka, kterou lze morfologicky rozdělit na oddělené složky; skládá se ze základu a modifikátoru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Lexikální význ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ant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nejmenší jazykový znak vyjadřující lexikální význam (kořen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nejmenší jednotka významu, k níž se dospívá sémantickou analýzou; neexistuje odpovídající formální jednotka v jazykovém systému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množina sémů; v jazykovém systému vyjádřen lexémem (lexikální jednotko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ém, sém, semém (příkl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mém (LJ): žena, dív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antém: žen-, dív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y (sématické rysy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+ znamená přítomnost rysu, - nepřítomnost rys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že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ivot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osobo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enskost/-mužsk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dospěl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ív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ivot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osobo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enskost/-mužsk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-dospěl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Sémiotický (sémantický) trojúhelní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líčovou pomůckou pro pochopení vztahu tří důležitých pojmů,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zna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pojmu 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objek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je sémiotický, resp. sémantický trojúhelník. Schéma trojúhelníku a popis základních pojmů následuje, </a:t>
            </a:r>
            <a:r>
              <a:rPr b="0" lang="cs-CZ" sz="3200" spc="-1" strike="noStrike">
                <a:solidFill>
                  <a:srgbClr val="fd4633"/>
                </a:solidFill>
                <a:latin typeface="Tahoma"/>
              </a:rPr>
              <a:t>vy se však ještě navíc zamyslete, jak může sémiotický trojúhelník souviset s teorií tří světů K. Poppe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ak postupov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jdříve si projděte celou tuto prezentaci a pak se teprve pusťte do studi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Sémiotický (sémantický) trojúhelní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026560" cy="314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ojmy související se sémiotickým </a:t>
            </a:r>
            <a:r>
              <a:rPr b="0" lang="cs-CZ" sz="4000" spc="-1" strike="noStrike">
                <a:solidFill>
                  <a:srgbClr val="660066"/>
                </a:solidFill>
                <a:latin typeface="Webdings"/>
                <a:ea typeface="Webdings"/>
              </a:rPr>
              <a:t>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Znak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základní sémiotická jednotka chápaná jako třída smyslově vnímatelných signálů, které poukazují k témuž objektu, vlastnosti nebo stavu, resp. které je na základě konvence zastupují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Pojem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- myšlenková konstrukce vzniklá abstrakcí na základě vlastností společných určité množině objektů; myšlenková představa určená svou intenzí (obsahem), tj. souhrnem podstatných charakteristik množiny denotátů, a extenzí (rozsahem), tj. množinou objektů (denotátů), kterou daný pojem zahrnuj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intenze (obsahu pojm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extenze (rozsah pojm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ýznam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pojmová hodnota, obsah jazykového znak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Smysl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systém významových vztahů; způsob, jimž je předmět označený znakem „podán“ (Jitřenka/Večernice) (Frege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Tahoma"/>
              </a:rPr>
              <a:t>Pro diskusi o klasifikaci na příští přednášce si přečtěte pasáž z knihy...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ECO, U. </a:t>
            </a:r>
            <a:r>
              <a:rPr b="0" i="1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Hledání dokonalého jazyka v evropské kultuře</a:t>
            </a:r>
            <a:r>
              <a:rPr b="0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. Praha : Lidové noviny, 2001. 355 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Arial"/>
              </a:rPr>
              <a:t>...na s. 182-185 (kap. První náznaky organizace obsahu -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Arial"/>
                <a:hlinkClick r:id="rId3"/>
              </a:rPr>
              <a:t>naskenováno</a:t>
            </a:r>
            <a:r>
              <a:rPr b="0" lang="cs-CZ" sz="2800" spc="-1" strike="noStrike">
                <a:solidFill>
                  <a:srgbClr val="fd4633"/>
                </a:solidFill>
                <a:latin typeface="Arial"/>
              </a:rPr>
              <a:t>) a zamyslete se, co je v nepořádku s </a:t>
            </a:r>
            <a:r>
              <a:rPr b="0" i="1" lang="cs-CZ" sz="2800" spc="-1" strike="noStrike">
                <a:solidFill>
                  <a:srgbClr val="fd4633"/>
                </a:solidFill>
                <a:latin typeface="Arial"/>
              </a:rPr>
              <a:t>Nebeským bazarem blahodárných poznatků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íjemné dny a na viděnou na přednášce 26.10.2007 (s denními) nebo 9.11.2007 (s kombinovaným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ato prezentace vás krok za krokem provede podklady, které jsem připravil pro vaše samostudiu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kud se chcete rychle zorientovat v předmětu, přečtěte si pro začátek tyto materiál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Vybrané pojmy z oblasti selekčních jazyků a věcného pořádání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ANDERSON, J.D. Organization of knowledge. In FEATHER, J., STURGES, P. (eds.). International Encyclopedia of Information and Library Science. 2nd ed. London : Routledge, 2003, s. 471-49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KOVÁŘ, B. </a:t>
            </a: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ěcné pořádání informací a selekční jazyky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Praha : ÚVTEI, 1984. 251 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amostudijní materiály mají prohloubit vaši orientaci v terminologii a teorii SJ, a to zejména s ohledem na základy SJ v lingvisti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a vybrané pasáži z knihy U. Eca (viz dále) si také máte promyslet základní principy kategorizace a klasifika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amen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ři přípravě materiálů jsem vyšel ze tří publikací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ČERMÁK, František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Jazyk a jazykověda : přehled a slovníky. 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Praha : Karolinum, 2001. 341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askenovaná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pasáž z knihy je součástí těchto podkladů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ncyklopedický slovník češtiny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 noviny, 2002.  604 s.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CO, U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Hledání dokonalého jazyka v evropské kultuře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 noviny, 2001. 355 s.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Naskenovaná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pasáž z knihy je součástí těchto podkladů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ameny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alší publikace jsou uvedeny přímo v textu této prezentace, a to kódem podle seznamu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základní 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ebo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oplňkové literatury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TON96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znamená publikaci TONDL, Ladislav.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Mezi epistemologií a sémiotikou : deset studií o vztazích poznání a porozumění významu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 Praha : Filosofia, 1996.  223 s.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Jedná-li se o doplňkovou literaturu, tyto publikace čtěte pouze v případě, pokud vás dané téma zaujme a budete se chtít dozvědět něco ví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o, co byste si měli přečíst nebo udělat (=je to povinné), je všude v prezentaci označeno </a:t>
            </a:r>
            <a:r>
              <a:rPr b="0" lang="cs-CZ" sz="3200" spc="-1" strike="noStrike">
                <a:solidFill>
                  <a:srgbClr val="fd4633"/>
                </a:solidFill>
                <a:latin typeface="Tahoma"/>
              </a:rPr>
              <a:t>červeně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akže teď už konečně k věci ;-), tzn. k tématu..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3504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.. TEORIE SELEKČNÍCH JAZYKŮ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ěco málo k terminolog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inologie je základním klíčem ke každému oboru. Pokud vás tato oblast zajímá a chtěli byste se jí věnovat hlouběji, můžete se podívat na publikace, které jsou věnován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ě lexikologii a lexikografii: [CEJ9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bo přímo terminologii a terminografii: [JUR02], [SCH03]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MAC95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ři základní pojmy 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termín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definice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vý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jsou vysvětleny na další straně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ěco málo k terminologii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Termín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- jednoslovný nebo víceslovný výraz s jasně určeným pojmovým významem, který je opakovaně užíván v odborných textech. Pojem, který je termínem reprezentován, představuje nedělitelný sémantický celek a je možné jej zařadit do soustavy odborných názvů daného oboru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efinic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- přesné a jednoznačné vymezení významu termínu, které je závazné pro jeho další použití; pokud není termín užit v definovaném významu, jedná se o chybné použití termínu. Odborné názvosloví, ve kterém převažují termíny, jejichž význam je určen definicemi, je označováno jako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eskriptivní terminologi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; patří sem většina odborného názvosloví z oblasti technických a přírodních věd, jehož termíny obvykle označují konkrétní entity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1" i="1" lang="cs-CZ" sz="1400" spc="-1" strike="noStrike">
                <a:solidFill>
                  <a:srgbClr val="40458c"/>
                </a:solidFill>
                <a:latin typeface="Tahoma"/>
              </a:rPr>
              <a:t>Interpolace – postup, jimž se přibližně určuje hodnota funkce f(x) v bodě x(a,b), jsou-li známy její hodnoty v jiných bodech intervalu (a,b)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ýklad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- vysvětlení významu termínu, který není jednoznačně definovatelný a je určen dohodou akceptovanou odborným společenstvím nebo který může ovlivněn hodnotícím stanoviskem určitého člověka nebo názorové školy. Terminologie, která užívá především výkladů, je označována jako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eskriptivní terminologi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a patří k ní značná část terminologie sociálních a humanitních věd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1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ih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10-22T07:30:55Z</dcterms:modified>
  <cp:revision>248</cp:revision>
  <dc:subject/>
  <dc:title>Selekční jazyky</dc:title>
</cp:coreProperties>
</file>