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C09-1CD0-454E-B2E7-751A7F31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F9E-72E9-4754-912A-5AA56D7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4EC-5C22-4B88-A5A4-008BDCAD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CC9-7C36-4891-BE28-F623E433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C13E-8514-45B8-93AF-B727C43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9AF-41D6-4C51-B681-CF7A5F6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2CF-5D21-46B7-B217-EF26CED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4326-7817-4E35-9415-89E5944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2DE0-FB27-4464-B0FB-33FCF2E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651-1DAC-4553-AF80-419F6AF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3AD-4B9B-42E6-8F97-9A8A93A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0C7-DD0D-4A4B-8847-B2BAFA0C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C713-7B7E-4F1D-988B-4C758E4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E8B-EF8F-4EC2-B9D5-13709A8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836-051A-4AF5-A713-9F12234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86F0-4BBF-4CCC-8405-629E71E0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40E-4DFA-41DD-B88E-1E2F76C6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3E7-2853-4B1B-9AA1-8732EFC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41E-CD8E-4D97-8F2B-3CF86C4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A7E-567E-4D38-A87D-43CD61B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A26-E824-457A-AC04-4D615A52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DDB-E6C6-494B-8B2F-1D1CB81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162-CFA7-4337-969E-B10E004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078-FB05-466B-8303-204ABB7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48E-FF03-4AC3-BE66-C4E001D40B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3EDE-9ADD-4DEB-9F55-D1B4A79D90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cerm.jpg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pojmylingv.doc" TargetMode="External"/><Relationship Id="rId4" Type="http://schemas.openxmlformats.org/officeDocument/2006/relationships/hyperlink" Target="file:///SJpojmylingv.doc" TargetMode="External"/><Relationship Id="rId5" Type="http://schemas.openxmlformats.org/officeDocument/2006/relationships/hyperlink" Target="file:///SJpojmylingv.doc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tis.usda.gov/" TargetMode="External"/><Relationship Id="rId2" Type="http://schemas.openxmlformats.org/officeDocument/2006/relationships/hyperlink" Target="http://www.itis.usda.gov/" TargetMode="External"/><Relationship Id="rId3" Type="http://schemas.openxmlformats.org/officeDocument/2006/relationships/hyperlink" Target="http://www.itis.usda.gov/" TargetMode="External"/><Relationship Id="rId4" Type="http://schemas.openxmlformats.org/officeDocument/2006/relationships/hyperlink" Target="http://www.itis.usda.gov/" TargetMode="External"/><Relationship Id="rId5" Type="http://schemas.openxmlformats.org/officeDocument/2006/relationships/hyperlink" Target="http://www.itis.usda.gov/" TargetMode="External"/><Relationship Id="rId6" Type="http://schemas.openxmlformats.org/officeDocument/2006/relationships/hyperlink" Target="http://www.itis.usda.gov/" TargetMode="External"/><Relationship Id="rId7" Type="http://schemas.openxmlformats.org/officeDocument/2006/relationships/hyperlink" Target="http://www.itis.usda.gov/" TargetMode="External"/><Relationship Id="rId8" Type="http://schemas.openxmlformats.org/officeDocument/2006/relationships/hyperlink" Target="http://www.itis.usda.gov/" TargetMode="External"/><Relationship Id="rId9" Type="http://schemas.openxmlformats.org/officeDocument/2006/relationships/hyperlink" Target="file:///klas001.jpg" TargetMode="External"/><Relationship Id="rId10" Type="http://schemas.openxmlformats.org/officeDocument/2006/relationships/hyperlink" Target="file:///klas001.jpg" TargetMode="Externa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eco.jpg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SJzaklpojmy.doc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erm.jpg" TargetMode="External"/><Relationship Id="rId3" Type="http://schemas.openxmlformats.org/officeDocument/2006/relationships/hyperlink" Target="file:///cerm.jpg" TargetMode="External"/><Relationship Id="rId4" Type="http://schemas.openxmlformats.org/officeDocument/2006/relationships/hyperlink" Target="file:///eco.jpg" TargetMode="External"/><Relationship Id="rId5" Type="http://schemas.openxmlformats.org/officeDocument/2006/relationships/hyperlink" Target="file:///eco.jpg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SJlit.doc" TargetMode="External"/><Relationship Id="rId3" Type="http://schemas.openxmlformats.org/officeDocument/2006/relationships/hyperlink" Target="file:///doplit1.doc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:4505/F/?func=find-b%26local_base=KTD%26find_code=SYS%26request=000000993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dklad pro samostudium č.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oretické základy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ie SJ čerpá z několika různých oborů. Z nich nejvýznamnější je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. Pokud se budete chtít v této oblasti trošku orientovat, můžete (ale nemusíte) si přečíst publikac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Praha : Karolinum, 2001. 341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V každém případě si však určitě přečtěte alespoň vstupní pasáže této knihy na s. 13-32.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Pro vaše pohodlí je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ikládám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é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abyste je měli bezprostředně přístupné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inými knihami, které vás uvedenou do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lingvistik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jsou: 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[ERH01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PAL89]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AK84-kap.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nikající studijní pomůckou j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 tohoto slovníku jsem vybral hesla relevantní našemu předmětu, jsou uvedena v samostatném souboru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Jpojmylingv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– podívejte se, jestli je vám většina jasná, </a:t>
            </a:r>
            <a:r>
              <a:rPr b="0" lang="cs-CZ" sz="2400" spc="-1" strike="noStrike">
                <a:solidFill>
                  <a:srgbClr val="fd4633"/>
                </a:solidFill>
                <a:latin typeface="Tahoma"/>
              </a:rPr>
              <a:t>pokud ne, nahlédněte do slovníku (nebo jinam, to záleží na vás)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. Něco málo se ještě také dozvíte v této prezentac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ší oblastí, která podstatně přispívá k teorii SJ, je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émiotika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resp. někdy jinak též sémiologie). Někdy se chápe jako součást jazykovědy, někdy jako samostatná disciplína, každopádně si pamatujte, že je to obecná teorie znaků, resp. obecná nauka o znacích. Kdo se chce dozvědět více, může se podívat sem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CER0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OU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téměř samostatnou disciplínu se také rozrostla oblast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orie pojmu a reprezentace znalost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několik odkazů na odbornou literaturu najdete v základní i doplňkové literatuře (např.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AL74, 1.kap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UG93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PAT00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RIG96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, [DUZ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DAH92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. Zatím z toho moc číst nemusíte, budeme o tom v přijatelnější podobě mluvit na přednášká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 teorii SJ přispívají i další disciplíny, jako j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matematika a logika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de 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ás zajímá především teorie množin a kombinatori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psychologie a kognitivní vědy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které nám pomáhají pochopit různé věci, např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e myšlení a pamě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vznikají pojmy a jak jsou tvořeny znal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k fungují psychické mechanismy tvorby a chápání výpovědí, jak jsou v mysli uspořádány znalosti o jazyce (psycholingvistik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eoretické základy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40458c"/>
                </a:solidFill>
                <a:latin typeface="Tahoma"/>
              </a:rPr>
              <a:t>teorie vědy, věda o vědě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– zde jsou dvě podstatné oblasti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1) 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protože značná část naší profese spočívá ve zprostředkování vědeckých poznatků, je důležité vědět, jak tyto poznatky (a následně samozřejmě i dokumenty) vznikají a jakou mají strukturu a vlastnosti. K tomu viz blíže např.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02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nebo 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[TON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94</a:t>
            </a: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2) pro SJ nejzásadnější je klasifikace věd – jak obecná klasifikace věd, tak klasifikace (taxonomie, nomenklatura) v jednotlivých oborech.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Podívejte na server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Integrated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Taxonomic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Information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ystem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(ITIS), jak taková taxonomie vypadá, a přečtěte si heslo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Klasifikace vlastních jmen místních modelová 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v </a:t>
            </a:r>
            <a:r>
              <a:rPr b="0" i="1" lang="cs-CZ" sz="2200" spc="-1" strike="noStrike">
                <a:solidFill>
                  <a:srgbClr val="fd4633"/>
                </a:solidFill>
                <a:latin typeface="Tahoma"/>
              </a:rPr>
              <a:t>Encyklopedickém slovníku češtiny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, abyste zjistili, jak taková taxonomie vzniká (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řikládám </a:t>
            </a:r>
            <a:r>
              <a:rPr b="0" lang="cs-CZ" sz="22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naskenováno</a:t>
            </a:r>
            <a:r>
              <a:rPr b="0" lang="cs-CZ" sz="2200" spc="-1" strike="noStrike">
                <a:solidFill>
                  <a:srgbClr val="fd4633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gvistika – základní pojm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dalších přednáškách se neobejdete bez znalosti zejména těchto pojmů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, umělý jazyk, přirozený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díly mezi přirozeným a umělým (selekčním) jazykem najde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další straně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vník (lexiku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ka (syntax, morfologi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exikální séman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ny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puk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olysémie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cukrovk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omofona (výška/vížka), homografa (panický/panický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yn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k-kotouč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antonymie (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eplo x chla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yponymie (podř.: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lípa -&gt; stro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hyperonymie (nadř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om -&gt; lípa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kohyponymie (souř.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ípa, jasa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ozdíly mezi přirozeným a selekčním jazyk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a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jen 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implicitní vztahy pojm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tylov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fonetická/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(funkční)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šechny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lovesné katego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meta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52680" y="1752120"/>
            <a:ext cx="289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lekční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ymetr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komunikační funk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explicitní vztah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lučuje sty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pouze písemná slož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omezení redund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vybrané druhy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bez slovesných ka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není metajazyk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1752480"/>
            <a:ext cx="2895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40458c"/>
                </a:solidFill>
                <a:latin typeface="Arial"/>
              </a:rPr>
              <a:t>Poznámk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homonyma, synonyma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emoční, nařizovací,..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rod-druh, asociac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ublicist., vědecký styl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(IS s fon. vstupem)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substantiva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čas, vid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25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40458c"/>
                </a:solidFill>
                <a:latin typeface="Arial"/>
              </a:rPr>
              <a:t>plní přirozený jazyk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Lingvistika – základní pojmy </a:t>
            </a: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(pokr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jednotka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minimální posloupnost fonémů nebo grafémů, která je dále sémanticky nedělitelná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lovo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základní jazyková jednotka (vzhledem k formální a funkční různorodosti obtížně definovatelná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ousloví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lexikální jednotka, kterou lze morfologicky rozdělit na oddělené složky; skládá se ze základu a modifikátor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Lexikální význ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ant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azykový znak vyjadřující lexikální význam (kořen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nejmenší jednotka významu, k níž se dospívá sémantickou analýzou; neexistuje odpovídající formální jednotka v jazykovém systému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émém</a:t>
            </a: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– množina sémů; v jazykovém systému vyjádřen lexémem (lexikální jednotko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ém, sém, semém (příkl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mém (LJ): žena, dív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ém: žen-, dív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y (sématické rysy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+ znamená přítomnost rysu, - nepřítomnost rys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že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ív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ivotn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osobo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+ženskost/-mužsk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-dospěl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líčovou pomůckou pro pochopení vztahu tří důležitých pojmů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zna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pojmu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objek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je sémiotický, resp. sémantický trojúhelník. Schéma trojúhelníku a popis základních pojmů následuje,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vy se však ještě navíc zamyslete, jak může sémiotický trojúhelník souviset s teorií tří světů K. Poppe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ak postupov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jdříve si projděte celou tuto prezentaci a pak se teprve pusťte do studi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Sémiotický (sémantický) trojúhelní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26560" cy="314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jmy související se sémiotickým </a:t>
            </a:r>
            <a:r>
              <a:rPr b="0" lang="cs-CZ" sz="4000" spc="-1" strike="noStrike">
                <a:solidFill>
                  <a:srgbClr val="660066"/>
                </a:solidFill>
                <a:latin typeface="Webdings"/>
                <a:ea typeface="Webdings"/>
              </a:rPr>
              <a:t>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Znak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základní sémiotická jednotka chápaná jako třída smyslově vnímatelných signálů, které poukazují k témuž objektu, vlastnosti nebo stavu, resp. které je na základě konvence zastupují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Poje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- myšlenková konstrukce vzniklá abstrakcí na základě vlastností společných určité množině objektů; myšlenková představa určená svou intenzí (obsahem), tj. souhrnem podstatných charakteristik množiny denotátů, a extenzí (rozsahem), tj. množinou objektů (denotátů), kterou daný pojem zahrnuj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intenze (obsahu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extenze (rozsah pojmu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ýznam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pojmová hodnota, obsah jazykového znak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400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Smysl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– systém významových vztahů; způsob, jimž je předmět označený znakem „podán“ (Jitřenka/Večernice) (Frege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Tahoma"/>
              </a:rPr>
              <a:t>Pro diskusi o klasifikaci na příští přednášce si přečtěte pasáž z knihy...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fd4633"/>
                </a:solidFill>
                <a:latin typeface="Arial"/>
                <a:ea typeface="Arial"/>
              </a:rPr>
              <a:t>. Praha : Lidové noviny, 2001. 355 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...na s. 182-185 (kap. První náznaky organizace obsahu -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naskenováno</a:t>
            </a:r>
            <a:r>
              <a:rPr b="0" lang="cs-CZ" sz="2800" spc="-1" strike="noStrike">
                <a:solidFill>
                  <a:srgbClr val="fd4633"/>
                </a:solidFill>
                <a:latin typeface="Arial"/>
              </a:rPr>
              <a:t>) a zamyslete se, co je v nepořádku s </a:t>
            </a:r>
            <a:r>
              <a:rPr b="0" i="1" lang="cs-CZ" sz="2800" spc="-1" strike="noStrike">
                <a:solidFill>
                  <a:srgbClr val="fd4633"/>
                </a:solidFill>
                <a:latin typeface="Arial"/>
              </a:rPr>
              <a:t>Nebeským bazarem blahodárných poznatků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íjemné dny a na viděnou na přednášce 26.10.2007 (s denními) nebo 9.11.2007 (s kombinovaným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ato prezentace vás krok za krokem provede podklady, které jsem připravil pro vaše samostudiu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kud se chcete rychle zorientovat v předmětu, přečtěte si pro začátek tyto materiál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Vybrané pojmy z oblasti selekčních jazyků a věcného pořádání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ANDERSON, J.D. Organization of knowledge. In FEATHER, J., STURGES, P. (eds.). International Encyclopedia of Information and Library Science. 2nd ed. London : Routledge, 2003, s. 471-49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KOVÁŘ, B.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ěcné pořádání informací a selekční jazyky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Praha : ÚVTEI, 1984. 251 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amostudijní materiály mají prohloubit vaši orientaci v terminologii a teorii SJ, a to zejména s ohledem na základy SJ v lingvist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a vybrané pasáži z knihy U. Eca (viz dále) si také máte promyslet základní principy kategorizace a klasifika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amen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i přípravě materiálů jsem vyšel ze tří publikací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ČERMÁK, František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Jazyk a jazykověda : přehled a slovníky. 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Praha : Karolinum, 2001. 341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pasáž z knihy je součástí těchto podkladů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ncyklopedický slovník češtiny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 noviny, 2002.  604 s.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ECO, U. 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Hledání dokonalého jazyka v evropské kultuře</a:t>
            </a:r>
            <a:r>
              <a:rPr b="0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. Praha : Lidové noviny, 2001. 355 s.</a:t>
            </a:r>
            <a:r>
              <a:rPr b="0" i="1" lang="cs-CZ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Naskenovaná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pasáž z knihy je součástí těchto podkladů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amen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alší publikace jsou uvedeny přímo v textu této prezentace, a to kódem podle seznamu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základní 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bo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oplňkové literatury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TON96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znamená publikaci TONDL, Ladislav.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Mezi epistemologií a sémiotikou : deset studií o vztazích poznání a porozumění významu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Praha : Filosofia, 1996.  223 s.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dná-li se o doplňkovou literaturu, tyto publikace čtěte pouze v případě, pokud vás dané téma zaujme a budete se chtít dozvědět něco ví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o, co byste si měli přečíst nebo udělat (=je to povinné), je všude v prezentaci označeno </a:t>
            </a:r>
            <a:r>
              <a:rPr b="0" lang="cs-CZ" sz="3200" spc="-1" strike="noStrike">
                <a:solidFill>
                  <a:srgbClr val="fd4633"/>
                </a:solidFill>
                <a:latin typeface="Tahoma"/>
              </a:rPr>
              <a:t>červeně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akže teď už konečně k věci ;-), tzn. k tématu..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... TEORIE SELEKČNÍCH JAZYKŮ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ěco málo k terminolog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inologie je základním klíčem ke každému oboru. Pokud vás tato oblast zajímá a chtěli byste se jí věnovat hlouběji, můžete se podívat na publikace, které jsou věnován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ě lexikologii a lexikografii: [CEJ9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bo přímo terminologii a terminografii: [JUR02], [SCH03]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[MAC95]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ři základní pojmy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definice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jsou vysvětleny na další straně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0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ěco málo k terminologii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Termín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- jednoslovný nebo víceslovný výraz s jasně určeným pojmovým významem, který je opakovaně užíván v odborných textech. Pojem, který je termínem reprezentován, představuje nedělitelný sémantický celek a je možné jej zařadit do soustavy odborných názvů daného oboru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finic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přesné a jednoznačné vymezení významu termínu, které je závazné pro jeho další použití; pokud není termín užit v definovaném významu, jedná se o chybné použití termínu. Odborné názvosloví, ve kterém převažují termíny, jejichž význam je určen definicemi, je označováno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; patří sem většina odborného názvosloví z oblasti technických a přírodních věd, jehož termíny obvykle označují konkrétní entity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1" i="1" lang="cs-CZ" sz="1400" spc="-1" strike="noStrike">
                <a:solidFill>
                  <a:srgbClr val="40458c"/>
                </a:solidFill>
                <a:latin typeface="Tahoma"/>
              </a:rPr>
              <a:t>Interpolace – postup, jimž se přibližně určuje hodnota funkce f(x) v bodě x(a,b), jsou-li známy její hodnoty v jiných bodech intervalu (a,b)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ýklad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- vysvětlení významu termínu, který není jednoznačně definovatelný a je určen dohodou akceptovanou odborným společenstvím nebo který může ovlivněn hodnotícím stanoviskem určitého člověka nebo názorové školy. Terminologie, která užívá především výkladů, je označována jako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eskriptivní terminologie</a:t>
            </a: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 a patří k ní značná část terminologie sociálních a humanitních věd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ih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10-22T07:30:55Z</dcterms:modified>
  <cp:revision>248</cp:revision>
  <dc:subject/>
  <dc:title>Selekční jazyky</dc:title>
</cp:coreProperties>
</file>