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F21-BC71-4609-8ADA-97679CB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FD0-F343-40F4-8547-706D2483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8C6-6E01-416C-985E-1163D267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4C4-4A2C-4B0A-B3C5-268CDE9F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1357-DD00-441A-A6E4-9D20B115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190-1464-4FF4-ADF3-BC8DD494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B802-0A08-486D-B0BA-D75BE09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1613-6CE8-49A9-B448-D50B922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8563-EAF2-4338-99CA-CA4F1A6A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C661-8D34-47E0-9074-053AFCD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760D-C9F6-4796-9F68-39AC0751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A08-ED79-4660-9C44-0CE3EAF1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680-0030-4902-9EC7-C80A5E0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38A9-D0EA-47D1-85C4-8437A67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BF85-928B-4E07-83E8-C6CA0DB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CA3-8665-4E71-A582-322D8AE1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93FB-E25B-4EF4-834A-4EC0FEF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2D5-5839-4173-88A3-065D0F9F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5DA-1417-4162-B876-59917A68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86D-A3DA-4271-812B-B5CCF20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D22-E7C2-44D7-9F0F-4605305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2E8-D381-43F8-A3AC-CFDA226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909-518D-4BB3-B19F-19C1D09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1F6-B96B-489C-9566-AD5F3FC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C0F-B81F-49CC-8ED5-1EEF454E19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34A8-E4F2-4A15-9813-412326DEB1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cerm.jpg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pojmylingv.doc" TargetMode="External"/><Relationship Id="rId4" Type="http://schemas.openxmlformats.org/officeDocument/2006/relationships/hyperlink" Target="file:///SJpojmylingv.doc" TargetMode="External"/><Relationship Id="rId5" Type="http://schemas.openxmlformats.org/officeDocument/2006/relationships/hyperlink" Target="file:///SJpojmylingv.doc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tis.usda.gov/" TargetMode="External"/><Relationship Id="rId2" Type="http://schemas.openxmlformats.org/officeDocument/2006/relationships/hyperlink" Target="http://www.itis.usda.gov/" TargetMode="External"/><Relationship Id="rId3" Type="http://schemas.openxmlformats.org/officeDocument/2006/relationships/hyperlink" Target="http://www.itis.usda.gov/" TargetMode="External"/><Relationship Id="rId4" Type="http://schemas.openxmlformats.org/officeDocument/2006/relationships/hyperlink" Target="http://www.itis.usda.gov/" TargetMode="External"/><Relationship Id="rId5" Type="http://schemas.openxmlformats.org/officeDocument/2006/relationships/hyperlink" Target="http://www.itis.usda.gov/" TargetMode="External"/><Relationship Id="rId6" Type="http://schemas.openxmlformats.org/officeDocument/2006/relationships/hyperlink" Target="http://www.itis.usda.gov/" TargetMode="External"/><Relationship Id="rId7" Type="http://schemas.openxmlformats.org/officeDocument/2006/relationships/hyperlink" Target="http://www.itis.usda.gov/" TargetMode="External"/><Relationship Id="rId8" Type="http://schemas.openxmlformats.org/officeDocument/2006/relationships/hyperlink" Target="http://www.itis.usda.gov/" TargetMode="External"/><Relationship Id="rId9" Type="http://schemas.openxmlformats.org/officeDocument/2006/relationships/hyperlink" Target="file:///klas001.jpg" TargetMode="External"/><Relationship Id="rId10" Type="http://schemas.openxmlformats.org/officeDocument/2006/relationships/hyperlink" Target="file:///klas001.jpg" TargetMode="Externa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eco.jpg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zaklpojmy.doc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erm.jpg" TargetMode="External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eco.jpg" TargetMode="External"/><Relationship Id="rId5" Type="http://schemas.openxmlformats.org/officeDocument/2006/relationships/hyperlink" Target="file:///eco.jpg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SJlit.doc" TargetMode="External"/><Relationship Id="rId3" Type="http://schemas.openxmlformats.org/officeDocument/2006/relationships/hyperlink" Target="file:///doplit1.doc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:4505/F/?func=find-b%26local_base=KTD%26find_code=SYS%26request=000000993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dklad pro samostudium č.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oretické základy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ie SJ čerpá z několika různých oborů. Z nich nejvýznamnější je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. Pokud se budete chtít v této oblasti trošku orientovat, můžete (ale nemusíte) si přečíst publikac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Praha : Karolinum, 2001. 341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V každém případě si však určitě přečtěte alespoň vstupní pasáže této knihy na s. 13-32.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Pro vaše pohodlí je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ikládám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é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abyste je měli bezprostředně přístupné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inými knihami, které vás uvedenou do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jsou: 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[ERH01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PAL89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AK84-kap.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nikající studijní pomůckou j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 tohoto slovníku jsem vybral hesla relevantní našemu předmětu, jsou uvedena v samostatném souboru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Jpojmylingv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– podívejte se, jestli je vám většina jasná, </a:t>
            </a:r>
            <a:r>
              <a:rPr b="0" lang="cs-CZ" sz="2400" spc="-1" strike="noStrike">
                <a:solidFill>
                  <a:srgbClr val="fd4633"/>
                </a:solidFill>
                <a:latin typeface="Tahoma"/>
              </a:rPr>
              <a:t>pokud ne, nahlédněte do slovníku (nebo jinam, to záleží na vás)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. Něco málo se ještě také dozvíte v této prezentac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ší oblastí, která podstatně přispívá k teorii SJ, je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émiotika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resp. někdy jinak též sémiologie). Někdy se chápe jako součást jazykovědy, někdy jako samostatná disciplína, každopádně si pamatujte, že je to obecná teorie znaků, resp. obecná nauka o znacích. Kdo se chce dozvědět více, může se podívat sem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CER0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OU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téměř samostatnou disciplínu se také rozrostla oblast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orie pojmu a reprezentace znalost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několik odkazů na odbornou literaturu najdete v základní i doplňkové literatuře (např.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74, 1.kap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UG9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PAT00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RIG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[DUZ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AH9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. Zatím z toho moc číst nemusíte, budeme o tom v přijatelnější podobě mluvit na přednášká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 teorii SJ přispívají i další disciplíny, jako j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matematika a log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de 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ás zajímá především teorie množin a kombinatori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psychologie a kognitivní věd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které nám pomáhají pochopit různé věci, např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e myšlení a pamě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vznikají pojmy a jak jsou tvořeny znal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í psychické mechanismy tvorby a chápání výpovědí, jak jsou v mysli uspořádány znalosti o jazyce (psycholingvistik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0458c"/>
                </a:solidFill>
                <a:latin typeface="Tahoma"/>
              </a:rPr>
              <a:t>teorie vědy, věda o vědě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– zde jsou dvě podstatné oblasti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1)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protože značná část naší profese spočívá ve zprostředkování vědeckých poznatků, je důležité vědět, jak tyto poznatky (a následně samozřejmě i dokumenty) vznikají a jakou mají strukturu a vlastnosti. K tomu viz blíže např.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nebo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94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2) pro SJ nejzásadnější je klasifikace věd – jak obecná klasifikace věd, tak klasifikace (taxonomie, nomenklatura) v jednotlivých oborech.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Podívejte na server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Integrated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Taxonomic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Information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ystem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(ITIS), jak taková taxonomie vypadá, a přečtěte si heslo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Klasifikace vlastních jmen místních modelová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v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Encyklopedickém slovníku češtiny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, abyste zjistili, jak taková taxonomie vzniká (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řikládám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naskenováno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gvistika – základní pojm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dalších přednáškách se neobejdete bez znalosti zejména těchto pojmů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, umělý jazyk, přirozený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díly mezi přirozeným a umělým (selekčním) jazykem najde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další straně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vník (lexiku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ka (syntax, morfologi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exikální séman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ny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puk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olysé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cukrovk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omofona (výška/vížka), homografa (panický/panický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yn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k-kotouč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ant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eplo x chla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yponymie (podř.: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lípa -&gt; stro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hyperonymie (nadř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om -&gt; lípa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kohyponymie (souř.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ípa, jasa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ozdíly mezi přirozeným a selekčním jazyk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jen 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implicitní vztahy pojm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tylov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fonetická/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(funkční)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šechny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lovesné katego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meta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52680" y="1752120"/>
            <a:ext cx="289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lekční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explicitní vztah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lučuje sty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pouze 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omezení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brané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bez slovesných ka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ní metajazyk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1752480"/>
            <a:ext cx="2895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0458c"/>
                </a:solidFill>
                <a:latin typeface="Arial"/>
              </a:rPr>
              <a:t>Poznámk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homonyma, synonyma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emoční, nařizovací,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rod-druh, asociac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ublicist., vědecký styl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(IS s fon. vstupem)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substantiva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čas, vid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lní přirozený jazyk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Lingvistika – základní pojmy </a:t>
            </a: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(pokr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jednotka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minimální posloupnost fonémů nebo grafémů, která je dále sémanticky nedělitelná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lovo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základní jazyková jednotka (vzhledem k formální a funkční různorodosti obtížně definovatelná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ousloví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lexikální jednotka, kterou lze morfologicky rozdělit na oddělené složky; skládá se ze základu a modifikátor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význ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ant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azykový znak vyjadřující lexikální význam (kořen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ednotka významu, k níž se dospívá sémantickou analýzou; neexistuje odpovídající formální jednotka v jazykovém systém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množina sémů; v jazykovém systému vyjádřen lexémem (lexikální jednotko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ém, sém, semém (příkl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mém (LJ): žena, dív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ém: žen-, dív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y (sématické rysy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+ znamená přítomnost rysu, - nepřítomnost rys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ž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ív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-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líčovou pomůckou pro pochopení vztahu tří důležitých pojmů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zna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pojmu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objek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je sémiotický, resp. sémantický trojúhelník. Schéma trojúhelníku a popis základních pojmů následuje,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vy se však ještě navíc zamyslete, jak může sémiotický trojúhelník souviset s teorií tří světů K. Poppe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ak postupov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jdříve si projděte celou tuto prezentaci a pak se teprve pusťte do stud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26560" cy="314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jmy související se sémiotickým </a:t>
            </a:r>
            <a:r>
              <a:rPr b="0" lang="cs-CZ" sz="4000" spc="-1" strike="noStrike">
                <a:solidFill>
                  <a:srgbClr val="660066"/>
                </a:solidFill>
                <a:latin typeface="Webdings"/>
                <a:ea typeface="Webdings"/>
              </a:rPr>
              <a:t>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Znak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základní sémiotická jednotka chápaná jako třída smyslově vnímatelných signálů, které poukazují k témuž objektu, vlastnosti nebo stavu, resp. které je na základě konvence zastupují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Poje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- myšlenková konstrukce vzniklá abstrakcí na základě vlastností společných určité množině objektů; myšlenková představa určená svou intenzí (obsahem), tj. souhrnem podstatných charakteristik množiny denotátů, a extenzí (rozsahem), tj. množinou objektů (denotátů), kterou daný pojem zahrnuj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intenze (obsahu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extenze (rozsah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ýzna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pojmová hodnota, obsah jazykového znak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mysl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systém významových vztahů; způsob, jimž je předmět označený znakem „podán“ (Jitřenka/Večernice) (Freg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Pro diskusi o klasifikaci na příští přednášce si přečtěte pasáž z knihy..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. Praha : Lidové noviny, 2001. 355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...na s. 182-185 (kap. První náznaky organizace obsahu -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naskenováno</a:t>
            </a: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) a zamyslete se, co je v nepořádku s </a:t>
            </a:r>
            <a:r>
              <a:rPr b="0" i="1" lang="cs-CZ" sz="2800" spc="-1" strike="noStrike">
                <a:solidFill>
                  <a:srgbClr val="fd4633"/>
                </a:solidFill>
                <a:latin typeface="Arial"/>
              </a:rPr>
              <a:t>Nebeským bazarem blahodárných poznatků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íjemné dny a na viděnou na přednášce 26.10.2007 (s denními) nebo 9.11.2007 (s kombinovaným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ato prezentace vás krok za krokem provede podklady, které jsem připravil pro vaše samostudiu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kud se chcete rychle zorientovat v předmětu, přečtěte si pro začátek tyto materiál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Vybrané pojmy z oblasti selekčních jazyků a věcného pořádání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ANDERSON, J.D. Organization of knowledge. In FEATHER, J., STURGES, P. (eds.). International Encyclopedia of Information and Library Science. 2nd ed. London : Routledge, 2003, s. 471-49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KOVÁŘ, B.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ěcné pořádání informací a selekční jazyky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Praha : ÚVTEI, 1984. 251 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amostudijní materiály mají prohloubit vaši orientaci v terminologii a teorii SJ, a to zejména s ohledem na základy SJ v lingvist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a vybrané pasáži z knihy U. Eca (viz dále) si také máte promyslet základní principy kategorizace a klasifika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amen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i přípravě materiálů jsem vyšel ze tří publikací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Praha : Karolinum, 2001. 341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pasáž z knihy je součástí těchto podkladů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 noviny, 2001. 355 s.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pasáž z knihy je součástí těchto podkladů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amen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alší publikace jsou uvedeny přímo v textu této prezentace, a to kódem podle seznamu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základní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bo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oplňkové literatury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znamená publikaci TONDL, Ladislav.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Mezi epistemologií a sémiotikou : deset studií o vztazích poznání a porozumění významu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Praha : Filosofia, 1996.  223 s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dná-li se o doplňkovou literaturu, tyto publikace čtěte pouze v případě, pokud vás dané téma zaujme a budete se chtít dozvědět něco ví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o, co byste si měli přečíst nebo udělat (=je to povinné), je všude v prezentaci označeno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červeně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akže teď už konečně k věci ;-), tzn. k tématu..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.. TEORIE SELEKČNÍCH JAZYKŮ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ěco málo k terminolog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inologie je základním klíčem ke každému oboru. Pokud vás tato oblast zajímá a chtěli byste se jí věnovat hlouběji, můžete se podívat na publikace, které jsou věnován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ě lexikologii a lexikografii: [CEJ9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bo přímo terminologii a terminografii: [JUR02], [SCH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MAC95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ři základní pojmy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definice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jsou vysvětleny na další straně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ěco málo k terminologii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- jednoslovný nebo víceslovný výraz s jasně určeným pojmovým významem, který je opakovaně užíván v odborných textech. Pojem, který je termínem reprezentován, představuje nedělitelný sémantický celek a je možné jej zařadit do soustavy odborných názvů daného oboru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finic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přesné a jednoznačné vymezení významu termínu, které je závazné pro jeho další použití; pokud není termín užit v definovaném významu, jedná se o chybné použití termínu. Odborné názvosloví, ve kterém převažují termíny, jejichž význam je určen definicemi, je označováno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; patří sem většina odborného názvosloví z oblasti technických a přírodních věd, jehož termíny obvykle označují konkrétní entity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1" i="1" lang="cs-CZ" sz="1400" spc="-1" strike="noStrike">
                <a:solidFill>
                  <a:srgbClr val="40458c"/>
                </a:solidFill>
                <a:latin typeface="Tahoma"/>
              </a:rPr>
              <a:t>Interpolace – postup, jimž se přibližně určuje hodnota funkce f(x) v bodě x(a,b), jsou-li známy její hodnoty v jiných bodech intervalu (a,b)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vysvětlení významu termínu, který není jednoznačně definovatelný a je určen dohodou akceptovanou odborným společenstvím nebo který může ovlivněn hodnotícím stanoviskem určitého člověka nebo názorové školy. Terminologie, která užívá především výkladů, je označována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a patří k ní značná část terminologie sociálních a humanitních věd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ih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10-22T07:30:55Z</dcterms:modified>
  <cp:revision>248</cp:revision>
  <dc:subject/>
  <dc:title>Selekční jazyky</dc:title>
</cp:coreProperties>
</file>