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90160" y="878040"/>
            <a:ext cx="4473720" cy="31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80A-E5E5-44B1-B2AB-29216687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DF4-C95D-4C37-B989-1320825E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F9D-0C98-4E4D-A47C-30DDCBCE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324-A52C-43DC-BD60-6CDDF34F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A730-BCB2-45DF-81A6-94310AED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6EE3-76F2-4220-81A1-E92A0BBE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9B27-364E-4F8A-AE70-37BD0585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6CF5-17C6-4844-95C9-688FC33A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5C5C-52D3-42A8-9C57-B6D390F4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6205-496F-49AC-8482-3FDADF46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9F1B-2266-4B64-822F-B16CDEC5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27F-6D63-4908-AE1F-0F988018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97DE-47D4-4A9C-9D3A-41AB03DD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F31B-A9F1-40B0-B988-135B7712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4290-F594-437E-A897-03314059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D54E-2077-4B60-A0CF-225A604D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58A6-6D00-4B18-BACC-DFAB7177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A2C-5957-4038-8ACD-AF31415C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CA59-3CD8-4751-A9FB-B26800A2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B1D6-65DE-401B-ADE9-C9F10B74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52B-ADC2-46EE-A1C6-EE8E49AF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380-9D2B-41E5-87F8-93700802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F6E-8199-4519-9741-8E0914B7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2B9C-17F8-4152-8A72-B2C904E7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144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1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FDF8AF-1ABF-4924-8EC6-DE2AEDF614C9}" type="slidenum"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144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144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4AF1868-4583-4F6C-B1A9-3ACACE809FFF}" type="slidenum">
              <a:rPr b="0" lang="cs-CZ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isk.phil.muni.cz/mgr-silvie-korinkova-presova-dis" TargetMode="External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hwwilson.com/Documentation/WilsonWeb/searchrules.htm" TargetMode="External"/><Relationship Id="rId2" Type="http://schemas.openxmlformats.org/officeDocument/2006/relationships/hyperlink" Target="http://www.hwwilson.com/Documentation/WilsonWeb/searchrules.htm" TargetMode="External"/><Relationship Id="rId3" Type="http://schemas.openxmlformats.org/officeDocument/2006/relationships/hyperlink" Target="http://www.hwwilson.com/Documentation/WilsonWeb/searchrules.htm" TargetMode="External"/><Relationship Id="rId4" Type="http://schemas.openxmlformats.org/officeDocument/2006/relationships/hyperlink" Target="http://www.hwwilson.com/Documentation/WilsonWeb/searchrules.htm" TargetMode="External"/><Relationship Id="rId5" Type="http://schemas.openxmlformats.org/officeDocument/2006/relationships/hyperlink" Target="http://www.hwwilson.com/Documentation/WilsonWeb/searchrules.htm" TargetMode="External"/><Relationship Id="rId6" Type="http://schemas.openxmlformats.org/officeDocument/2006/relationships/hyperlink" Target="http://www.hwwilson.com/Documentation/WilsonWeb/searchrules.htm" TargetMode="External"/><Relationship Id="rId7" Type="http://schemas.openxmlformats.org/officeDocument/2006/relationships/hyperlink" Target="http://www.hwwilson.com/Documentation/WilsonWeb/searchrules.htm" TargetMode="External"/><Relationship Id="rId8" Type="http://schemas.openxmlformats.org/officeDocument/2006/relationships/hyperlink" Target="http://www.hwwilson.com/Documentation/WilsonWeb/searchrules.htm" TargetMode="External"/><Relationship Id="rId9" Type="http://schemas.openxmlformats.org/officeDocument/2006/relationships/hyperlink" Target="http://www.hwwilson.com/Documentation/WilsonWeb/searchrules.htm" TargetMode="External"/><Relationship Id="rId10" Type="http://schemas.openxmlformats.org/officeDocument/2006/relationships/hyperlink" Target="http://www.hwwilson.com/Documentation/WilsonWeb/searchrules.htm" TargetMode="External"/><Relationship Id="rId11" Type="http://schemas.openxmlformats.org/officeDocument/2006/relationships/hyperlink" Target="http://www.hwwilson.com/Documentation/WilsonWeb/searchrules.htm" TargetMode="External"/><Relationship Id="rId12" Type="http://schemas.openxmlformats.org/officeDocument/2006/relationships/hyperlink" Target="http://www.hwwilson.com/Documentation/WilsonWeb/searchrules.htm" TargetMode="External"/><Relationship Id="rId1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ibrary.muni.cz/ezdroje/abecedne.php?lang=cs" TargetMode="External"/><Relationship Id="rId2" Type="http://schemas.openxmlformats.org/officeDocument/2006/relationships/hyperlink" Target="http://sigma.nkp.cz/F" TargetMode="External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500040"/>
            <a:ext cx="78091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Georgia"/>
              </a:rPr>
              <a:t>Věcné vyhledávání pomocí věcných SJ</a:t>
            </a:r>
            <a:r>
              <a:rPr b="1" lang="cs-CZ" sz="4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50520" y="1979640"/>
            <a:ext cx="780876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edmět: Selekční jazy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1. 12.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ednášející: Mgr. Silvie Kořínková Pres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kisk.phil.muni.cz/mgr-silvie-korinkova-presova-d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5380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Georgia"/>
              </a:rPr>
              <a:t>Selekční jazyk - usnadňuje vyhledávání tím, že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280" y="1949400"/>
            <a:ext cx="832644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odstraňuje problémy se syntaxí - pří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yzkoušejte si vyhledat v katalogu NK ČR dokumenty týkající se </a:t>
            </a:r>
            <a:r>
              <a:rPr b="0" lang="cs-CZ" sz="2400" spc="-1" strike="noStrike">
                <a:solidFill>
                  <a:srgbClr val="0033cc"/>
                </a:solidFill>
                <a:latin typeface="Georgia"/>
              </a:rPr>
              <a:t>dovozu do České republiky z Nor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yzkoušejte si dotazy v poli Předmě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- dotaz 1 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„dovoz Česko“ „vývoz norsko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yzkoušejte si vyhledat v katalogu NK ČR dokumenty týkající se </a:t>
            </a:r>
            <a:r>
              <a:rPr b="0" lang="cs-CZ" sz="2400" spc="-1" strike="noStrike">
                <a:solidFill>
                  <a:srgbClr val="0033cc"/>
                </a:solidFill>
                <a:latin typeface="Georgia"/>
              </a:rPr>
              <a:t>vývozu z České republi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- dotaz 2 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vývoz Česko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versus dotaz 3 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„vývoz Česko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Selekční jazyk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1468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33cc"/>
                </a:solidFill>
                <a:latin typeface="Georgia"/>
              </a:rPr>
              <a:t>Při vyhodnocování relevantnosti výsledků vyhledávání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(řazení vyhledaných záznamů) </a:t>
            </a:r>
            <a:r>
              <a:rPr b="0" lang="cs-CZ" sz="2800" spc="-1" strike="noStrike">
                <a:solidFill>
                  <a:srgbClr val="00cc00"/>
                </a:solidFill>
                <a:latin typeface="Georgia"/>
              </a:rPr>
              <a:t>mají selekční jazyky větší váhu než slova přirozeného jazy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ROČ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řádací znak SJ byl přiřazen dokumentu na základě obsahové analýzy, z toho plyne indexace/postižení významného tématu, a to je pro vyhodnocení dotazu relevantnějš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cs-CZ" sz="2800" spc="-1" strike="noStrike">
                <a:solidFill>
                  <a:srgbClr val="00cc00"/>
                </a:solidFill>
                <a:latin typeface="Georgia"/>
              </a:rPr>
              <a:t>příklad: db LLIS: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www.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hwwilson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3"/>
              </a:rPr>
              <a:t>.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4"/>
              </a:rPr>
              <a:t>com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5"/>
              </a:rPr>
              <a:t>/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6"/>
              </a:rPr>
              <a:t>Documentation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7"/>
              </a:rPr>
              <a:t>/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8"/>
              </a:rPr>
              <a:t>WilsonWeb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9"/>
              </a:rPr>
              <a:t>/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10"/>
              </a:rPr>
              <a:t>searchrules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11"/>
              </a:rPr>
              <a:t>.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12"/>
              </a:rPr>
              <a:t>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1400" y="418680"/>
            <a:ext cx="78091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Selekční jazyk – slabé stránky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140000" y="1906560"/>
            <a:ext cx="43434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nedostatek specifi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OD - Online katalog Národní knihovny ČR - indexace pomocí S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00120" y="2085840"/>
            <a:ext cx="3179880" cy="4394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0000" y="4319640"/>
            <a:ext cx="4140000" cy="1870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879640" y="4500720"/>
            <a:ext cx="378000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933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Selekční jazyk – slabé stránky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12480" y="1263240"/>
            <a:ext cx="832644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33cc"/>
                </a:solidFill>
                <a:latin typeface="Georgia"/>
              </a:rPr>
              <a:t>není okamžitá aktualizace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– časová prodleva než je termín zahrnut do slovníku SJ, např. termín „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ontologie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“ (nástroj sémantického webu)“ v SV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MDT - 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sémantický web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- Není součástí hlavních tabul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Georgia"/>
              </a:rPr>
              <a:t>slova autora mohou být nesprávně interpretovaná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– nepochopení lá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Georgia"/>
              </a:rPr>
              <a:t>časové ztráty související s tvorbou, údržbou a osvojením si SJ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400" y="418680"/>
            <a:ext cx="78091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Selekční jazyk – slabé stránky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9400" y="630000"/>
            <a:ext cx="7770600" cy="62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některá témata mohou být při indexování opomenuta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– např. problematika vertik. portálů v db LIS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60360" y="3780000"/>
            <a:ext cx="75596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933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Selekční jazyk – slabé stránky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6520" y="1642680"/>
            <a:ext cx="8146800" cy="67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cc00"/>
                </a:solidFill>
                <a:latin typeface="Georgia"/>
              </a:rPr>
              <a:t> </a:t>
            </a: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chyby v indexaci zapříčiňují ztrá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8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0" lang="cs-CZ" sz="2600" spc="-1" strike="noStrike">
                <a:solidFill>
                  <a:srgbClr val="000080"/>
                </a:solidFill>
                <a:latin typeface="Georgia"/>
              </a:rPr>
              <a:t>rešeršéři se musí učit selekční jazy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nekompatibilita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– znesnadnění paralel. vyhledávání,</a:t>
            </a: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bariéra snadné výmě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různé pořádací znaky označující jeden pojem pojem - např. označní pro </a:t>
            </a:r>
            <a:r>
              <a:rPr b="0" i="1" lang="cs-CZ" sz="2200" spc="-1" strike="noStrike">
                <a:solidFill>
                  <a:srgbClr val="ff0000"/>
                </a:solidFill>
                <a:latin typeface="Georgia"/>
              </a:rPr>
              <a:t>věcné SJ 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8000"/>
                </a:solidFill>
                <a:latin typeface="Georgia"/>
              </a:rPr>
              <a:t>db LLIS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cs-CZ" sz="2200" spc="-1" strike="noStrike">
                <a:solidFill>
                  <a:srgbClr val="ff0000"/>
                </a:solidFill>
                <a:latin typeface="Georgia"/>
              </a:rPr>
              <a:t>Indexing vocabularies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Used for: Controlled vocabulary; Descriptors; Index languages, Index terms; Indexing languages; Vocabulary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8000"/>
                </a:solidFill>
                <a:latin typeface="Georgia"/>
              </a:rPr>
              <a:t>db LISA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cs-CZ" sz="2200" spc="-1" strike="noStrike">
                <a:solidFill>
                  <a:srgbClr val="ff0000"/>
                </a:solidFill>
                <a:latin typeface="Georgia"/>
              </a:rPr>
              <a:t>Controlled vocabulary</a:t>
            </a: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, </a:t>
            </a:r>
            <a:r>
              <a:rPr b="0" i="1" lang="cs-CZ" sz="2200" spc="-1" strike="noStrike">
                <a:solidFill>
                  <a:srgbClr val="ff0000"/>
                </a:solidFill>
                <a:latin typeface="Georgia"/>
              </a:rPr>
              <a:t>Index languages</a:t>
            </a: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,  </a:t>
            </a:r>
            <a:r>
              <a:rPr b="0" i="1" lang="cs-CZ" sz="2200" spc="-1" strike="noStrike">
                <a:solidFill>
                  <a:srgbClr val="ff0000"/>
                </a:solidFill>
                <a:latin typeface="Georgia"/>
              </a:rPr>
              <a:t>Retrieval languages</a:t>
            </a:r>
            <a:r>
              <a:rPr b="0" lang="cs-CZ" sz="2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anglická literatura - notace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820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(DDC) X notace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R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(LCC) X notace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821.111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(MD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Georgia"/>
              </a:rPr>
              <a:t>Odlišný zkušenostní rámec indexátora a uživatele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21286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33cc33"/>
                </a:solidFill>
                <a:latin typeface="Georgia"/>
              </a:rPr>
              <a:t>Uživatel popisuje něco, co nezná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cs-CZ" sz="2600" spc="-1" strike="noStrike">
                <a:solidFill>
                  <a:srgbClr val="0033cc"/>
                </a:solidFill>
                <a:latin typeface="Georgia"/>
              </a:rPr>
              <a:t>Na druhé straně indexátor má dokument v ruce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, „všechno je před ním“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Indexátor by měl zkoušet předvídat, podle jakých termínů budou vyhledávat uživatelé. </a:t>
            </a:r>
            <a:r>
              <a:rPr b="1" lang="cs-CZ" sz="2600" spc="-1" strike="noStrike">
                <a:solidFill>
                  <a:srgbClr val="000000"/>
                </a:solidFill>
                <a:latin typeface="Georgia"/>
              </a:rPr>
              <a:t>Jakou informaci jim daný dokument poskytne, že povede k uspokojení jejich informační potřeb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Georgia"/>
              </a:rPr>
              <a:t>Odlišný zkušenostní rámec indexátora a uživatele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280" y="1949040"/>
            <a:ext cx="814716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dexátoři neindexují dokumenty takovým způsobem, aby zachytili nekonečně mnoho rozmanitých dotaz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33cc"/>
                </a:solidFill>
                <a:latin typeface="Georgia"/>
              </a:rPr>
              <a:t>Většinou jsou indexována hlavní a dílčí témata, tj. what is in the rec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9900"/>
                </a:solidFill>
                <a:latin typeface="Georgi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9900"/>
                </a:solidFill>
                <a:latin typeface="Georgia"/>
                <a:ea typeface="Times New Roman"/>
              </a:rPr>
              <a:t>Nekone</a:t>
            </a:r>
            <a:r>
              <a:rPr b="0" lang="cs-CZ" sz="2400" spc="-1" strike="noStrike">
                <a:solidFill>
                  <a:srgbClr val="ff9900"/>
                </a:solidFill>
                <a:latin typeface="Georgia"/>
              </a:rPr>
              <a:t>č</a:t>
            </a:r>
            <a:r>
              <a:rPr b="0" lang="cs-CZ" sz="2400" spc="-1" strike="noStrike">
                <a:solidFill>
                  <a:srgbClr val="ff9900"/>
                </a:solidFill>
                <a:latin typeface="Georgia"/>
                <a:ea typeface="Times New Roman"/>
              </a:rPr>
              <a:t>n</a:t>
            </a:r>
            <a:r>
              <a:rPr b="0" lang="cs-CZ" sz="2400" spc="-1" strike="noStrike">
                <a:solidFill>
                  <a:srgbClr val="ff9900"/>
                </a:solidFill>
                <a:latin typeface="Georgia"/>
              </a:rPr>
              <a:t>ě</a:t>
            </a:r>
            <a:r>
              <a:rPr b="0" lang="cs-CZ" sz="2400" spc="-1" strike="noStrike">
                <a:solidFill>
                  <a:srgbClr val="ff9900"/>
                </a:solidFill>
                <a:latin typeface="Georgia"/>
                <a:ea typeface="Times New Roman"/>
              </a:rPr>
              <a:t> mnoho dotaz</a:t>
            </a:r>
            <a:r>
              <a:rPr b="0" lang="cs-CZ" sz="2400" spc="-1" strike="noStrike">
                <a:solidFill>
                  <a:srgbClr val="ff9900"/>
                </a:solidFill>
                <a:latin typeface="Georgia"/>
              </a:rPr>
              <a:t>ů</a:t>
            </a:r>
            <a:r>
              <a:rPr b="0" lang="cs-CZ" sz="2400" spc="-1" strike="noStrike">
                <a:solidFill>
                  <a:srgbClr val="ff9900"/>
                </a:solidFill>
                <a:latin typeface="Georgia"/>
                <a:ea typeface="Times New Roman"/>
              </a:rPr>
              <a:t> m</a:t>
            </a:r>
            <a:r>
              <a:rPr b="0" lang="cs-CZ" sz="2400" spc="-1" strike="noStrike">
                <a:solidFill>
                  <a:srgbClr val="ff9900"/>
                </a:solidFill>
                <a:latin typeface="Georgia"/>
              </a:rPr>
              <a:t>ůž</a:t>
            </a:r>
            <a:r>
              <a:rPr b="0" lang="cs-CZ" sz="2400" spc="-1" strike="noStrike">
                <a:solidFill>
                  <a:srgbClr val="ff9900"/>
                </a:solidFill>
                <a:latin typeface="Georgia"/>
                <a:ea typeface="Times New Roman"/>
              </a:rPr>
              <a:t>e být uspokojeno dokumentem</a:t>
            </a:r>
            <a:r>
              <a:rPr b="0" lang="cs-CZ" sz="2400" spc="-1" strike="noStrike">
                <a:solidFill>
                  <a:srgbClr val="ff99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Jde o úhel pohledu - </a:t>
            </a:r>
            <a:r>
              <a:rPr b="0" lang="cs-CZ" sz="2400" spc="-1" strike="noStrike">
                <a:solidFill>
                  <a:srgbClr val="0033cc"/>
                </a:solidFill>
                <a:latin typeface="Georgia"/>
              </a:rPr>
              <a:t>document-oriented approach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x </a:t>
            </a:r>
            <a:r>
              <a:rPr b="0" lang="cs-CZ" sz="2400" spc="-1" strike="noStrike">
                <a:solidFill>
                  <a:srgbClr val="ff9900"/>
                </a:solidFill>
                <a:latin typeface="Georgia"/>
              </a:rPr>
              <a:t>user-centered index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Georgia"/>
              </a:rPr>
              <a:t>Formulace dotazu pomocí SJ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0000" y="1733040"/>
            <a:ext cx="828036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33cc"/>
                </a:solidFill>
                <a:latin typeface="Georgia"/>
              </a:rPr>
              <a:t>Př</a:t>
            </a:r>
            <a:r>
              <a:rPr b="0" lang="cs-CZ" sz="2200" spc="-1" strike="noStrike">
                <a:solidFill>
                  <a:srgbClr val="0033cc"/>
                </a:solidFill>
                <a:latin typeface="Georgia"/>
                <a:ea typeface="Times New Roman"/>
              </a:rPr>
              <a:t>evedení na pořádací znaky </a:t>
            </a:r>
            <a:r>
              <a:rPr b="0" lang="cs-CZ" sz="2200" spc="-1" strike="noStrike">
                <a:solidFill>
                  <a:srgbClr val="0033cc"/>
                </a:solidFill>
                <a:latin typeface="Georgia"/>
              </a:rPr>
              <a:t>věcného S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Odvíjí se od schopnosti rešeršéra pracovat s věcným SJ (ale mnohé rešeršní systémy nabízejí řízené termíny po zadání prvního dotaz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Převod může mít různé podo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Georgia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termín v seznamu je shodný s řízeným termín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Georgia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termín v seznamu je synonymem/ekvivalentem – více ekvivalentů – výběr významově shodného řízeného 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Georgia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pro termín v seznamu existuje pouze širší termín SJ – ztráta specifičnosti původního termínu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např. </a:t>
            </a: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v LLIS nelze vyjádřit vertik. portá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Georgia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pro termín v seznamu existují pouze specifičtější/podřazené  termíny SJ – rozsah původního termínu je redukován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např. </a:t>
            </a: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v SVA – nelze vyjádřit - organizace poznání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4440" y="2225520"/>
            <a:ext cx="718920" cy="18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Georgia"/>
              </a:rPr>
              <a:t>Přirozený</a:t>
            </a:r>
            <a:r>
              <a:rPr b="1" lang="cs-CZ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cs-CZ" sz="3800" spc="-1" strike="noStrike">
                <a:solidFill>
                  <a:srgbClr val="000000"/>
                </a:solidFill>
                <a:latin typeface="Georgia"/>
              </a:rPr>
              <a:t>jazyk - výhody</a:t>
            </a:r>
            <a:endParaRPr b="1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120" y="1776240"/>
            <a:ext cx="8099640" cy="55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cc00"/>
                </a:solidFill>
                <a:latin typeface="Georgia"/>
              </a:rPr>
              <a:t>vysoká specifičnost ovlivňuje pozitivně přesnost -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apř. vlastní jména (osob, institucí apod.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33cc"/>
                </a:solidFill>
                <a:latin typeface="Georgia"/>
              </a:rPr>
              <a:t>schopnost vyčerpávajícím způsobem pokrýt téma, zvyšuje úplnost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- neplatí u neanotovaných záznamů, zejména tam, kde je zahrnut abstrakt a 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aktualizace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– nové termíny jsou okamžitě dostupn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9900"/>
                </a:solidFill>
                <a:latin typeface="Georgia"/>
              </a:rPr>
              <a:t>slova užitá autorem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– nemůže dojít k dezinterpretaci indexát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33cc"/>
                </a:solidFill>
                <a:latin typeface="Georgia"/>
              </a:rPr>
              <a:t>snadnější výměna materiálu mezi databázemi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– jazyková neslučitelnost odstraně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cc00"/>
                </a:solidFill>
                <a:latin typeface="Georgia"/>
              </a:rPr>
              <a:t>není třeba se jazyku učit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(rodilý mluvčí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Úvod do věcného vyhledávání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0360" y="1440000"/>
            <a:ext cx="8640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věcné vyhledávání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- ang. ekv. - subject searc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tj. vyhledávání, kdy uživatel/rešeršér usiluje o nalezení dokumentů k určitému tématu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X</a:t>
            </a:r>
            <a:r>
              <a:rPr b="0" lang="cs-CZ" sz="2600" spc="-1" strike="noStrike">
                <a:solidFill>
                  <a:srgbClr val="000080"/>
                </a:solidFill>
                <a:latin typeface="Georgia"/>
              </a:rPr>
              <a:t> Uživatel ví, jaký dokument hledá, zná např. autora, část titulu ap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Jeden z klíčových problémů při vyhledávání v rešeršních systémech: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Georgia"/>
              </a:rPr>
              <a:t>Jaké vyhledávací výrazy by měly být vybrány pro formulaci dotazu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Georgia"/>
              </a:rPr>
              <a:t>Odkud by měly být termíny vybrán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20720" y="5580000"/>
            <a:ext cx="1440000" cy="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1933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Přirozený jazyk – slabé stránky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990440"/>
            <a:ext cx="846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cc00"/>
                </a:solidFill>
                <a:latin typeface="Georgia"/>
              </a:rPr>
              <a:t>intelektuální úsilí rešeršéra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– problém související se synonymy (formulace dílčích dotazů) a homonymy (nutnost uvedení do kontex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problémy se syntaxí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– nesprávné spojení termínů, asociace – řešení pomocí proximitních oper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33cc"/>
                </a:solidFill>
                <a:latin typeface="Georgia"/>
              </a:rPr>
              <a:t>schopnost vyčerpávajícím způsobem pokrýt téma může vést ke ztrátě přesnosti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9900"/>
                </a:solidFill>
                <a:latin typeface="Georgia"/>
              </a:rPr>
              <a:t>odlišná terminologie u jednotlivých au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1933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Doporučená a použitá literatura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280" y="1619280"/>
            <a:ext cx="81327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Aitchison, J.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Thesaurus construction and use : a practical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manual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. London : Aslib, 2000. Kapitola B1, </a:t>
            </a:r>
            <a:r>
              <a:rPr b="0" i="1" lang="cs-CZ" sz="2000" spc="-1" strike="noStrike">
                <a:solidFill>
                  <a:srgbClr val="33cc33"/>
                </a:solidFill>
                <a:latin typeface="Georgia"/>
              </a:rPr>
              <a:t>Is a thesaurus necessary?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, s. 5-7. ISBN 085142446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Bates. </a:t>
            </a:r>
            <a:r>
              <a:rPr b="0" lang="cs-CZ" sz="2000" spc="-1" strike="noStrike">
                <a:solidFill>
                  <a:srgbClr val="33cc33"/>
                </a:solidFill>
                <a:latin typeface="Georgia"/>
              </a:rPr>
              <a:t>Indexing and Access for Digital Libraries and the Internet : Human, Database, and Domain Factors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Journal of the American Society for Information Science and Technology.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1998, roč. 49, č. 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Chu, H. 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Information representation and retrieval in the digital age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. Medford : Information Today, 2007. Kapitola 4, </a:t>
            </a:r>
            <a:r>
              <a:rPr b="0" i="1" lang="cs-CZ" sz="2000" spc="-1" strike="noStrike">
                <a:solidFill>
                  <a:srgbClr val="33cc33"/>
                </a:solidFill>
                <a:latin typeface="Georgia"/>
              </a:rPr>
              <a:t>Language in Information Representation and Retrieval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, s. 47-5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oo, D. C. C.; Khoo, C. S. G. </a:t>
            </a:r>
            <a:r>
              <a:rPr b="0" lang="cs-CZ" sz="2000" spc="-1" strike="noStrike">
                <a:solidFill>
                  <a:srgbClr val="00ae00"/>
                </a:solidFill>
                <a:latin typeface="Georgia"/>
              </a:rPr>
              <a:t>Online Catalog Subject Searching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. In 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Encyclopedia of Library and Information Science 1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[online]. 2005, č. 1 [cit. 2007-02-27]. Dostupné na World Wide Web: http://www.dekker.com/sdek/abstract~db=enc~content=a7135319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pink, A., et. al. </a:t>
            </a:r>
            <a:r>
              <a:rPr b="0" lang="cs-CZ" sz="2000" spc="-1" strike="noStrike">
                <a:solidFill>
                  <a:srgbClr val="00cc00"/>
                </a:solidFill>
                <a:latin typeface="Georgia"/>
              </a:rPr>
              <a:t>Interaction in information retrieval : selection and effectiveness of search terms.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Journal of the American Society for Information Science,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1997, roč. 48, č. 8, s. 741-6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eorgia"/>
              </a:rPr>
              <a:t>Úvod do věcného vyhledávání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12480" y="1800360"/>
            <a:ext cx="8326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Věcné vyhledávání lze realiz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33cc"/>
                </a:solidFill>
                <a:latin typeface="Georgia"/>
              </a:rPr>
              <a:t>pomocí pořádacích znaků věcných SJ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– deskriptorů, předmětových hesel, klasifikačních zna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33cc"/>
                </a:solidFill>
                <a:latin typeface="Georgia"/>
              </a:rPr>
              <a:t>pomocí přirozené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 praxi se doporučuje kombinovat vyhledávání pomocí přirozeného jazyka i pomocí věcného SJ – obojí v konkrétních případech přispívá ke zlepšení přes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a úpl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-36360"/>
            <a:ext cx="7772400" cy="17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Georgia"/>
                <a:ea typeface="Times New Roman"/>
              </a:rPr>
              <a:t>Efektivní v</a:t>
            </a:r>
            <a:r>
              <a:rPr b="1" lang="cs-CZ" sz="3600" spc="-1" strike="noStrike">
                <a:solidFill>
                  <a:srgbClr val="000000"/>
                </a:solidFill>
                <a:latin typeface="Georgia"/>
              </a:rPr>
              <a:t>ě</a:t>
            </a:r>
            <a:r>
              <a:rPr b="1" lang="cs-CZ" sz="3600" spc="-1" strike="noStrike">
                <a:solidFill>
                  <a:srgbClr val="000000"/>
                </a:solidFill>
                <a:latin typeface="Georgia"/>
                <a:ea typeface="Times New Roman"/>
              </a:rPr>
              <a:t>cné vyhledávání vy</a:t>
            </a:r>
            <a:r>
              <a:rPr b="1" lang="cs-CZ" sz="3600" spc="-1" strike="noStrike">
                <a:solidFill>
                  <a:srgbClr val="000000"/>
                </a:solidFill>
                <a:latin typeface="Georgia"/>
              </a:rPr>
              <a:t>ž</a:t>
            </a:r>
            <a:r>
              <a:rPr b="1" lang="cs-CZ" sz="3600" spc="-1" strike="noStrike">
                <a:solidFill>
                  <a:srgbClr val="000000"/>
                </a:solidFill>
                <a:latin typeface="Georgia"/>
                <a:ea typeface="Times New Roman"/>
              </a:rPr>
              <a:t>aduje následující druhy znalostí:</a:t>
            </a:r>
            <a:r>
              <a:rPr b="1" lang="cs-CZ" sz="3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1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800000"/>
            <a:ext cx="84600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Znalost polí, které mohou být pro vyhledávání využity a jejich charakteristi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Znalost věcného SJ, který systém využív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Znalost strategií, kde a jak je apliko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Znalost vyhledávacích možností systému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a jak je použí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Znalost téma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Poo,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Georgia"/>
                <a:ea typeface="Times New Roman"/>
              </a:rPr>
              <a:t>Efektivní v</a:t>
            </a:r>
            <a:r>
              <a:rPr b="1" lang="cs-CZ" sz="3600" spc="-1" strike="noStrike">
                <a:solidFill>
                  <a:srgbClr val="000000"/>
                </a:solidFill>
                <a:latin typeface="Georgia"/>
              </a:rPr>
              <a:t>ě</a:t>
            </a:r>
            <a:r>
              <a:rPr b="1" lang="cs-CZ" sz="3600" spc="-1" strike="noStrike">
                <a:solidFill>
                  <a:srgbClr val="000000"/>
                </a:solidFill>
                <a:latin typeface="Georgia"/>
                <a:ea typeface="Times New Roman"/>
              </a:rPr>
              <a:t>cné vyhledávání vy</a:t>
            </a:r>
            <a:r>
              <a:rPr b="1" lang="cs-CZ" sz="3600" spc="-1" strike="noStrike">
                <a:solidFill>
                  <a:srgbClr val="000000"/>
                </a:solidFill>
                <a:latin typeface="Georgia"/>
              </a:rPr>
              <a:t>ž</a:t>
            </a:r>
            <a:r>
              <a:rPr b="1" lang="cs-CZ" sz="3600" spc="-1" strike="noStrike">
                <a:solidFill>
                  <a:srgbClr val="000000"/>
                </a:solidFill>
                <a:latin typeface="Georgia"/>
                <a:ea typeface="Times New Roman"/>
              </a:rPr>
              <a:t>aduje následující druhy znalostí:</a:t>
            </a:r>
            <a:r>
              <a:rPr b="1" lang="cs-CZ" sz="3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1" lang="en-US" sz="3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1800000"/>
            <a:ext cx="84600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Znalost toho, jak převést informační požadavek na informační dotaz.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Poo,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říkl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Informační požadave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yužití kreativního psaní v psychoterapii či pro zlepšení duševního zdrav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80"/>
                </a:solidFill>
                <a:latin typeface="Georgia"/>
              </a:rPr>
              <a:t>Informační dotaz v systému Aleph M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WSU = ( tvůrčí psaní ) AND WSU = ( psychoterapie OR duševní zdraví OR psychohygien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5380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Georgia"/>
              </a:rPr>
              <a:t>Selekční jazyk - usnadňuje vyhledávání tím, že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6200" y="1800000"/>
            <a:ext cx="853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 </a:t>
            </a:r>
            <a:r>
              <a:rPr b="0" lang="cs-CZ" sz="2200" spc="-1" strike="noStrike">
                <a:solidFill>
                  <a:srgbClr val="00cc00"/>
                </a:solidFill>
                <a:latin typeface="Georgia"/>
              </a:rPr>
              <a:t>umožňuje kontrolovat synonyma a kvazisynonyma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</a:rPr>
              <a:t>tím zvyšuje úplnost - vyhledání relevantních informací v databázi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)</a:t>
            </a:r>
            <a:br>
              <a:rPr sz="2200"/>
            </a:br>
            <a:r>
              <a:rPr b="0" lang="cs-CZ" sz="2200" spc="-1" strike="noStrike" u="sng">
                <a:solidFill>
                  <a:srgbClr val="000000"/>
                </a:solidFill>
                <a:uFillTx/>
                <a:latin typeface="Georgia"/>
              </a:rPr>
              <a:t>např.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v hesláři databáze </a:t>
            </a: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LLIS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Indexing vocabularies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Used for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: Controlled vocabulary; Descriptors; Index languages; Index terms; Indexing languages; Vocabulary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Vyhledávání pomocí znaků SJ - stačí jeden termín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Indexing vocabularies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Vyhledávání pomocí neřízených termínů - k zajíštění úplnosti je nutné zohlednit více variant - (index? languag?) OR (controlled vocabular?) OR (index term?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0" lang="cs-CZ" sz="2200" spc="-1" strike="noStrike">
                <a:solidFill>
                  <a:srgbClr val="0033cc"/>
                </a:solidFill>
                <a:latin typeface="Georgia"/>
              </a:rPr>
              <a:t>umožňuje rozlišit homonyma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, kvalifikátor v závorce (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</a:rPr>
              <a:t>tím zlepšuje přesnost - vyloučení irelevantních výsledků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)  </a:t>
            </a:r>
            <a:br>
              <a:rPr sz="2200"/>
            </a:br>
            <a:r>
              <a:rPr b="0" lang="cs-CZ" sz="2200" spc="-1" strike="noStrike" u="sng">
                <a:solidFill>
                  <a:srgbClr val="000000"/>
                </a:solidFill>
                <a:uFillTx/>
                <a:latin typeface="Georgia"/>
              </a:rPr>
              <a:t>např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cs-CZ" sz="22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Soubor věcných autorit NK ČR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SVA) 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</a:rPr>
              <a:t>postmodernismus (literatura), postmodernismus (kultura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5380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Georgia"/>
              </a:rPr>
              <a:t>Selekční jazyk - usnadňuje vyhledávání tím, že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914120"/>
            <a:ext cx="79790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6633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cs-CZ" sz="2200" spc="-1" strike="noStrike">
                <a:solidFill>
                  <a:srgbClr val="ff9900"/>
                </a:solidFill>
                <a:latin typeface="Georgia"/>
                <a:ea typeface="Georgia"/>
              </a:rPr>
              <a:t> </a:t>
            </a:r>
            <a:r>
              <a:rPr b="0" lang="cs-CZ" sz="2200" spc="-1" strike="noStrike">
                <a:solidFill>
                  <a:srgbClr val="ff9900"/>
                </a:solidFill>
                <a:latin typeface="Georgia"/>
                <a:ea typeface="Georgia"/>
              </a:rPr>
              <a:t>poskytuje vysvětlující poznámky </a:t>
            </a:r>
            <a:br>
              <a:rPr sz="2200"/>
            </a:br>
            <a:r>
              <a:rPr b="0" lang="cs-CZ" sz="2200" spc="-1" strike="noStrike" u="sng">
                <a:solidFill>
                  <a:srgbClr val="000000"/>
                </a:solidFill>
                <a:uFillTx/>
                <a:latin typeface="Georgia"/>
                <a:ea typeface="Georgia"/>
              </a:rPr>
              <a:t>např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Georgia"/>
              </a:rPr>
              <a:t>. v tezauru db LISA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Georgia"/>
              </a:rPr>
              <a:t>Information retrieval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Georgia"/>
              </a:rPr>
              <a:t> [+]  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Georgia"/>
              </a:rPr>
              <a:t>Very general - avoid if possible,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Georgia"/>
              </a:rPr>
              <a:t> v SVA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Georgia"/>
              </a:rPr>
              <a:t>Informační věda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Georgia"/>
              </a:rPr>
              <a:t> - 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Georgia"/>
              </a:rPr>
              <a:t>Teoreticko-praktický interdisciplinární vědní obor zaměřený na výzkum a zabezpečení informačně-komunikačních procesů ve společnos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Georgia"/>
              </a:rPr>
              <a:t>zobrazuje vztahy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– hierarchické, asociace, ekvivalence – využití při specifikaci či zobecnění dotazu</a:t>
            </a:r>
            <a:br>
              <a:rPr sz="2400"/>
            </a:br>
            <a:r>
              <a:rPr b="0" lang="cs-CZ" sz="2400" spc="-1" strike="noStrike" u="sng">
                <a:solidFill>
                  <a:srgbClr val="000000"/>
                </a:solidFill>
                <a:uFillTx/>
                <a:latin typeface="Georgia"/>
              </a:rPr>
              <a:t>např.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v db </a:t>
            </a:r>
            <a:r>
              <a:rPr b="0" lang="cs-CZ" sz="2400" spc="-1" strike="noStrike">
                <a:solidFill>
                  <a:srgbClr val="800000"/>
                </a:solidFill>
                <a:latin typeface="Georgia"/>
              </a:rPr>
              <a:t>LISA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hledáme </a:t>
            </a:r>
            <a:r>
              <a:rPr b="0" lang="cs-CZ" sz="2400" spc="-1" strike="noStrike">
                <a:solidFill>
                  <a:srgbClr val="0033cc"/>
                </a:solidFill>
                <a:latin typeface="Georgia"/>
              </a:rPr>
              <a:t>články o vertikálních  portál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29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deskriptor 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</a:rPr>
              <a:t>Vortals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, možnost rozšířit výsledek vyhledávání pomocí nadřazeného deskriptoru 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</a:rPr>
              <a:t>Portals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5380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Georgia"/>
              </a:rPr>
              <a:t>Selekční jazyk - usnadňuje vyhledávání tím, že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61680" y="1618920"/>
            <a:ext cx="79786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Georgia"/>
              </a:rPr>
              <a:t> </a:t>
            </a:r>
            <a:r>
              <a:rPr b="0" lang="cs-CZ" sz="2600" spc="-1" strike="noStrike">
                <a:solidFill>
                  <a:srgbClr val="990033"/>
                </a:solidFill>
                <a:latin typeface="Georgia"/>
              </a:rPr>
              <a:t>vyjadřuje termíny, které nejsou obsaženy v zázna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Georgia"/>
              </a:rPr>
              <a:t>např.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v </a:t>
            </a:r>
            <a:r>
              <a:rPr b="0" lang="cs-CZ" sz="2600" spc="-1" strike="noStrike">
                <a:solidFill>
                  <a:srgbClr val="800000"/>
                </a:solidFill>
                <a:latin typeface="Georgia"/>
              </a:rPr>
              <a:t>LLIS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např Zhang Qiyu. </a:t>
            </a:r>
            <a:r>
              <a:rPr b="0" lang="cs-CZ" sz="2600" spc="-1" strike="noStrike">
                <a:solidFill>
                  <a:srgbClr val="000080"/>
                </a:solidFill>
                <a:latin typeface="Georgia"/>
              </a:rPr>
              <a:t>Term selection: the key to successful indexing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. The Indexer, 2009, v. 27, no. 3, s. 98-100. v SOD </a:t>
            </a:r>
            <a:r>
              <a:rPr b="0" lang="cs-CZ" sz="2600" spc="-1" strike="noStrike">
                <a:solidFill>
                  <a:srgbClr val="000080"/>
                </a:solidFill>
                <a:latin typeface="Georgia"/>
              </a:rPr>
              <a:t>Indexing vocabularies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5380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Georgia"/>
              </a:rPr>
              <a:t>Selekční jazyk - usnadňuje vyhledávání tím, že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12480" y="1949400"/>
            <a:ext cx="832644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45000"/>
              <a:buFont typeface="Wingdings" charset="2"/>
              <a:buChar char="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8000"/>
                </a:solidFill>
                <a:latin typeface="Georgia"/>
              </a:rPr>
              <a:t>odstraňuje problémy se syntax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Dokument je reprezentován těmito slov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 přirozeném jazy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Georgia"/>
              </a:rPr>
              <a:t>nap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mport, export, Česká republika, Norsk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Možné význa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33cc"/>
                </a:solidFill>
                <a:latin typeface="Georgia"/>
              </a:rPr>
              <a:t>dovoz do České republiky z Nors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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Georgia"/>
              </a:rPr>
              <a:t>dovoz do Norska z České republik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Řešení v tezaurech – využití r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Řešení pomocí PH – dán kontext, hledání pomocí frá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13:18:53Z</dcterms:created>
  <dc:creator>Silvie Presová</dc:creator>
  <dc:description/>
  <dc:language>en-US</dc:language>
  <cp:lastModifiedBy>Silvie Kořínková Presova</cp:lastModifiedBy>
  <dcterms:modified xsi:type="dcterms:W3CDTF">2009-12-11T17:30:44Z</dcterms:modified>
  <cp:revision>82</cp:revision>
  <dc:subject/>
  <dc:title>Snímek 1</dc:title>
</cp:coreProperties>
</file>