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2AC0-78B5-40FE-BF39-C4893D46B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Georg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71040" y="416196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3718-141C-427F-8B1C-97706D153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172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4FD9-0789-4459-92E4-A485A8834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Georgi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092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5080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7104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092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5080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B787-21AD-499A-95D8-8242001D0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EFBCE-99A7-466B-9189-0531EBF14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Georg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71040" y="1906200"/>
            <a:ext cx="780732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8F8DF-8711-4967-962E-E1D29262B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Georgi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FC758-4CED-4522-BB1B-7FC203F06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Georg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8FD27-5231-4BD4-B107-1462FAC79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2A6D7-B2E6-4443-9FE5-01CD79600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671040" y="502920"/>
            <a:ext cx="780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07E4C-64BF-44E5-A852-5AB879856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3251B-4006-4644-9B61-23D665666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Georg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71040" y="1906200"/>
            <a:ext cx="780732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D9B8-E033-4914-B758-5D81D1FE2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Georg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172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046A1-6B95-41CD-8810-3425C4754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3A4F2-1FD0-4C9B-8A49-2855CC321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Georg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71040" y="416196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68E47-D3C5-4760-BCAC-61FC5B9A8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172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7F57E-8E7A-4742-AE5C-C5F3DF58A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Georgi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31092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95080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67104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31092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595080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72004-02E3-4108-B9D5-0D3409814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671040" y="1906200"/>
            <a:ext cx="780732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Georgi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Georgi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Georgi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Georgi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57DF-702A-4AC4-B38E-C5C181374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671040" y="502920"/>
            <a:ext cx="780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172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Georgi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671040" y="416196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172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Georgi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31092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95080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67104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31092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595080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Georgi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FE01-4700-4195-B3CB-1E0E7D8D7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97C6-1706-45C3-975F-1E46EC892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71040" y="502920"/>
            <a:ext cx="780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F519-086D-4C88-B50C-850960584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Georg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DF9E-01F1-44EE-82E4-815A00166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Georg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172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0463-BF19-4576-AE87-50836CF1E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Georg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0864-99E6-4E2E-9A92-F0FAB0F6D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144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09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796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16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6A166F0-EF18-498D-8321-2357A6B22F0B}" type="slidenum">
              <a:rPr b="0" lang="cs-CZ" sz="1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144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144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144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7960" cy="22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35C2ACE8-E621-4A8B-9C74-A2E9B3235444}" type="slidenum">
              <a:rPr b="0" lang="cs-CZ" sz="1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66840" y="1717560"/>
            <a:ext cx="8775720" cy="514044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orgi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orgi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71040" y="1906200"/>
            <a:ext cx="780732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16072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06056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kisk.phil.muni.cz/mgr-silvie-korinkova-presova-dis" TargetMode="External"/><Relationship Id="rId2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authorities.loc.gov/" TargetMode="External"/><Relationship Id="rId2" Type="http://schemas.openxmlformats.org/officeDocument/2006/relationships/hyperlink" Target="http://library.muni.cz/ezdroje/" TargetMode="External"/><Relationship Id="rId3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multites.com/download.htm" TargetMode="External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europa.eu/eurovoc/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http://europa.eu/eurovoc/" TargetMode="External"/><Relationship Id="rId2" Type="http://schemas.openxmlformats.org/officeDocument/2006/relationships/hyperlink" Target="http://www.psp.cz/kps/knih/e_zakinf.htm" TargetMode="External"/><Relationship Id="rId3" Type="http://schemas.openxmlformats.org/officeDocument/2006/relationships/hyperlink" Target="http://www.medvik.cz/medvik/search_titles.do?source=mesh" TargetMode="External"/><Relationship Id="rId4" Type="http://schemas.openxmlformats.org/officeDocument/2006/relationships/hyperlink" Target="http://www.knihovna.uzpi.cz/" TargetMode="External"/><Relationship Id="rId5" Type="http://schemas.openxmlformats.org/officeDocument/2006/relationships/hyperlink" Target="http://www.npkk.cz/npkk/zakl_tez.php" TargetMode="External"/><Relationship Id="rId6" Type="http://schemas.openxmlformats.org/officeDocument/2006/relationships/hyperlink" Target="http://old.stk.cz/psh.html" TargetMode="External"/><Relationship Id="rId7" Type="http://schemas.openxmlformats.org/officeDocument/2006/relationships/hyperlink" Target="http://www.etf.cuni.cz/~library/infoctt.html" TargetMode="External"/><Relationship Id="rId8" Type="http://schemas.openxmlformats.org/officeDocument/2006/relationships/slideLayout" Target="../slideLayouts/slideLayout2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hyperlink" Target="http://full.nkp.cz/nkkr/NKKR0103/0103175.html" TargetMode="External"/><Relationship Id="rId2" Type="http://schemas.openxmlformats.org/officeDocument/2006/relationships/slideLayout" Target="../slideLayouts/slideLayout2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hyperlink" Target="http://sigma.nkp.cz/cze/ktd" TargetMode="External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lib.cas.cz/katalogy/predmetovy-katalog/" TargetMode="External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71400" y="306360"/>
            <a:ext cx="780912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Georgia"/>
              </a:rPr>
              <a:t>Předmětové selekční jazyky (PSJ)</a:t>
            </a:r>
            <a:endParaRPr b="1" lang="en-US" sz="3600" spc="-1" strike="noStrike">
              <a:solidFill>
                <a:srgbClr val="333333"/>
              </a:solidFill>
              <a:latin typeface="Georgi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360000" y="1885680"/>
            <a:ext cx="8459640" cy="44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ředmět: Selekční jazyk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30. 10. 200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řednášející: Mgr. Silvie Kořínková Presov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kisk.phil.muni.cz/mgr-silvie-korinkova-presova-d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71400" y="549360"/>
            <a:ext cx="7809120" cy="105552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400" spc="-1" strike="noStrike">
                <a:solidFill>
                  <a:srgbClr val="333333"/>
                </a:solidFill>
                <a:latin typeface="Georgia"/>
              </a:rPr>
              <a:t>Předmětová hesla</a:t>
            </a:r>
            <a:endParaRPr b="1" lang="en-US" sz="4400" spc="-1" strike="noStrike">
              <a:solidFill>
                <a:srgbClr val="333333"/>
              </a:solidFill>
              <a:latin typeface="Georgi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8091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431640" indent="-32364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Pořádací znak - </a:t>
            </a:r>
            <a:r>
              <a:rPr b="0" lang="cs-CZ" sz="2800" spc="-1" strike="noStrike">
                <a:solidFill>
                  <a:srgbClr val="ff0000"/>
                </a:solidFill>
                <a:latin typeface="Georgia"/>
              </a:rPr>
              <a:t>předmětové heslo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 (PH) - Předmětové heslo je jednoslovné nebo víceslovné formálně upravené vyjádření obsahu (resp. tematiky), popř. i charakteristiky formy dokumentu.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- </a:t>
            </a:r>
            <a:r>
              <a:rPr b="0" lang="cs-CZ" sz="2800" spc="-1" strike="noStrike">
                <a:solidFill>
                  <a:srgbClr val="ff0000"/>
                </a:solidFill>
                <a:latin typeface="Georgia"/>
              </a:rPr>
              <a:t>předmětový prv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Předmětové heslo se skládá z jednoho nebo několika předmětových prvků - </a:t>
            </a:r>
            <a:r>
              <a:rPr b="0" lang="cs-CZ" sz="2800" spc="-1" strike="noStrike">
                <a:solidFill>
                  <a:srgbClr val="000080"/>
                </a:solidFill>
                <a:latin typeface="Georgia"/>
              </a:rPr>
              <a:t>jednočlenné či vícečlenné PH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 (řetězec P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8000"/>
                </a:solidFill>
                <a:latin typeface="Georgia"/>
              </a:rPr>
              <a:t>ČSN 01 0188 Tvorba předmětových hes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80912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400" spc="-1" strike="noStrike">
                <a:solidFill>
                  <a:srgbClr val="333333"/>
                </a:solidFill>
                <a:latin typeface="Georgia"/>
              </a:rPr>
              <a:t>Schéma PH</a:t>
            </a:r>
            <a:endParaRPr b="1" lang="en-US" sz="4400" spc="-1" strike="noStrike">
              <a:solidFill>
                <a:srgbClr val="333333"/>
              </a:solidFill>
              <a:latin typeface="Georgi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19120" y="1906560"/>
            <a:ext cx="8421840" cy="48434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 fontScale="92000"/>
          </a:bodyPr>
          <a:p>
            <a:pPr marL="397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Georgia"/>
              </a:rPr>
              <a:t>Heslo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 (ev. </a:t>
            </a:r>
            <a:r>
              <a:rPr b="0" lang="cs-CZ" sz="2400" spc="-1" strike="noStrike">
                <a:solidFill>
                  <a:srgbClr val="800000"/>
                </a:solidFill>
                <a:latin typeface="Georgia"/>
              </a:rPr>
              <a:t>doplněk hesla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) - </a:t>
            </a:r>
            <a:r>
              <a:rPr b="0" lang="cs-CZ" sz="2400" spc="-1" strike="noStrike">
                <a:solidFill>
                  <a:srgbClr val="000080"/>
                </a:solidFill>
                <a:latin typeface="Georgia"/>
              </a:rPr>
              <a:t>1.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cs-CZ" sz="2400" spc="-1" strike="noStrike">
                <a:solidFill>
                  <a:srgbClr val="000080"/>
                </a:solidFill>
                <a:latin typeface="Georgia"/>
              </a:rPr>
              <a:t>podheslo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 (ev. doplněk podhesla) - </a:t>
            </a:r>
            <a:r>
              <a:rPr b="0" lang="cs-CZ" sz="2400" spc="-1" strike="noStrike">
                <a:solidFill>
                  <a:srgbClr val="008000"/>
                </a:solidFill>
                <a:latin typeface="Georgia"/>
              </a:rPr>
              <a:t>2. podheslo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 (ev. doplněk hesla) - 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n. podheslo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 (ev. doplněk podhesl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7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7080" indent="-29772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Georgia"/>
              </a:rPr>
              <a:t>Letadla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 - </a:t>
            </a:r>
            <a:r>
              <a:rPr b="0" lang="cs-CZ" sz="2400" spc="-1" strike="noStrike">
                <a:solidFill>
                  <a:srgbClr val="000080"/>
                </a:solidFill>
                <a:latin typeface="Georgia"/>
              </a:rPr>
              <a:t>podvozky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 - </a:t>
            </a:r>
            <a:r>
              <a:rPr b="0" lang="cs-CZ" sz="2400" spc="-1" strike="noStrike">
                <a:solidFill>
                  <a:srgbClr val="008000"/>
                </a:solidFill>
                <a:latin typeface="Georgia"/>
              </a:rPr>
              <a:t>příruč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7080" indent="-29772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Georgia"/>
              </a:rPr>
              <a:t>Cukrovka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 (řepa) - </a:t>
            </a:r>
            <a:r>
              <a:rPr b="0" lang="cs-CZ" sz="2400" spc="-1" strike="noStrike">
                <a:solidFill>
                  <a:srgbClr val="000080"/>
                </a:solidFill>
                <a:latin typeface="Georgia"/>
              </a:rPr>
              <a:t>cukernat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7080" indent="-29772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Georgia"/>
              </a:rPr>
              <a:t>Francie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 – </a:t>
            </a:r>
            <a:r>
              <a:rPr b="0" lang="cs-CZ" sz="2400" spc="-1" strike="noStrike">
                <a:solidFill>
                  <a:srgbClr val="000080"/>
                </a:solidFill>
                <a:latin typeface="Georgia"/>
              </a:rPr>
              <a:t>Prusko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 – </a:t>
            </a:r>
            <a:r>
              <a:rPr b="0" lang="cs-CZ" sz="2400" spc="-1" strike="noStrike">
                <a:solidFill>
                  <a:srgbClr val="008000"/>
                </a:solidFill>
                <a:latin typeface="Georgia"/>
              </a:rPr>
              <a:t>války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 – r. 1870-187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7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7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Georgia"/>
              </a:rPr>
              <a:t>Heslo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 - Vyjadřuje se jím pojem, který má pro obsahovou charakteristiku dokumentu rozhodující význam - hlavní tém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7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80"/>
                </a:solidFill>
                <a:latin typeface="Georgia"/>
              </a:rPr>
              <a:t>Podheslo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 upřesňuje heslo obsahově a podle potřeby i formálně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7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800000"/>
                </a:solidFill>
                <a:latin typeface="Georgia"/>
              </a:rPr>
              <a:t>Doplňky hesla n. podhesla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 vysvětlují stejně znějící, významově však odlišné prvky předmětového hes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71400" y="549360"/>
            <a:ext cx="7809120" cy="105552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400" spc="-1" strike="noStrike">
                <a:solidFill>
                  <a:srgbClr val="333333"/>
                </a:solidFill>
                <a:latin typeface="Georgia"/>
              </a:rPr>
              <a:t>Slovník</a:t>
            </a:r>
            <a:endParaRPr b="1" lang="en-US" sz="4400" spc="-1" strike="noStrike">
              <a:solidFill>
                <a:srgbClr val="333333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71400" y="1906200"/>
            <a:ext cx="8328240" cy="5335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marL="431640" indent="-32364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ff0000"/>
                </a:solidFill>
                <a:latin typeface="Georgia"/>
              </a:rPr>
              <a:t>Předmětový heslář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 - Seznam prvků předmětových hesel užitých při zpracování konkrétního předmětového katalogu či předmětové kartotéky (Pinkas, s. 95)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573120"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Nejen seznam prvků, ale též celých řetězců předmětových hesel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8000"/>
                </a:solidFill>
                <a:latin typeface="Georgia"/>
              </a:rPr>
              <a:t>Struktura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5000"/>
              </a:lnSpc>
              <a:buClr>
                <a:srgbClr val="ff0000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částečná hierarchi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5000"/>
              </a:lnSpc>
              <a:buClr>
                <a:srgbClr val="ff0000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přidružovací odkazy (viz též) - klasifikace viz též indexac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5000"/>
              </a:lnSpc>
              <a:buClr>
                <a:srgbClr val="ff0000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vylučovací odkazy (viz) - např. klasifikace viz kategoriza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71400" y="549360"/>
            <a:ext cx="7809120" cy="105552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400" spc="-1" strike="noStrike">
                <a:solidFill>
                  <a:srgbClr val="333333"/>
                </a:solidFill>
                <a:latin typeface="Georgia"/>
              </a:rPr>
              <a:t>Syntaxe</a:t>
            </a:r>
            <a:endParaRPr b="1" lang="en-US" sz="4400" spc="-1" strike="noStrike">
              <a:solidFill>
                <a:srgbClr val="333333"/>
              </a:solidFill>
              <a:latin typeface="Georg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809120" cy="42307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431640" indent="-32364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Georgia"/>
              </a:rPr>
              <a:t>Syntaktická pravidla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 - uspořádání prvků předmětového hesla/kombinace prvků předmětového hes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80"/>
                </a:solidFill>
                <a:latin typeface="Georgia"/>
              </a:rPr>
              <a:t>Princip prekoordina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71400" y="549360"/>
            <a:ext cx="7809120" cy="105552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400" spc="-1" strike="noStrike">
                <a:solidFill>
                  <a:srgbClr val="333333"/>
                </a:solidFill>
                <a:latin typeface="Georgia"/>
              </a:rPr>
              <a:t>Výhody/Nevýhody </a:t>
            </a:r>
            <a:r>
              <a:rPr b="0" lang="cs-CZ" sz="2400" spc="-1" strike="noStrike">
                <a:solidFill>
                  <a:srgbClr val="333333"/>
                </a:solidFill>
                <a:latin typeface="Georgia"/>
              </a:rPr>
              <a:t>(Balíková 2001)</a:t>
            </a:r>
            <a:endParaRPr b="1" lang="en-US" sz="2400" spc="-1" strike="noStrike">
              <a:solidFill>
                <a:srgbClr val="333333"/>
              </a:solidFill>
              <a:latin typeface="Georgi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5400" y="1703520"/>
            <a:ext cx="8319960" cy="5075280"/>
          </a:xfrm>
          <a:prstGeom prst="rect">
            <a:avLst/>
          </a:prstGeom>
          <a:noFill/>
          <a:ln w="0">
            <a:noFill/>
          </a:ln>
        </p:spPr>
        <p:txBody>
          <a:bodyPr lIns="0" rIns="0" tIns="14040" bIns="0" anchor="t">
            <a:normAutofit fontScale="98000"/>
          </a:bodyPr>
          <a:p>
            <a:pPr marL="423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ff0000"/>
                </a:solidFill>
                <a:latin typeface="Georgia"/>
              </a:rPr>
              <a:t>Výhody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3000" indent="-317160">
              <a:lnSpc>
                <a:spcPct val="95000"/>
              </a:lnSpc>
              <a:buClr>
                <a:srgbClr val="ff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detailní vyjádření předmětu dokument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3000" indent="-317160">
              <a:lnSpc>
                <a:spcPct val="95000"/>
              </a:lnSpc>
              <a:buClr>
                <a:srgbClr val="ff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odpovídající specifično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3000" indent="-317160">
              <a:lnSpc>
                <a:spcPct val="95000"/>
              </a:lnSpc>
              <a:buClr>
                <a:srgbClr val="ff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maximální informační hodnota řetězce předmětového hesl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3000" indent="-317160">
              <a:lnSpc>
                <a:spcPct val="95000"/>
              </a:lnSpc>
              <a:buClr>
                <a:srgbClr val="ff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efektivní servis pro uživatele v tradičním prostřed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3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3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800000"/>
                </a:solidFill>
                <a:latin typeface="Georgia"/>
              </a:rPr>
              <a:t>Nevýhody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3000" indent="-317160">
              <a:lnSpc>
                <a:spcPct val="95000"/>
              </a:lnSpc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rozklad víceslovných lexikálních jednotek (např. výkon vazby: vazba - výko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3000" indent="-317160">
              <a:lnSpc>
                <a:spcPct val="95000"/>
              </a:lnSpc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délka řetězce předmětového hesl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3000" indent="-317160">
              <a:lnSpc>
                <a:spcPct val="95000"/>
              </a:lnSpc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princip prekoordinace uplatněný v syntaktické rovině, a z toho pramenící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3000" indent="-31716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komplikovaná pravidla aplikační syntax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3000" indent="-31716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redundantnost informací v bibliografickém záznam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3000" indent="-31716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rozsáhlost autoritního soubor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3000" indent="-31716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komplikovaná údržb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71400" y="549360"/>
            <a:ext cx="7809120" cy="105552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400" spc="-1" strike="noStrike">
                <a:solidFill>
                  <a:srgbClr val="333333"/>
                </a:solidFill>
                <a:latin typeface="Georgia"/>
              </a:rPr>
              <a:t>Příklady</a:t>
            </a:r>
            <a:endParaRPr b="1" lang="en-US" sz="4400" spc="-1" strike="noStrike">
              <a:solidFill>
                <a:srgbClr val="333333"/>
              </a:solidFill>
              <a:latin typeface="Georgi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809120" cy="42307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431640" indent="-32364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Georgia"/>
              </a:rPr>
              <a:t>Library of Congress Subject Headings (LCSH)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 - nejrozšířenější univerzální PSJ pro využití v lístkových a online katalozíc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 u="sng">
                <a:solidFill>
                  <a:srgbClr val="ccccff"/>
                </a:solidFill>
                <a:uFillTx/>
                <a:latin typeface="Georgia"/>
                <a:hlinkClick r:id="rId1"/>
              </a:rPr>
              <a:t>http://authorities.loc.gov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8000"/>
                </a:solidFill>
                <a:latin typeface="Georgia"/>
              </a:rPr>
              <a:t>Library Literature &amp; Information Science Fulltext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cs-CZ" sz="2800" spc="-1" strike="noStrike" u="sng">
                <a:solidFill>
                  <a:srgbClr val="ccccff"/>
                </a:solidFill>
                <a:uFillTx/>
                <a:latin typeface="Georgia"/>
                <a:hlinkClick r:id="rId2"/>
              </a:rPr>
              <a:t>http://library.muni.cz/ezdroje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prohlížení témat v databázi vyjádřených pomocí předmětových hes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71400" y="439200"/>
            <a:ext cx="780912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400" spc="-1" strike="noStrike">
                <a:solidFill>
                  <a:srgbClr val="333333"/>
                </a:solidFill>
                <a:latin typeface="Georgia"/>
              </a:rPr>
              <a:t>Deskriptorový selekční jazyk (DSJ)</a:t>
            </a:r>
            <a:endParaRPr b="1" lang="en-US" sz="4400" spc="-1" strike="noStrike">
              <a:solidFill>
                <a:srgbClr val="333333"/>
              </a:solidFill>
              <a:latin typeface="Georgi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71400" y="1906200"/>
            <a:ext cx="780912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 fontScale="92000"/>
          </a:bodyPr>
          <a:p>
            <a:pPr marL="397080" indent="-29772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DSJ 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(výklad z TDKIV) - </a:t>
            </a:r>
            <a:r>
              <a:rPr b="0" lang="cs-CZ" sz="2800" spc="-1" strike="noStrike">
                <a:solidFill>
                  <a:srgbClr val="ff0000"/>
                </a:solidFill>
                <a:latin typeface="Georgia"/>
              </a:rPr>
              <a:t>Postkoordinovaný předmětový selekční jazyk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 určený pro indexaci a vyhledávání prostřednictvím řízeného slovníku označovaného jako </a:t>
            </a:r>
            <a:r>
              <a:rPr b="0" lang="cs-CZ" sz="2800" spc="-1" strike="noStrike">
                <a:solidFill>
                  <a:srgbClr val="ff0000"/>
                </a:solidFill>
                <a:latin typeface="Georgia"/>
              </a:rPr>
              <a:t>tezaurus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, jehož lexikum je složeno z deskriptorů 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a nedeskriptor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7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7080" indent="-29772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Historický vývoj od DSJ založeného na unitermech (unitermů) k DSJ 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založenému na deskriptorech (tezaurům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), jejichž forma a vztahy jsou standardizovány slovníkem se speciální strukturou - tezaure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71400" y="549360"/>
            <a:ext cx="7809120" cy="105552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400" spc="-1" strike="noStrike">
                <a:solidFill>
                  <a:srgbClr val="333333"/>
                </a:solidFill>
                <a:latin typeface="Georgia"/>
              </a:rPr>
              <a:t>Tezaurus</a:t>
            </a:r>
            <a:endParaRPr b="1" lang="en-US" sz="4400" spc="-1" strike="noStrike">
              <a:solidFill>
                <a:srgbClr val="333333"/>
              </a:solidFill>
              <a:latin typeface="Georgi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809120" cy="484344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 fontScale="98000"/>
          </a:bodyPr>
          <a:p>
            <a:pPr marL="423000" indent="-31716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ff0000"/>
                </a:solidFill>
                <a:latin typeface="Georgia"/>
              </a:rPr>
              <a:t>Řízený a měnitelný slovník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cs-CZ" sz="2600" spc="-1" strike="noStrike">
                <a:solidFill>
                  <a:srgbClr val="ff0000"/>
                </a:solidFill>
                <a:latin typeface="Georgia"/>
              </a:rPr>
              <a:t>deskriptorového selekčního jazyka uspořádaný tak, že explicitně zachycuje apriorní (paradigmatické) vztahy mezi lexikálními jednotkami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3000" indent="-31716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Podle jazykového zaměření se rozlišuje jednojazyčný a vícejazyčný tezaurus, podle šíře tematického zaměření speciální, polytematický a univerzální tezaurus, podle struktury fasetový a tematický tezaurus, podle funkce tradiční, indexační a vyhledávací tezaurus. Dále se vyčleňuje cílový a zdrojový tezauru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3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(výklad TDKIV)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3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71400" y="549360"/>
            <a:ext cx="7809120" cy="105552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400" spc="-1" strike="noStrike">
                <a:solidFill>
                  <a:srgbClr val="333333"/>
                </a:solidFill>
                <a:latin typeface="Georgia"/>
              </a:rPr>
              <a:t>Výklad termínu</a:t>
            </a:r>
            <a:endParaRPr b="1" lang="en-US" sz="4400" spc="-1" strike="noStrike">
              <a:solidFill>
                <a:srgbClr val="333333"/>
              </a:solidFill>
              <a:latin typeface="Georgi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809120" cy="42307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431640" indent="-32364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8000"/>
                </a:solidFill>
                <a:latin typeface="Georgia"/>
              </a:rPr>
              <a:t>Thesaurus 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- slovník PSJ, formálně organizovaný takovým způsobem, aby explicitně zachycoval apriorní (paradigmatické) vztahy mezi pojmy. 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(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  <a:ea typeface="Verdana"/>
              </a:rPr>
              <a:t>Aichison, 2000, s. 1)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71400" y="549360"/>
            <a:ext cx="7809120" cy="105552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400" spc="-1" strike="noStrike">
                <a:solidFill>
                  <a:srgbClr val="333333"/>
                </a:solidFill>
                <a:latin typeface="Georgia"/>
              </a:rPr>
              <a:t>Tvorba tezauru</a:t>
            </a:r>
            <a:endParaRPr b="1" lang="en-US" sz="4400" spc="-1" strike="noStrike">
              <a:solidFill>
                <a:srgbClr val="333333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809120" cy="443088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ff0000"/>
                </a:solidFill>
                <a:latin typeface="Georgia"/>
              </a:rPr>
              <a:t>ČSN 010193. Dokumentace : pokyny pro vypracování a rozvíjení jednojazyčných tezaurů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Techniky tvorby tezaurů vycházející z obecných principů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Smysl - jednotná praxe v rámci IS či více spolupracujících I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ff0000"/>
                </a:solidFill>
                <a:latin typeface="Georgia"/>
              </a:rPr>
              <a:t>ČSN 01 0172 (ISO 5964). Pokyny pro vypracování a rozvíjení vícejazyčných tezaurů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80912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400" spc="-1" strike="noStrike">
                <a:solidFill>
                  <a:srgbClr val="333333"/>
                </a:solidFill>
                <a:latin typeface="Georgia"/>
              </a:rPr>
              <a:t>Varianty termínu</a:t>
            </a:r>
            <a:endParaRPr b="1" lang="en-US" sz="4400" spc="-1" strike="noStrike">
              <a:solidFill>
                <a:srgbClr val="333333"/>
              </a:solidFill>
              <a:latin typeface="Georg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809120" cy="42307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8000"/>
                </a:solidFill>
                <a:latin typeface="Georgia"/>
              </a:rPr>
              <a:t>používané české ekvivalenty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 - věcné autority, systémy heslování, předmětová pořádací soustava, verbální pořádací systémy, předmětové třídění (nevhodné označení) apo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80"/>
                </a:solidFill>
                <a:latin typeface="Georgia"/>
              </a:rPr>
              <a:t>anglické ekv.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 - subject retrieval language, verbal indexing languages, controlled vocabulary, vocabulary control t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671400" y="1906560"/>
            <a:ext cx="7809120" cy="423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7640" bIns="0" anchor="t">
            <a:noAutofit/>
          </a:bodyPr>
          <a:p>
            <a:pPr marL="431640" indent="-323640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Georgia"/>
                <a:ea typeface="Arial Unicode MS"/>
              </a:rPr>
              <a:t>Softwarové nástroje pro správu tezaurů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  <a:ea typeface="Arial Unicode MS"/>
              </a:rPr>
              <a:t> (thesaurus management software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  <a:ea typeface="Arial Unicode MS"/>
              </a:rPr>
              <a:t>Slouží pro tvorbu, aktualizaci, editování tezaur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  <a:ea typeface="Arial Unicode MS"/>
              </a:rPr>
              <a:t>např. 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  <a:ea typeface="Arial Unicode MS"/>
              </a:rPr>
              <a:t>MultiTes - Lze stáhnout pro zkušební účely jako Trial Software. </a:t>
            </a:r>
            <a:r>
              <a:rPr b="0" lang="cs-CZ" sz="2800" spc="-1" strike="noStrike" u="sng">
                <a:solidFill>
                  <a:srgbClr val="ccccff"/>
                </a:solidFill>
                <a:uFillTx/>
                <a:latin typeface="Georgia"/>
                <a:ea typeface="Arial Unicode MS"/>
                <a:hlinkClick r:id="rId1"/>
              </a:rPr>
              <a:t>http://www.multites.com/download.htm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  <a:ea typeface="Arial Unicode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71400" y="549360"/>
            <a:ext cx="7809120" cy="105552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400" spc="-1" strike="noStrike">
                <a:solidFill>
                  <a:srgbClr val="333333"/>
                </a:solidFill>
                <a:latin typeface="Georgia"/>
              </a:rPr>
              <a:t>Základní termíny</a:t>
            </a:r>
            <a:endParaRPr b="1" lang="en-US" sz="4400" spc="-1" strike="noStrike">
              <a:solidFill>
                <a:srgbClr val="333333"/>
              </a:solidFill>
              <a:latin typeface="Georgi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71400" y="1906200"/>
            <a:ext cx="780912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 fontScale="91000"/>
          </a:bodyPr>
          <a:p>
            <a:pPr marL="392760" indent="-294480">
              <a:lnSpc>
                <a:spcPct val="95000"/>
              </a:lnSpc>
              <a:buClr>
                <a:srgbClr val="008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8000"/>
                </a:solidFill>
                <a:latin typeface="Georgia"/>
              </a:rPr>
              <a:t>lexikální jednotka (LJ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85880" indent="-521280">
              <a:lnSpc>
                <a:spcPct val="95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deskriptor - preferovaný termín - LJ užívaná závazně při indexování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85880" indent="-521280">
              <a:lnSpc>
                <a:spcPct val="95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nedeskriptor - nepreferovaný termín - ekvivalent nebo kvaziekvivalent preferovaného termínu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92760" indent="-294480">
              <a:lnSpc>
                <a:spcPct val="95000"/>
              </a:lnSpc>
              <a:buClr>
                <a:srgbClr val="008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8000"/>
                </a:solidFill>
                <a:latin typeface="Georgia"/>
              </a:rPr>
              <a:t>deskriptorový odstavec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(výklad z TDKIV)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 - Součást hlavní části tezauru zahrnující deskriptor a všechny relevantní informace uvedené v poznámkovém a odkazovém aparátu jako je definice, vysvětlující poznámka, poznámka o použití, nedeskriptory, podřazené, nadřazené </a:t>
            </a:r>
            <a:br>
              <a:rPr sz="2600"/>
            </a:b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a asociované deskriptor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71400" y="549360"/>
            <a:ext cx="7809120" cy="10555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800" spc="-1" strike="noStrike">
                <a:solidFill>
                  <a:srgbClr val="333333"/>
                </a:solidFill>
                <a:latin typeface="Georgia"/>
              </a:rPr>
              <a:t>Pojmy vyjádřené LJ patří k následujícím obecným kategoriím:</a:t>
            </a:r>
            <a:endParaRPr b="1" lang="en-US" sz="2800" spc="-1" strike="noStrike">
              <a:solidFill>
                <a:srgbClr val="333333"/>
              </a:solidFill>
              <a:latin typeface="Georgi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93560" y="1893960"/>
            <a:ext cx="8485200" cy="48434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431640" indent="-32364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Georgia"/>
              </a:rPr>
              <a:t>konkrétní e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předměty, věci a jejich části (počítač, pes, lebka)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materiály (plast, dřevo, bavlna)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Georgia"/>
              </a:rPr>
              <a:t>abstraktní e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činnosti a události (psaní, dýchání, plavání)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abstraktní entity a vlastnosti věcí, materiálů n. činností (síla, přesnost, viskozita)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obory n. vědní disciplíny (sociologie, psychologie, informační věda)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měřicí jednotky (kilogram, metr, ampér)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Georgia"/>
              </a:rPr>
              <a:t>individuální jednotky 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(identifikátory)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geografická jména, jména osob, jména organizací, jména výrobk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71400" y="549360"/>
            <a:ext cx="7809120" cy="105552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400" spc="-1" strike="noStrike">
                <a:solidFill>
                  <a:srgbClr val="333333"/>
                </a:solidFill>
                <a:latin typeface="Georgia"/>
              </a:rPr>
              <a:t>Tvar LJ</a:t>
            </a:r>
            <a:endParaRPr b="1" lang="en-US" sz="4400" spc="-1" strike="noStrike">
              <a:solidFill>
                <a:srgbClr val="333333"/>
              </a:solidFill>
              <a:latin typeface="Georgi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71400" y="1906200"/>
            <a:ext cx="7809120" cy="51894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 fontScale="99000"/>
          </a:bodyPr>
          <a:p>
            <a:pPr marL="427320" indent="-3204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Georgia"/>
              </a:rPr>
              <a:t>substantivum n. substantivní slovní spoj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567360"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8000"/>
                </a:solidFill>
                <a:latin typeface="Georgia"/>
              </a:rPr>
              <a:t>adjektiv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např. národnostní menš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modifikátor (adjektivum)   základ (substantivum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567360"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8000"/>
                </a:solidFill>
                <a:latin typeface="Georgia"/>
              </a:rPr>
              <a:t>s předložkovou vazbou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 (např. kurzy pro pokročilé, školy pro nevidomé děti)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Georgia"/>
              </a:rPr>
              <a:t>adjektiva, příslovce, slov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567360">
              <a:lnSpc>
                <a:spcPct val="95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obvykle se nezařazují, činnost - vyjádření substanti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567360">
              <a:lnSpc>
                <a:spcPct val="95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výjimky - např. velmi krátkodobé financování, velmi krátké vlny (odborný termí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386080" y="3048120"/>
            <a:ext cx="358560" cy="53316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280040" y="2984400"/>
            <a:ext cx="1104840" cy="59688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71400" y="549360"/>
            <a:ext cx="7809120" cy="105552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400" spc="-1" strike="noStrike">
                <a:solidFill>
                  <a:srgbClr val="333333"/>
                </a:solidFill>
                <a:latin typeface="Georgia"/>
              </a:rPr>
              <a:t>Tvar LJ</a:t>
            </a:r>
            <a:endParaRPr b="1" lang="en-US" sz="4400" spc="-1" strike="noStrike">
              <a:solidFill>
                <a:srgbClr val="333333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71400" y="1906200"/>
            <a:ext cx="78091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14040" bIns="0" anchor="t">
            <a:normAutofit/>
          </a:bodyPr>
          <a:p>
            <a:pPr marL="431640" indent="-32364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ff0000"/>
                </a:solidFill>
                <a:latin typeface="Georgia"/>
              </a:rPr>
              <a:t>plurál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80"/>
                </a:solidFill>
                <a:latin typeface="Georgia"/>
              </a:rPr>
              <a:t>počitatelná substantiva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 (knihy, okny, ryby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Ale části těla singulár, pokud je v těle jedna část (ústa, hlava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ff0000"/>
                </a:solidFill>
                <a:latin typeface="Georgia"/>
              </a:rPr>
              <a:t>singulá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80"/>
                </a:solidFill>
                <a:latin typeface="Georgia"/>
              </a:rPr>
              <a:t>nepočitatelná substantiva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 (mouka, písek, pár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Ale třídy s více členy pl. (cukry, jedy, mouky)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80"/>
                </a:solidFill>
                <a:latin typeface="Georgia"/>
              </a:rPr>
              <a:t>abstraktní pojmy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 (osobnost, vodivost, kapitalismus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Ale třídy s více členy pl. (přírodní vědy, chemické reakce)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Vyjádření odlišných pojmů pomocí sg./pl., např. cukr (potravinářský průmysl)/cukry (chemi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ff0000"/>
                </a:solidFill>
                <a:latin typeface="Georgia"/>
              </a:rPr>
              <a:t>homografy, polysémy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 - </a:t>
            </a:r>
            <a:r>
              <a:rPr b="0" lang="cs-CZ" sz="2200" spc="-1" strike="noStrike">
                <a:solidFill>
                  <a:srgbClr val="000080"/>
                </a:solidFill>
                <a:latin typeface="Georgia"/>
              </a:rPr>
              <a:t>relátor v závorce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, součástí L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např. křídlo (ptačí končetina), křídlo (klaví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71400" y="439200"/>
            <a:ext cx="780912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400" spc="-1" strike="noStrike">
                <a:solidFill>
                  <a:srgbClr val="333333"/>
                </a:solidFill>
                <a:latin typeface="Georgia"/>
              </a:rPr>
              <a:t>Vysvětlující poznámky </a:t>
            </a:r>
            <a:br>
              <a:rPr sz="4400"/>
            </a:br>
            <a:r>
              <a:rPr b="1" lang="cs-CZ" sz="4400" spc="-1" strike="noStrike">
                <a:solidFill>
                  <a:srgbClr val="333333"/>
                </a:solidFill>
                <a:latin typeface="Georgia"/>
              </a:rPr>
              <a:t>a definice</a:t>
            </a:r>
            <a:endParaRPr b="1" lang="en-US" sz="4400" spc="-1" strike="noStrike">
              <a:solidFill>
                <a:srgbClr val="333333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809120" cy="423072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marL="431640" indent="-32364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ff0000"/>
                </a:solidFill>
                <a:latin typeface="Georgia"/>
              </a:rPr>
              <a:t>omezení významu LJ pro účely daného systému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 (vyloučení dalších významů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Další informac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80"/>
                </a:solidFill>
                <a:latin typeface="Georgia"/>
              </a:rPr>
              <a:t>datum zařazení LJ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8000"/>
                </a:solidFill>
                <a:latin typeface="Georgia"/>
              </a:rPr>
              <a:t>zdroj LJ 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(zejména u nových slov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800000"/>
                </a:solidFill>
                <a:latin typeface="Georgia"/>
              </a:rPr>
              <a:t>pokyny pro indexátory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, např. možnost kombinace LJ (např. instituce EU - Uveďte ve spojení s danou institucí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71400" y="549360"/>
            <a:ext cx="7809120" cy="105552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400" spc="-1" strike="noStrike">
                <a:solidFill>
                  <a:srgbClr val="333333"/>
                </a:solidFill>
                <a:latin typeface="Georgia"/>
              </a:rPr>
              <a:t>Sousloví</a:t>
            </a:r>
            <a:endParaRPr b="1" lang="en-US" sz="4400" spc="-1" strike="noStrike">
              <a:solidFill>
                <a:srgbClr val="333333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53520" y="1753920"/>
            <a:ext cx="847260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 fontScale="93000"/>
          </a:bodyPr>
          <a:p>
            <a:pPr marL="401400" indent="-30096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Obecně - LJ mají vyjadřovat jednoduché pojmy, sousloví je třeba rozložit na jednodušší prvky, pokud rozklad nezpůsobí potíže uživateli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01400" indent="-30096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b80047"/>
                </a:solidFill>
                <a:latin typeface="Georgia"/>
              </a:rPr>
              <a:t>Sémantický rozklad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 - výraz, který vyjadřuje komplexní pojem, je převeden na jednodušší, tzv. definiční prvky. </a:t>
            </a:r>
            <a:r>
              <a:rPr b="0" lang="cs-CZ" sz="2600" spc="-1" strike="noStrike">
                <a:solidFill>
                  <a:srgbClr val="ff0000"/>
                </a:solidFill>
                <a:latin typeface="Georgia"/>
              </a:rPr>
              <a:t>Použití této techniky se v tezaurech nedoporučuj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014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teplomě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0772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teplota + měření + přístroj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0772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1400" indent="-30096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99284c"/>
                </a:solidFill>
                <a:latin typeface="Georgia"/>
              </a:rPr>
              <a:t>Syntaktický rozklad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 - tato technika se uplatňuje u sousloví,  tj. u výrazů, které umožňují morfologickou analýzu na dílčí složk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20456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tibetský buddhismus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0772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Tibet + buddhism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587600" y="6502320"/>
            <a:ext cx="1095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71400" y="549360"/>
            <a:ext cx="7809120" cy="105552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400" spc="-1" strike="noStrike">
                <a:solidFill>
                  <a:srgbClr val="333333"/>
                </a:solidFill>
                <a:latin typeface="Georgia"/>
              </a:rPr>
              <a:t>Sousloví</a:t>
            </a:r>
            <a:endParaRPr b="1" lang="en-US" sz="4400" spc="-1" strike="noStrike">
              <a:solidFill>
                <a:srgbClr val="333333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809120" cy="48434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 fontScale="96000"/>
          </a:bodyPr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Georgia"/>
              </a:rPr>
              <a:t>Kritéria pro to, zda sousloví ponechat beze změny či sousloví rozložit na syntaktické složk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31068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Je nutné rozlišit jednotlivé části sousloví  z hlediska jejich rolí a vztahů:                 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400" spc="-1" strike="noStrike">
                <a:solidFill>
                  <a:srgbClr val="000080"/>
                </a:solidFill>
                <a:latin typeface="Georgia"/>
              </a:rPr>
              <a:t>lisování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cs-CZ" sz="2400" spc="-1" strike="noStrike">
                <a:solidFill>
                  <a:srgbClr val="008000"/>
                </a:solidFill>
                <a:latin typeface="Georgia"/>
              </a:rPr>
              <a:t>ví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31068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Georgia"/>
              </a:rPr>
              <a:t>základ neboli řídící člen</a:t>
            </a:r>
            <a:r>
              <a:rPr b="0" lang="cs-CZ" sz="2400" spc="-1" strike="noStrike">
                <a:solidFill>
                  <a:srgbClr val="ff0000"/>
                </a:solidFill>
                <a:latin typeface="Georgia"/>
              </a:rPr>
              <a:t>	</a:t>
            </a:r>
            <a:r>
              <a:rPr b="0" lang="cs-CZ" sz="2400" spc="-1" strike="noStrike">
                <a:solidFill>
                  <a:srgbClr val="ff0000"/>
                </a:solidFill>
                <a:latin typeface="Georgia"/>
              </a:rPr>
              <a:t>	</a:t>
            </a:r>
            <a:r>
              <a:rPr b="0" lang="cs-CZ" sz="2400" spc="-1" strike="noStrike">
                <a:solidFill>
                  <a:srgbClr val="000080"/>
                </a:solidFill>
                <a:latin typeface="Georgia"/>
              </a:rPr>
              <a:t>lisov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Substantivum, které vyjadřuje širší třídu věcí nebo jevů, jejímž členem je lexikální jednotka jako cele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31068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Georgia"/>
              </a:rPr>
              <a:t>modifikátor</a:t>
            </a:r>
            <a:r>
              <a:rPr b="0" lang="cs-CZ" sz="2400" spc="-1" strike="noStrike">
                <a:solidFill>
                  <a:srgbClr val="ff0000"/>
                </a:solidFill>
                <a:latin typeface="Georgia"/>
              </a:rPr>
              <a:t>	</a:t>
            </a:r>
            <a:r>
              <a:rPr b="0" lang="cs-CZ" sz="2400" spc="-1" strike="noStrike">
                <a:solidFill>
                  <a:srgbClr val="ff0000"/>
                </a:solidFill>
                <a:latin typeface="Georgia"/>
              </a:rPr>
              <a:t>	</a:t>
            </a:r>
            <a:r>
              <a:rPr b="0" lang="cs-CZ" sz="2400" spc="-1" strike="noStrike">
                <a:solidFill>
                  <a:srgbClr val="ff0000"/>
                </a:solidFill>
                <a:latin typeface="Georgia"/>
              </a:rPr>
              <a:t>	</a:t>
            </a:r>
            <a:r>
              <a:rPr b="0" lang="cs-CZ" sz="2400" spc="-1" strike="noStrike">
                <a:solidFill>
                  <a:srgbClr val="ff0000"/>
                </a:solidFill>
                <a:latin typeface="Georgia"/>
              </a:rPr>
              <a:t>	</a:t>
            </a:r>
            <a:r>
              <a:rPr b="0" lang="cs-CZ" sz="2400" spc="-1" strike="noStrike">
                <a:solidFill>
                  <a:srgbClr val="ff0000"/>
                </a:solidFill>
                <a:latin typeface="Georgia"/>
              </a:rPr>
              <a:t>	</a:t>
            </a:r>
            <a:r>
              <a:rPr b="0" lang="cs-CZ" sz="2400" spc="-1" strike="noStrike">
                <a:solidFill>
                  <a:srgbClr val="ff0000"/>
                </a:solidFill>
                <a:latin typeface="Georgia"/>
              </a:rPr>
              <a:t>	</a:t>
            </a:r>
            <a:r>
              <a:rPr b="0" lang="cs-CZ" sz="2400" spc="-1" strike="noStrike">
                <a:solidFill>
                  <a:srgbClr val="008000"/>
                </a:solidFill>
                <a:latin typeface="Georgia"/>
              </a:rPr>
              <a:t>vína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Část sousloví, která odkazuje k určité charakteristice nebo rozlišujícímu znak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Po připojení k danému základu zužuje jeho významový nebo stylistický odstín a vyjadřuje tak jednu z jeho podtří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71400" y="500040"/>
            <a:ext cx="7809120" cy="1152720"/>
          </a:xfrm>
          <a:prstGeom prst="rect">
            <a:avLst/>
          </a:prstGeom>
          <a:noFill/>
          <a:ln w="0">
            <a:noFill/>
          </a:ln>
        </p:spPr>
        <p:txBody>
          <a:bodyPr lIns="0" rIns="0" tIns="2520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000" spc="-1" strike="noStrike">
                <a:solidFill>
                  <a:srgbClr val="333333"/>
                </a:solidFill>
                <a:latin typeface="Georgia"/>
              </a:rPr>
              <a:t>Sousloví ponechaná beze změny</a:t>
            </a:r>
            <a:endParaRPr b="1" lang="en-US" sz="4000" spc="-1" strike="noStrike">
              <a:solidFill>
                <a:srgbClr val="333333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71400" y="1906200"/>
            <a:ext cx="7809120" cy="51894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 fontScale="97000"/>
          </a:bodyPr>
          <a:p>
            <a:pPr marL="418680" indent="-31392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Georgia"/>
              </a:rPr>
              <a:t>sousloví je běžné a užívané 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(informační zdroje, pořádání informací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8680" indent="-31392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8000"/>
                </a:solidFill>
                <a:latin typeface="Georgia"/>
              </a:rPr>
              <a:t>rozklad vede ke ztrátě významu 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(filozofie dějin, library scienc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8680" indent="-31392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80"/>
                </a:solidFill>
                <a:latin typeface="Georgia"/>
              </a:rPr>
              <a:t>sousloví obsahuje vlastní jméno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 (Bradfordův zákon, Lotkův zákon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8680" indent="-31392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800000"/>
                </a:solidFill>
                <a:latin typeface="Georgia"/>
              </a:rPr>
              <a:t>modifikátor ztratil původní význam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 (lehký průmysl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8680" indent="-31392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Georgia"/>
              </a:rPr>
              <a:t>modifikátor bez přímého vztahu 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(stromová struktura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8680" indent="-31392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8000"/>
                </a:solidFill>
                <a:latin typeface="Georgia"/>
              </a:rPr>
              <a:t>sousloví se „středním členem“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(naftové motory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8680" indent="-31392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80"/>
                </a:solidFill>
                <a:latin typeface="Georgia"/>
              </a:rPr>
              <a:t>synkategorematická substantiva 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( umělé květiny, čokoládová vejce, světelný rok) - Podstatná jména, která sama o sobě nevyjadřují třídu pojmů, k níž odkazují slovní spojení jako celek, ale spíše popírají členství v dané třídě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86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71400" y="500040"/>
            <a:ext cx="7809120" cy="1152720"/>
          </a:xfrm>
          <a:prstGeom prst="rect">
            <a:avLst/>
          </a:prstGeom>
          <a:noFill/>
          <a:ln w="0">
            <a:noFill/>
          </a:ln>
        </p:spPr>
        <p:txBody>
          <a:bodyPr lIns="0" rIns="0" tIns="2520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000" spc="-1" strike="noStrike">
                <a:solidFill>
                  <a:srgbClr val="333333"/>
                </a:solidFill>
                <a:latin typeface="Georgia"/>
              </a:rPr>
              <a:t>Sousloví rozložená na syntaktické složky </a:t>
            </a:r>
            <a:endParaRPr b="1" lang="en-US" sz="4000" spc="-1" strike="noStrike">
              <a:solidFill>
                <a:srgbClr val="333333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9800" y="1881360"/>
            <a:ext cx="8150400" cy="524664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 fontScale="99000"/>
          </a:bodyPr>
          <a:p>
            <a:pPr marL="42732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1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ff0000"/>
                </a:solidFill>
                <a:latin typeface="Georgia"/>
              </a:rPr>
              <a:t>základ - vlastnost/část (včetně materiálů)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cs-CZ" sz="2600" spc="-1" strike="noStrike">
                <a:solidFill>
                  <a:srgbClr val="008000"/>
                </a:solidFill>
                <a:latin typeface="Georgia"/>
              </a:rPr>
              <a:t>modifikátor - celek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, popř. nositel dané vlastnosti nebo části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např. 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  letištní hala 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letiště + hal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13732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lodní motory   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 lodě + moto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2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ff0000"/>
                </a:solidFill>
                <a:latin typeface="Georgia"/>
              </a:rPr>
              <a:t>základ - činnost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cs-CZ" sz="2600" spc="-1" strike="noStrike">
                <a:solidFill>
                  <a:srgbClr val="008000"/>
                </a:solidFill>
                <a:latin typeface="Georgia"/>
              </a:rPr>
              <a:t>modifikátor - objekt/vykonavatel činnost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např. 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  mražení zeleniny      mražení + zeleni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13732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stěhování ptáků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stěhování + ptác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ALE  mražená zelenina, stěhovaví ptác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13732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80912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400" spc="-1" strike="noStrike">
                <a:solidFill>
                  <a:srgbClr val="333333"/>
                </a:solidFill>
                <a:latin typeface="Georgia"/>
              </a:rPr>
              <a:t>Výklad termínu</a:t>
            </a:r>
            <a:endParaRPr b="1" lang="en-US" sz="4400" spc="-1" strike="noStrike">
              <a:solidFill>
                <a:srgbClr val="333333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809120" cy="42307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 fontScale="95000"/>
          </a:bodyPr>
          <a:p>
            <a:pPr marL="4100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b80047"/>
                </a:solidFill>
                <a:latin typeface="Georgia"/>
              </a:rPr>
              <a:t>Předmětový selekční jazyk</a:t>
            </a:r>
            <a:r>
              <a:rPr b="0" lang="cs-CZ" sz="3200" spc="-1" strike="noStrike">
                <a:solidFill>
                  <a:srgbClr val="b80047"/>
                </a:solidFill>
                <a:latin typeface="Georgi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(výklad z TDKIV)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0040" indent="-30744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Georgia"/>
              </a:rPr>
              <a:t>Selekční jazyk založený na abecedně uspořádaném systému hesel, popř. lexikálních jednotek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0040" indent="-30744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Podle charakteru lexikálních jednotek se rozlišují předmětové selekční jazyky založené na použití klíčových slov (např. klíčová slova z názvu dokumentů, rotované rejstříky), předmětová hesla (jazyk předmětových hesel) a deskriptorové selekční jazyk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71400" y="549360"/>
            <a:ext cx="7809120" cy="105552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400" spc="-1" strike="noStrike">
                <a:solidFill>
                  <a:srgbClr val="333333"/>
                </a:solidFill>
                <a:latin typeface="Georgia"/>
              </a:rPr>
              <a:t>Základní vztahy v tezauru</a:t>
            </a:r>
            <a:endParaRPr b="1" lang="en-US" sz="4400" spc="-1" strike="noStrike">
              <a:solidFill>
                <a:srgbClr val="333333"/>
              </a:solidFill>
              <a:latin typeface="Georg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809120" cy="4230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buClr>
                <a:srgbClr val="ff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Georgia"/>
              </a:rPr>
              <a:t>vztah ekvival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5000"/>
              </a:lnSpc>
              <a:buClr>
                <a:srgbClr val="008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8000"/>
                </a:solidFill>
                <a:latin typeface="Georgia"/>
              </a:rPr>
              <a:t>vztah hierarch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5000"/>
              </a:lnSpc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80"/>
                </a:solidFill>
                <a:latin typeface="Georgia"/>
              </a:rPr>
              <a:t>vztah asoci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71400" y="549360"/>
            <a:ext cx="7809120" cy="105552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400" spc="-1" strike="noStrike">
                <a:solidFill>
                  <a:srgbClr val="333333"/>
                </a:solidFill>
                <a:latin typeface="Georgia"/>
              </a:rPr>
              <a:t>Vztah ekvivalence</a:t>
            </a:r>
            <a:endParaRPr b="1" lang="en-US" sz="4400" spc="-1" strike="noStrike">
              <a:solidFill>
                <a:srgbClr val="333333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9440" y="1906560"/>
            <a:ext cx="8420040" cy="5362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 fontScale="97000"/>
          </a:bodyPr>
          <a:p>
            <a:pPr marL="418680" indent="-31392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Do vztahu ekvivalence jsou uváděny </a:t>
            </a:r>
            <a:r>
              <a:rPr b="0" lang="cs-CZ" sz="2600" spc="-1" strike="noStrike">
                <a:solidFill>
                  <a:srgbClr val="ff0000"/>
                </a:solidFill>
                <a:latin typeface="Georgia"/>
              </a:rPr>
              <a:t>synonymní lexikální jednotky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, tj. termíny, které se liší formou, ale jejichž obsah je identický (označují stejný denotát)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186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18680" indent="-31392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např. tezaur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186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 u="sng">
                <a:solidFill>
                  <a:srgbClr val="ccccff"/>
                </a:solidFill>
                <a:uFillTx/>
                <a:latin typeface="Georgia"/>
                <a:hlinkClick r:id="rId1"/>
              </a:rPr>
              <a:t>http://europa.eu/eurovoc/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186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práva žen 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UF ženská práv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186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ženská práva   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USE  práva žen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18680" indent="-31392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Zkratk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186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viz/USE  - před přeferovaným termínem/deskriptor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186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ekv/UF - před nepřeferovaným termínem/nedeskriptor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18680" indent="0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3541680" y="3130560"/>
            <a:ext cx="4145040" cy="62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71400" y="549360"/>
            <a:ext cx="7809120" cy="105552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3600" spc="-1" strike="noStrike">
                <a:solidFill>
                  <a:srgbClr val="333333"/>
                </a:solidFill>
                <a:latin typeface="Georgia"/>
              </a:rPr>
              <a:t>Volba deskriptoru/nedeskriptoru</a:t>
            </a:r>
            <a:endParaRPr b="1" lang="en-US" sz="3600" spc="-1" strike="noStrike">
              <a:solidFill>
                <a:srgbClr val="333333"/>
              </a:solidFill>
              <a:latin typeface="Georg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71400" y="1692000"/>
            <a:ext cx="7809120" cy="51894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 fontScale="90000"/>
          </a:bodyPr>
          <a:p>
            <a:pPr marL="388440" indent="-29124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Georgia"/>
              </a:rPr>
              <a:t>pravop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8440" indent="-29124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používání nejrozšířenějšího popř. kodifikovaného pravopisného tva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8440" indent="-29124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využití autoritních slovníků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8440" indent="-29124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dublety (př.: sirup x syrob; salnitr x sanytr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8440" indent="-29124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Georgia"/>
              </a:rPr>
              <a:t>zkratky a akronymy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 (př.: UNICEF, OSN, ČEDOK, LI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8440" indent="-29124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preferuje se rozepsaná podoba  - mezinárodní desetinné třídění X MDT [o]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8440" indent="-29124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výjimky v dané oblasti u široce používaných zkr. a ak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8440" indent="-29124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Georgia"/>
              </a:rPr>
              <a:t>přejatá slova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 (př.: software x programové vybavení; perestrojka x přestavba; gender studies x genderová/rodová studia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8440" indent="-29124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novotvary z cizího jazyka – běžně užívané lze zařadit do tezau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8440" indent="-29124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volba mezi přejatým slovem a překladem – rozšířenos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71400" y="549360"/>
            <a:ext cx="7809120" cy="105552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3600" spc="-1" strike="noStrike">
                <a:solidFill>
                  <a:srgbClr val="333333"/>
                </a:solidFill>
                <a:latin typeface="Georgia"/>
              </a:rPr>
              <a:t>Volba deskriptoru/nedeskriptoru</a:t>
            </a:r>
            <a:endParaRPr b="1" lang="en-US" sz="3600" spc="-1" strike="noStrike">
              <a:solidFill>
                <a:srgbClr val="333333"/>
              </a:solidFill>
              <a:latin typeface="Georgi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7680" y="1792080"/>
            <a:ext cx="7808760" cy="51894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431640" indent="-32364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Georgia"/>
              </a:rPr>
              <a:t>slangové termíny a žargon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 (př.: hippies, íčko, kok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lze zařadit, pokud neexistuje pro nový pojem jiná, vhodná alterna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jde-li o alternativní výraz k existujícímu, ustálenému termínu, ustálený je preferovaný 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Georgia"/>
              </a:rPr>
              <a:t>obecné názvy a obchodní názvy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 (př. polytetrafluorethylen x teflon)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preferované jsou obecné názvy jako deskriptory, je-li obchodní název široce používán zavede se jako nedeskrip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Georgia"/>
              </a:rPr>
              <a:t>běžné názvy a vědecké názvy 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(př.: bubo bubo x výr velký; arthritis uratica x dna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volba preferovaného termínu se odvíjí od uživatelů systé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71400" y="549360"/>
            <a:ext cx="7809120" cy="105552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400" spc="-1" strike="noStrike">
                <a:solidFill>
                  <a:srgbClr val="333333"/>
                </a:solidFill>
                <a:latin typeface="Georgia"/>
              </a:rPr>
              <a:t>Kvazisynonyma</a:t>
            </a:r>
            <a:endParaRPr b="1" lang="en-US" sz="4400" spc="-1" strike="noStrike">
              <a:solidFill>
                <a:srgbClr val="333333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71400" y="1906200"/>
            <a:ext cx="780912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 fontScale="99000"/>
          </a:bodyPr>
          <a:p>
            <a:pPr marL="427320" indent="-3204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LJ, jejichž významy se všeobecně v běžném úzu považují za rozdílné - pro účely indexování se chápou jako synonym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např. tvrdost x měkkost; anotovaný záznam x neanotovaný záznam; zákonnost x nezákonno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Hierarchizace vztahu ekvivalenc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např. HORNIN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EKV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břidl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28232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čedič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28232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žul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71400" y="549360"/>
            <a:ext cx="7809120" cy="105552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400" spc="-1" strike="noStrike">
                <a:solidFill>
                  <a:srgbClr val="333333"/>
                </a:solidFill>
                <a:latin typeface="Georgia"/>
              </a:rPr>
              <a:t>Hierarchický vztah</a:t>
            </a:r>
            <a:endParaRPr b="1" lang="en-US" sz="4400" spc="-1" strike="noStrike">
              <a:solidFill>
                <a:srgbClr val="333333"/>
              </a:solidFill>
              <a:latin typeface="Georgi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8193240" cy="523260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 fontScale="95000"/>
          </a:bodyPr>
          <a:p>
            <a:pPr marL="410040" indent="-307440">
              <a:lnSpc>
                <a:spcPct val="95000"/>
              </a:lnSpc>
              <a:buClr>
                <a:srgbClr val="008000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8000"/>
                </a:solidFill>
                <a:latin typeface="Georgia"/>
              </a:rPr>
              <a:t>Nastává u lexikálních jednotek téhož sémantického okruhu a vyjadřuje poměr nadřazenosti a podřazenost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0040" indent="-307440">
              <a:lnSpc>
                <a:spcPct val="95000"/>
              </a:lnSpc>
              <a:buClr>
                <a:srgbClr val="ff0000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Georgia"/>
              </a:rPr>
              <a:t>Je vytvářen pouze u preferovaných termín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0040" indent="-307440">
              <a:lnSpc>
                <a:spcPct val="95000"/>
              </a:lnSpc>
              <a:buClr>
                <a:srgbClr val="000080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80"/>
                </a:solidFill>
                <a:latin typeface="Georgia"/>
              </a:rPr>
              <a:t>Podřazená jednotka musí náležet k témuž základnímu typu pojmu jako její nadřazená lex. jednotka – věc x činnost x vlastno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00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např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00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ochrana soukromí                         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deskriptor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00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BT/ND  práva jednotlivce     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nadřazený 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00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00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NT/PD   ochrana komunikací  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podřazený 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00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71400" y="500040"/>
            <a:ext cx="7809120" cy="1152720"/>
          </a:xfrm>
          <a:prstGeom prst="rect">
            <a:avLst/>
          </a:prstGeom>
          <a:noFill/>
          <a:ln w="0">
            <a:noFill/>
          </a:ln>
        </p:spPr>
        <p:txBody>
          <a:bodyPr lIns="0" rIns="0" tIns="2520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000" spc="-1" strike="noStrike">
                <a:solidFill>
                  <a:srgbClr val="333333"/>
                </a:solidFill>
                <a:latin typeface="Georgia"/>
              </a:rPr>
              <a:t>Hierarchický vztah - generický vztah</a:t>
            </a:r>
            <a:endParaRPr b="1" lang="en-US" sz="4000" spc="-1" strike="noStrike">
              <a:solidFill>
                <a:srgbClr val="333333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809120" cy="4230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Georgia"/>
              </a:rPr>
              <a:t>Vymezuje souvislost mezi určitou třídou nebo kategorií a jejími členy nebo druh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plaz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někteří</a:t>
            </a: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všich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had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8000"/>
                </a:solidFill>
                <a:latin typeface="Georgia"/>
              </a:rPr>
              <a:t>rodo-druhový vzt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2602080" y="3530520"/>
            <a:ext cx="15840" cy="104148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4038480" y="3553920"/>
            <a:ext cx="1800" cy="99396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71400" y="500040"/>
            <a:ext cx="7809120" cy="1152720"/>
          </a:xfrm>
          <a:prstGeom prst="rect">
            <a:avLst/>
          </a:prstGeom>
          <a:noFill/>
          <a:ln w="0">
            <a:noFill/>
          </a:ln>
        </p:spPr>
        <p:txBody>
          <a:bodyPr lIns="0" rIns="0" tIns="2520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000" spc="-1" strike="noStrike">
                <a:solidFill>
                  <a:srgbClr val="333333"/>
                </a:solidFill>
                <a:latin typeface="Georgia"/>
              </a:rPr>
              <a:t>Hierarchický vztah - partitivní vztah</a:t>
            </a:r>
            <a:endParaRPr b="1" lang="en-US" sz="4000" spc="-1" strike="noStrike">
              <a:solidFill>
                <a:srgbClr val="333333"/>
              </a:solidFill>
              <a:latin typeface="Georg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71400" y="1906200"/>
            <a:ext cx="780912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 fontScale="99000"/>
          </a:bodyPr>
          <a:p>
            <a:pPr marL="42732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Sémantický hierarchický vztah mezi dvěma pojmy, z nichž jeden vyjadřuje celek a druhý jednu jeho část. (výklad z TDKIV)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4 kategori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ff0000"/>
                </a:solidFill>
                <a:latin typeface="Georgia"/>
              </a:rPr>
              <a:t>tělesné systémy a orgány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  (př.: kostra -&gt; lebka -&gt; nadočnicové oblouky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ff0000"/>
                </a:solidFill>
                <a:latin typeface="Georgia"/>
              </a:rPr>
              <a:t>geografické lokality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 (př.: Evropa -&gt; Rakousko -&gt; Vídeň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ff0000"/>
                </a:solidFill>
                <a:latin typeface="Georgia"/>
              </a:rPr>
              <a:t>disciplíny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 (př.: jazykověda -&gt; obecná jazykověda -&gt; gramatika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ff0000"/>
                </a:solidFill>
                <a:latin typeface="Georgia"/>
              </a:rPr>
              <a:t>hierarchické společenské struktury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 (př.: univerzita -&gt; fakulta -&gt; katedra -&gt; kabin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71400" y="500040"/>
            <a:ext cx="7809120" cy="1152720"/>
          </a:xfrm>
          <a:prstGeom prst="rect">
            <a:avLst/>
          </a:prstGeom>
          <a:noFill/>
          <a:ln w="0">
            <a:noFill/>
          </a:ln>
        </p:spPr>
        <p:txBody>
          <a:bodyPr lIns="0" rIns="0" tIns="2520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000" spc="-1" strike="noStrike">
                <a:solidFill>
                  <a:srgbClr val="333333"/>
                </a:solidFill>
                <a:latin typeface="Georgia"/>
              </a:rPr>
              <a:t>Hierarchický vztah - kauzální vztah</a:t>
            </a:r>
            <a:endParaRPr b="1" lang="en-US" sz="4000" spc="-1" strike="noStrike">
              <a:solidFill>
                <a:srgbClr val="333333"/>
              </a:solidFill>
              <a:latin typeface="Georgi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809120" cy="42307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431640" indent="-32364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8000"/>
                </a:solidFill>
                <a:latin typeface="Georgia"/>
              </a:rPr>
              <a:t>Vazba mezi kategorií věcí nebo událostí vyjádřenou obecným substantivem a individuálním případem dané kategorie (jednotková třída označena vlastním jménem)</a:t>
            </a:r>
            <a:r>
              <a:rPr b="0" lang="cs-CZ" sz="2800" spc="-1" strike="noStrike">
                <a:solidFill>
                  <a:srgbClr val="008000"/>
                </a:solidFill>
                <a:latin typeface="Georgia"/>
              </a:rPr>
              <a:t>‏</a:t>
            </a:r>
            <a:r>
              <a:rPr b="0" lang="cs-CZ" sz="2800" spc="-1" strike="noStrike">
                <a:solidFill>
                  <a:srgbClr val="008000"/>
                </a:solidFill>
                <a:latin typeface="Georg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např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pohoř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Alpy 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individuální případy uvedené 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Himaláj 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obecné kategor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2933640" y="4508640"/>
            <a:ext cx="457200" cy="101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71400" y="549360"/>
            <a:ext cx="7809120" cy="105552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400" spc="-1" strike="noStrike">
                <a:solidFill>
                  <a:srgbClr val="333333"/>
                </a:solidFill>
                <a:latin typeface="Georgia"/>
              </a:rPr>
              <a:t>Vztah asociace</a:t>
            </a:r>
            <a:endParaRPr b="1" lang="en-US" sz="4400" spc="-1" strike="noStrike">
              <a:solidFill>
                <a:srgbClr val="333333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8091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 fontScale="99000"/>
          </a:bodyPr>
          <a:p>
            <a:pPr marL="42732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Vazba mezi dvěma lex. jednotkami, které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nejsou ve vztahu ekvival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nejsou spolu v hierarchickém vztah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ff0000"/>
                </a:solidFill>
                <a:latin typeface="Georgia"/>
              </a:rPr>
              <a:t>Použití: Lexikální jednotky jsou mentálně natolik asociovány, že je účelné  vyjádřit jejich vazbu v tezauru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8000"/>
                </a:solidFill>
                <a:latin typeface="Georgia"/>
              </a:rPr>
              <a:t>Pravidlo pro stanovení vztahu: Při indexaci jednou jednotkou je vyvolána potřeba indexace druhou asoc. jednotkou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např.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ochrana soukromí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RT/ad  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datové právo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osobní údaje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71400" y="549360"/>
            <a:ext cx="7809120" cy="105552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400" spc="-1" strike="noStrike">
                <a:solidFill>
                  <a:srgbClr val="333333"/>
                </a:solidFill>
                <a:latin typeface="Georgia"/>
              </a:rPr>
              <a:t>Výklad termínu</a:t>
            </a:r>
            <a:endParaRPr b="1" lang="en-US" sz="4400" spc="-1" strike="noStrike">
              <a:solidFill>
                <a:srgbClr val="333333"/>
              </a:solidFill>
              <a:latin typeface="Georgi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31280" y="1740960"/>
            <a:ext cx="8217000" cy="506268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 fontScale="93000"/>
          </a:bodyPr>
          <a:p>
            <a:pPr marL="401400" indent="-30096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80"/>
                </a:solidFill>
                <a:latin typeface="Georgia"/>
              </a:rPr>
              <a:t>Předmětový SJ je SJ používaný při realizaci procesu předmětového pořádání informací jako jeho výrazový a vyjadřovací prostředek.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(Kovář, 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  <a:ea typeface="Verdana"/>
              </a:rPr>
              <a:t>1984, 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s. 129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14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1400" indent="-30096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8000"/>
                </a:solidFill>
                <a:latin typeface="Georgia"/>
              </a:rPr>
              <a:t>Předmětové pořádání informací je proces, při kterém slovně vyjádřený obsah, téma či předmět dokumentu, jeho částí nebo jednotlivých v něm obsažených informací je převáděn do jednou více, jindy méně normalizovaných a formalizovaných hesel (deskriptorů), která jsou ve slovnících uspořádána abecedně.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(volně podle Kovář, 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  <a:ea typeface="Verdana"/>
              </a:rPr>
              <a:t>1984, 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s. 13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71400" y="549360"/>
            <a:ext cx="7809120" cy="105552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400" spc="-1" strike="noStrike">
                <a:solidFill>
                  <a:srgbClr val="333333"/>
                </a:solidFill>
                <a:latin typeface="Georgia"/>
              </a:rPr>
              <a:t>Asociace</a:t>
            </a:r>
            <a:endParaRPr b="1" lang="en-US" sz="4400" spc="-1" strike="noStrike">
              <a:solidFill>
                <a:srgbClr val="333333"/>
              </a:solidFill>
              <a:latin typeface="Georgi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809120" cy="48434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 fontScale="96000"/>
          </a:bodyPr>
          <a:p>
            <a:pPr marL="414360" indent="-31068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Disciplína/objekt (př.: informační věda -- informac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31068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Úkon, proces/konatel, nástroj (př.: katalogizace – katalogizační pravidla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31068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Činnost/výsledek (př.: katalogizace – katalogizační záznam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31068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Činnost/předmět (př.: indexace -- dokument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31068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Pojem/vlastnost (př.: informace -- pravdivost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31068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Pojem/původ (př.: Francouzi -- Franci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31068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Kauzální souvislost (př.: nemoc -- léčení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31068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Věc/agens působící proti ní (př.: rostliny -- herbicidy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31068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pojem/jednotka měření (př.: informace -- bit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31068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synkategorematické výrazy (př.: čokoládová vejce – vejce; umělé květiny -- květiny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71400" y="549360"/>
            <a:ext cx="7809120" cy="105552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400" spc="-1" strike="noStrike">
                <a:solidFill>
                  <a:srgbClr val="333333"/>
                </a:solidFill>
                <a:latin typeface="Georgia"/>
              </a:rPr>
              <a:t>Uspořádání LJ</a:t>
            </a:r>
            <a:endParaRPr b="1" lang="en-US" sz="4400" spc="-1" strike="noStrike">
              <a:solidFill>
                <a:srgbClr val="333333"/>
              </a:solidFill>
              <a:latin typeface="Georg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809120" cy="4230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abecední uspořádán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systematické uspořádání doplněné abecedním rejstřík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grafické uspořádání s abecední čás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71400" y="500040"/>
            <a:ext cx="7809120" cy="1152720"/>
          </a:xfrm>
          <a:prstGeom prst="rect">
            <a:avLst/>
          </a:prstGeom>
          <a:noFill/>
          <a:ln w="0">
            <a:noFill/>
          </a:ln>
        </p:spPr>
        <p:txBody>
          <a:bodyPr lIns="0" rIns="0" tIns="2520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000" spc="-1" strike="noStrike">
                <a:solidFill>
                  <a:srgbClr val="333333"/>
                </a:solidFill>
                <a:latin typeface="Georgia"/>
              </a:rPr>
              <a:t>Organizační aspekty vypracování tezauru</a:t>
            </a:r>
            <a:endParaRPr b="1" lang="en-US" sz="4000" spc="-1" strike="noStrike">
              <a:solidFill>
                <a:srgbClr val="333333"/>
              </a:solidFill>
              <a:latin typeface="Georgi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71400" y="1906200"/>
            <a:ext cx="780912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 fontScale="99000"/>
          </a:bodyPr>
          <a:p>
            <a:pPr marL="427320" indent="-3204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Excerpce L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567360"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deduktivní meto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567360"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induktivní meto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Záznamy L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Verifikace L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567360"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odborné slovníky, encykloped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567360"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existující tezau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567360"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SS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Specifičnost L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Doplňování a vyřazování LJ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Využití výpočetní techni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více viz ČSN 010193, s. 45 - 4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71400" y="549360"/>
            <a:ext cx="7809120" cy="105552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400" spc="-1" strike="noStrike">
                <a:solidFill>
                  <a:srgbClr val="333333"/>
                </a:solidFill>
                <a:latin typeface="Georgia"/>
              </a:rPr>
              <a:t>Výhody tezauru</a:t>
            </a:r>
            <a:endParaRPr b="1" lang="en-US" sz="4400" spc="-1" strike="noStrike">
              <a:solidFill>
                <a:srgbClr val="333333"/>
              </a:solidFill>
              <a:latin typeface="Georg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809120" cy="42307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Princip postkoordinace a z toho prameníc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přehlednost selekčního obrazu dokumen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snadná tvorba hierarchických strukt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snadná údržb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snadná manipula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71400" y="549360"/>
            <a:ext cx="7809120" cy="105552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400" spc="-1" strike="noStrike">
                <a:solidFill>
                  <a:srgbClr val="333333"/>
                </a:solidFill>
                <a:latin typeface="Georgia"/>
              </a:rPr>
              <a:t>Nevýhody tezauru</a:t>
            </a:r>
            <a:endParaRPr b="1" lang="en-US" sz="4400" spc="-1" strike="noStrike">
              <a:solidFill>
                <a:srgbClr val="333333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71400" y="1906200"/>
            <a:ext cx="780912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 fontScale="97000"/>
          </a:bodyPr>
          <a:p>
            <a:pPr marL="4186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8680" indent="-31392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Rozklad víceslovných jednotek - nerespektování kompaktnosti termín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8680" indent="-31392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Informační šum způsobený parazitním (náhodným) spojením deskriptorů a v důsledku toh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7720" indent="-555840">
              <a:lnSpc>
                <a:spcPct val="95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velký ohlas irelevantních dokument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772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8680" indent="-31392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Omezení pouze na tematickou část obsahové charakteristiky dokumentu: systém deskriptorů a nedeskriptorů zahrnuje pouze tematické termíny; tento nedostatek se odstraňuje připojením podpůrných souborů identifikátorů (personália, jména korporací, geografické názvy, atd.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71400" y="549360"/>
            <a:ext cx="7809120" cy="105552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400" spc="-1" strike="noStrike">
                <a:solidFill>
                  <a:srgbClr val="333333"/>
                </a:solidFill>
                <a:latin typeface="Georgia"/>
              </a:rPr>
              <a:t>Příklady tezaurů</a:t>
            </a:r>
            <a:endParaRPr b="1" lang="en-US" sz="4400" spc="-1" strike="noStrike">
              <a:solidFill>
                <a:srgbClr val="333333"/>
              </a:solidFill>
              <a:latin typeface="Georg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8091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14040" bIns="0" anchor="t">
            <a:normAutofit fontScale="93000"/>
          </a:bodyPr>
          <a:p>
            <a:pPr marL="720360" indent="-61848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8000"/>
                </a:solidFill>
                <a:latin typeface="Georgia"/>
              </a:rPr>
              <a:t>vícejazyčné tezau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2036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ff0000"/>
                </a:solidFill>
                <a:latin typeface="Georgia"/>
              </a:rPr>
              <a:t>Eurovoc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cs-CZ" sz="2200" spc="-1" strike="noStrike" u="sng">
                <a:solidFill>
                  <a:srgbClr val="ccccff"/>
                </a:solidFill>
                <a:uFillTx/>
                <a:latin typeface="Georgia"/>
                <a:hlinkClick r:id="rId1"/>
              </a:rPr>
              <a:t>http://europa.eu/eurovoc/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2036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 u="sng">
                <a:solidFill>
                  <a:srgbClr val="ccccff"/>
                </a:solidFill>
                <a:uFillTx/>
                <a:latin typeface="Georgia"/>
                <a:hlinkClick r:id="rId2"/>
              </a:rPr>
              <a:t>http://www.psp.cz/kps/knih/e_zakinf.htm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2036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ff0000"/>
                </a:solidFill>
                <a:latin typeface="Georgia"/>
              </a:rPr>
              <a:t>MeSH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cs-CZ" sz="2200" spc="-1" strike="noStrike" u="sng">
                <a:solidFill>
                  <a:srgbClr val="ccccff"/>
                </a:solidFill>
                <a:uFillTx/>
                <a:latin typeface="Georgia"/>
                <a:hlinkClick r:id="rId3"/>
              </a:rPr>
              <a:t>http://www.medvik.cz/medvik/search_titles.do?source=mes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2036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ff0000"/>
                </a:solidFill>
                <a:latin typeface="Georgia"/>
              </a:rPr>
              <a:t>Agrovoc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cs-CZ" sz="2200" spc="-1" strike="noStrike" u="sng">
                <a:solidFill>
                  <a:srgbClr val="ccccff"/>
                </a:solidFill>
                <a:uFillTx/>
                <a:latin typeface="Georgia"/>
                <a:hlinkClick r:id="rId4"/>
              </a:rPr>
              <a:t>http://www.knihovna.uzpi.cz/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2036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ff0000"/>
                </a:solidFill>
                <a:latin typeface="Georgia"/>
              </a:rPr>
              <a:t>ČPT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 (EET) - Český pedagogický tezaurus </a:t>
            </a:r>
            <a:r>
              <a:rPr b="0" lang="cs-CZ" sz="2200" spc="-1" strike="noStrike" u="sng">
                <a:solidFill>
                  <a:srgbClr val="ccccff"/>
                </a:solidFill>
                <a:uFillTx/>
                <a:latin typeface="Georgia"/>
                <a:hlinkClick r:id="rId5"/>
              </a:rPr>
              <a:t>http://www.npkk.cz/npkk/zakl_tez.php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2036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ff0000"/>
                </a:solidFill>
                <a:latin typeface="Georgia"/>
              </a:rPr>
              <a:t>PSH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 - Polytematický strukturovaný heslář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2036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 u="sng">
                <a:solidFill>
                  <a:srgbClr val="ccccff"/>
                </a:solidFill>
                <a:uFillTx/>
                <a:latin typeface="Georgia"/>
                <a:hlinkClick r:id="rId6"/>
              </a:rPr>
              <a:t>http://old.stk.cz/psh.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2036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20360" indent="-61848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8000"/>
                </a:solidFill>
                <a:latin typeface="Georgia"/>
              </a:rPr>
              <a:t>jednojazyčné české tezau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2036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např. </a:t>
            </a:r>
            <a:r>
              <a:rPr b="0" lang="cs-CZ" sz="2200" spc="-1" strike="noStrike">
                <a:solidFill>
                  <a:srgbClr val="ff0000"/>
                </a:solidFill>
                <a:latin typeface="Georgia"/>
              </a:rPr>
              <a:t>ČTT 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- Český teologický tezaurus </a:t>
            </a:r>
            <a:r>
              <a:rPr b="0" lang="cs-CZ" sz="2200" spc="-1" strike="noStrike" u="sng">
                <a:solidFill>
                  <a:srgbClr val="ccccff"/>
                </a:solidFill>
                <a:uFillTx/>
                <a:latin typeface="Georgia"/>
                <a:hlinkClick r:id="rId7"/>
              </a:rPr>
              <a:t>http://www.etf.cuni.cz/~library/infoctt.html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720360" y="1439640"/>
            <a:ext cx="7808760" cy="5392440"/>
          </a:xfrm>
          <a:prstGeom prst="rect">
            <a:avLst/>
          </a:prstGeom>
          <a:noFill/>
          <a:ln w="0">
            <a:noFill/>
          </a:ln>
        </p:spPr>
        <p:txBody>
          <a:bodyPr lIns="0" rIns="0" tIns="14040" bIns="0" anchor="t">
            <a:normAutofit/>
          </a:bodyPr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  <a:ea typeface="Verdana"/>
              </a:rPr>
              <a:t>Aichison, J., Gilchrist, A., Bawden, D. 2000. </a:t>
            </a:r>
            <a:r>
              <a:rPr b="0" i="1" lang="en-US" sz="2200" spc="-1" strike="noStrike">
                <a:solidFill>
                  <a:srgbClr val="000000"/>
                </a:solidFill>
                <a:latin typeface="Georgia"/>
                <a:ea typeface="Verdana"/>
              </a:rPr>
              <a:t>Thesaurus construction and use : a practical manual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  <a:ea typeface="Verdana"/>
              </a:rPr>
              <a:t>. 4th ed. Chicago : Fitzroy Dearborn Publishers, c2000. </a:t>
            </a:r>
            <a:r>
              <a:rPr b="0" lang="en-US" sz="2200" spc="-1" strike="noStrike">
                <a:solidFill>
                  <a:srgbClr val="008000"/>
                </a:solidFill>
                <a:latin typeface="Georgia"/>
                <a:ea typeface="Verdana"/>
              </a:rPr>
              <a:t>Kap. A, B,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  <a:ea typeface="Verdana"/>
              </a:rPr>
              <a:t> s. 1-13. dostupné ve fondu ÚK FF MU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  <a:ea typeface="Verdana"/>
              </a:rPr>
              <a:t>Balíková, M. 2001 </a:t>
            </a:r>
            <a:r>
              <a:rPr b="0" lang="en-US" sz="2200" spc="-1" strike="noStrike">
                <a:solidFill>
                  <a:srgbClr val="008000"/>
                </a:solidFill>
                <a:latin typeface="Georgia"/>
                <a:ea typeface="Verdana"/>
              </a:rPr>
              <a:t>Problematika věcného pořádání informací a jejich zpřístupnění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  <a:ea typeface="Verdana"/>
              </a:rPr>
              <a:t>. </a:t>
            </a:r>
            <a:r>
              <a:rPr b="0" i="1" lang="en-US" sz="2200" spc="-1" strike="noStrike">
                <a:solidFill>
                  <a:srgbClr val="000000"/>
                </a:solidFill>
                <a:latin typeface="Georgia"/>
                <a:ea typeface="Verdana"/>
              </a:rPr>
              <a:t>Národní knihovna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  <a:ea typeface="Verdana"/>
              </a:rPr>
              <a:t>, 2001, roč. 12, č. 3, s. 175-186. Dostupné z WWW:  </a:t>
            </a:r>
            <a:r>
              <a:rPr b="0" lang="en-US" sz="2200" spc="-1" strike="noStrike" u="sng">
                <a:solidFill>
                  <a:srgbClr val="ccccff"/>
                </a:solidFill>
                <a:uFillTx/>
                <a:latin typeface="Georgia"/>
                <a:ea typeface="Verdana"/>
                <a:hlinkClick r:id="rId1"/>
              </a:rPr>
              <a:t>http://full.nkp.cz/nkkr/NKKR0103/0103175.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200" spc="-1" strike="noStrike">
                <a:solidFill>
                  <a:srgbClr val="008000"/>
                </a:solidFill>
                <a:latin typeface="Georgia"/>
                <a:ea typeface="Verdana"/>
              </a:rPr>
              <a:t>ČSN 01 0193. Dokumentace. Pokyny pro vypracování </a:t>
            </a:r>
            <a:br>
              <a:rPr sz="2200"/>
            </a:br>
            <a:r>
              <a:rPr b="0" i="1" lang="en-US" sz="2200" spc="-1" strike="noStrike">
                <a:solidFill>
                  <a:srgbClr val="008000"/>
                </a:solidFill>
                <a:latin typeface="Georgia"/>
                <a:ea typeface="Verdana"/>
              </a:rPr>
              <a:t>a rozvíjení jednojazyčných tezaurů</a:t>
            </a:r>
            <a:r>
              <a:rPr b="0" i="1" lang="en-US" sz="2200" spc="-1" strike="noStrike">
                <a:solidFill>
                  <a:srgbClr val="000000"/>
                </a:solidFill>
                <a:latin typeface="Georgia"/>
                <a:ea typeface="Verdana"/>
              </a:rPr>
              <a:t>.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  <a:ea typeface="Verdana"/>
              </a:rPr>
              <a:t> Úč. 1.2.1996. 52 s. - dostupné v ÚK FF MU, registrační pul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Georgia"/>
                <a:ea typeface="Verdana"/>
              </a:rPr>
              <a:t>Pinkas, O. 2002. </a:t>
            </a:r>
            <a:r>
              <a:rPr b="0" i="1" lang="cs-CZ" sz="2200" spc="-1" strike="noStrike">
                <a:solidFill>
                  <a:srgbClr val="000000"/>
                </a:solidFill>
                <a:latin typeface="Georgia"/>
                <a:ea typeface="Verdana"/>
              </a:rPr>
              <a:t>Zpracování informačních fondů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  <a:ea typeface="Verdana"/>
              </a:rPr>
              <a:t>. Vyd. 1.</a:t>
            </a:r>
            <a:br>
              <a:rPr sz="2200"/>
            </a:br>
            <a:r>
              <a:rPr b="0" lang="cs-CZ" sz="2200" spc="-1" strike="noStrike">
                <a:solidFill>
                  <a:srgbClr val="000000"/>
                </a:solidFill>
                <a:latin typeface="Georgia"/>
                <a:ea typeface="Verdana"/>
              </a:rPr>
              <a:t>V Praze : Vysoká škola ekonomická, 2002. Kap. 7 </a:t>
            </a:r>
            <a:r>
              <a:rPr b="0" lang="cs-CZ" sz="2200" spc="-1" strike="noStrike">
                <a:solidFill>
                  <a:srgbClr val="008000"/>
                </a:solidFill>
                <a:latin typeface="Georgia"/>
                <a:ea typeface="Verdana"/>
              </a:rPr>
              <a:t>Selekční jazyky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  <a:ea typeface="Verdana"/>
              </a:rPr>
              <a:t>, s. 89-114, Kap. 8. </a:t>
            </a:r>
            <a:r>
              <a:rPr b="0" lang="cs-CZ" sz="2200" spc="-1" strike="noStrike">
                <a:solidFill>
                  <a:srgbClr val="008000"/>
                </a:solidFill>
                <a:latin typeface="Georgia"/>
                <a:ea typeface="Verdana"/>
              </a:rPr>
              <a:t>Tezaurus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  <a:ea typeface="Verdana"/>
              </a:rPr>
              <a:t>, s. 115-126. - dostupné ve fondu ÚK FF MU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title"/>
          </p:nvPr>
        </p:nvSpPr>
        <p:spPr>
          <a:xfrm>
            <a:off x="671400" y="503280"/>
            <a:ext cx="780912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2520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Georgia"/>
              </a:rPr>
              <a:t>Povinná a použitá literatura</a:t>
            </a:r>
            <a:endParaRPr b="1" lang="en-US" sz="4000" spc="-1" strike="noStrike">
              <a:solidFill>
                <a:srgbClr val="333333"/>
              </a:solidFill>
              <a:latin typeface="Georgia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71400" y="500040"/>
            <a:ext cx="7809120" cy="1152720"/>
          </a:xfrm>
          <a:prstGeom prst="rect">
            <a:avLst/>
          </a:prstGeom>
          <a:noFill/>
          <a:ln w="0">
            <a:noFill/>
          </a:ln>
        </p:spPr>
        <p:txBody>
          <a:bodyPr lIns="0" rIns="0" tIns="2520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Georgia"/>
              </a:rPr>
              <a:t>Doporučená a použitá literatura</a:t>
            </a:r>
            <a:endParaRPr b="1" lang="en-US" sz="4000" spc="-1" strike="noStrike">
              <a:solidFill>
                <a:srgbClr val="333333"/>
              </a:solidFill>
              <a:latin typeface="Georg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60000" y="1800360"/>
            <a:ext cx="8327880" cy="455616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431640" indent="-32364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Verdana"/>
              </a:rPr>
              <a:t>Aichison, J., Gilchrist, A., Bawden, D. </a:t>
            </a:r>
            <a:r>
              <a:rPr b="0" i="1" lang="en-US" sz="2400" spc="-1" strike="noStrike">
                <a:solidFill>
                  <a:srgbClr val="000000"/>
                </a:solidFill>
                <a:latin typeface="Georgia"/>
                <a:ea typeface="Verdana"/>
              </a:rPr>
              <a:t>Thesaurus construction and use : a practical manual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Verdana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Verdana"/>
              </a:rPr>
              <a:t>4th ed. Chicago : Fitzroy Dearborn Publishers, c2000. 218 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Verdana"/>
              </a:rPr>
              <a:t>Kovář, Blahoslav. 1984. </a:t>
            </a:r>
            <a:r>
              <a:rPr b="0" i="1" lang="en-US" sz="2400" spc="-1" strike="noStrike">
                <a:solidFill>
                  <a:srgbClr val="008000"/>
                </a:solidFill>
                <a:latin typeface="Georgia"/>
                <a:ea typeface="Verdana"/>
              </a:rPr>
              <a:t>Věcné pořádání informací </a:t>
            </a:r>
            <a:br>
              <a:rPr sz="2400"/>
            </a:br>
            <a:r>
              <a:rPr b="0" i="1" lang="en-US" sz="2400" spc="-1" strike="noStrike">
                <a:solidFill>
                  <a:srgbClr val="008000"/>
                </a:solidFill>
                <a:latin typeface="Georgia"/>
                <a:ea typeface="Verdana"/>
              </a:rPr>
              <a:t>a selekční jazyky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Verdana"/>
              </a:rPr>
              <a:t>. Praha : ÚVTEI, 1984. 251 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400" spc="-1" strike="noStrike">
                <a:solidFill>
                  <a:srgbClr val="008000"/>
                </a:solidFill>
                <a:latin typeface="Georgia"/>
                <a:ea typeface="Verdana"/>
              </a:rPr>
              <a:t>KTD : Česká terminologická databáze knihovnictví a informační vědy (TDKIV)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Verdana"/>
              </a:rPr>
              <a:t> [online]. Praha : Národní knihovna České republiky, 2003. Dostupné z WWW: 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Georgia"/>
                <a:ea typeface="Verdana"/>
                <a:hlinkClick r:id="rId1"/>
              </a:rPr>
              <a:t>http://sigma.nkp.cz/cze/ktd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Verdana"/>
              </a:rPr>
              <a:t>Schwarz, Josef. 2007.  </a:t>
            </a:r>
            <a:r>
              <a:rPr b="0" i="1" lang="en-US" sz="2400" spc="-1" strike="noStrike">
                <a:solidFill>
                  <a:srgbClr val="008000"/>
                </a:solidFill>
                <a:latin typeface="Georgia"/>
                <a:ea typeface="Verdana"/>
              </a:rPr>
              <a:t>Selekční jazyky 1 : Úvod do problematiky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Verdana"/>
              </a:rPr>
              <a:t> [ppt]. Přednáška č. 2 (kombinované studium). 9.11.2007.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  <a:ea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71400" y="549360"/>
            <a:ext cx="7809120" cy="105552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400" spc="-1" strike="noStrike">
                <a:solidFill>
                  <a:srgbClr val="333333"/>
                </a:solidFill>
                <a:latin typeface="Georgia"/>
              </a:rPr>
              <a:t>Výklad termínu</a:t>
            </a:r>
            <a:endParaRPr b="1" lang="en-US" sz="4400" spc="-1" strike="noStrike">
              <a:solidFill>
                <a:srgbClr val="333333"/>
              </a:solidFill>
              <a:latin typeface="Georg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71400" y="1906200"/>
            <a:ext cx="7809120" cy="471636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 fontScale="97000"/>
          </a:bodyPr>
          <a:p>
            <a:pPr marL="418680" indent="-31392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8000"/>
                </a:solidFill>
                <a:latin typeface="Georgia"/>
              </a:rPr>
              <a:t>Controlled vocabulary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 - Seznam nebo databáze věcných termínů, kdy všechny termíny nebo fráze reprezentující pojem jsou sdruženy dohromady. Preferované lexik. jednotky jsou navrženy pro užití v záznamech o dokumentech v rešeršních systémech. 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(volně podle Taylor, 2004, s. 36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8680" indent="-31392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800000"/>
                </a:solidFill>
                <a:latin typeface="Georgia"/>
              </a:rPr>
              <a:t>Vocabulary control tool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 - Organizovaný seznam termínů nebo frází, který může být použit k indexování nebo prohledávání sbírky pomocí věcných termínů či frází. 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(Chowdhury, 2007, s. XVII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671400" y="1906200"/>
            <a:ext cx="7809120" cy="469908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 fontScale="97000"/>
          </a:bodyPr>
          <a:p>
            <a:pPr marL="418680" indent="-31392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ff0000"/>
                </a:solidFill>
                <a:latin typeface="Georgia"/>
              </a:rPr>
              <a:t>prekoordinované PSJ 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- Vyjadřují téma dokumentu nebo dotazu souborem slov přirozeného jazyka svázaných podle pevně stanovených pravidel </a:t>
            </a:r>
            <a:br>
              <a:rPr sz="2600"/>
            </a:b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a dávajících smysl jen jako celek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18680" indent="-31392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8000"/>
                </a:solidFill>
                <a:latin typeface="Georgia"/>
              </a:rPr>
              <a:t>postkoordinované PSJ 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- Téma dokumentu nebo dotazu je vyjádřeno také souborem slov přirozeného jazyka, avšak tento soubor se skládá z původně vzájemně izolovaných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186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a samostatných slov a sousloví, která byla vybrána z řízeného slovníku.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186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(Kovář, 1984, s. 132 - 133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86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86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671400" y="549360"/>
            <a:ext cx="7809120" cy="105552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400" spc="-1" strike="noStrike">
                <a:solidFill>
                  <a:srgbClr val="333333"/>
                </a:solidFill>
                <a:latin typeface="Georgia"/>
              </a:rPr>
              <a:t>Druhy předmětových SJ</a:t>
            </a:r>
            <a:endParaRPr b="1" lang="en-US" sz="4400" spc="-1" strike="noStrike">
              <a:solidFill>
                <a:srgbClr val="333333"/>
              </a:solidFill>
              <a:latin typeface="Georgi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360360" y="1619280"/>
            <a:ext cx="7920000" cy="46800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671400" y="549360"/>
            <a:ext cx="7809120" cy="10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Georgia"/>
                <a:ea typeface="Arial Unicode MS"/>
              </a:rPr>
              <a:t>NOVÁK, Blahoslav. Projevuje se snižování hektarových výnosů chmele a spotřeby piva u nás na rozloze vinic a výrobě vína v Rakousku? Šťastný vinař, 2009, roč. 1, č. 2, s. 10-2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71400" y="1906560"/>
            <a:ext cx="7809120" cy="47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4040" bIns="0" anchor="t">
            <a:noAutofit/>
          </a:bodyPr>
          <a:p>
            <a:pPr marL="431640" indent="-323640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Georgia"/>
                <a:ea typeface="Arial Unicode MS"/>
              </a:rPr>
              <a:t>Schwarz, J., 200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671400" y="1906560"/>
            <a:ext cx="7809120" cy="423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7640" bIns="0" anchor="t">
            <a:noAutofit/>
          </a:bodyPr>
          <a:p>
            <a:pPr marL="431640" indent="-323640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Georgia"/>
                <a:ea typeface="Arial Unicode MS"/>
              </a:rPr>
              <a:t>prekoordinované PSJ 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  <a:ea typeface="Arial Unicode MS"/>
              </a:rPr>
              <a:t>- 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  <a:ea typeface="Arial Unicode MS"/>
              </a:rPr>
              <a:t>předmětová hesla (jazyk předmětových hesel, PSJ typu předmětových hese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8000"/>
                </a:solidFill>
                <a:latin typeface="Georgia"/>
                <a:ea typeface="Arial Unicode MS"/>
              </a:rPr>
              <a:t>postkoordinované PSJ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  <a:ea typeface="Arial Unicode MS"/>
              </a:rPr>
              <a:t> - 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  <a:ea typeface="Arial Unicode MS"/>
              </a:rPr>
              <a:t>deskriptorové SJ (PSJ deskriptorového typu), volně tvořená klíčová slova, PSJ založené na použití slov z názvu dokumentů - permutované (rotované) rejstříky (KWIC, KWO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71400" y="549360"/>
            <a:ext cx="7809120" cy="105552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400" spc="-1" strike="noStrike">
                <a:solidFill>
                  <a:srgbClr val="333333"/>
                </a:solidFill>
                <a:latin typeface="Georgia"/>
              </a:rPr>
              <a:t>Předmětová hesla</a:t>
            </a:r>
            <a:endParaRPr b="1" lang="en-US" sz="4400" spc="-1" strike="noStrike">
              <a:solidFill>
                <a:srgbClr val="333333"/>
              </a:solidFill>
              <a:latin typeface="Georg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80912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 fontScale="91000"/>
          </a:bodyPr>
          <a:p>
            <a:pPr marL="392760" indent="-29448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Georgia"/>
              </a:rPr>
              <a:t>Jazyk předmětových hesel představuje nástroj, ve kterém je téma dokumentu vyjádřeno sestavou lexikálních jednotek podle předem stanovených syntagmatických a syntaktických pravidel už v průběhu indexování. 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(Balíková, 200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276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2760" indent="-29448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použití - p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ředmětová hesla jako prvky řazení v předmětových katalozích a kartotéká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276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 u="sng">
                <a:solidFill>
                  <a:srgbClr val="ccccff"/>
                </a:solidFill>
                <a:uFillTx/>
                <a:latin typeface="Georgia"/>
                <a:hlinkClick r:id="rId1"/>
              </a:rPr>
              <a:t>http://www.lib.cas.cz/katalogy/predmetovy-katalog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2760" indent="-29448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použití v online prostředí - modifikace pravi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1T20:21:44Z</dcterms:created>
  <dc:creator>Silvie Presová</dc:creator>
  <dc:description/>
  <dc:language>en-US</dc:language>
  <cp:lastModifiedBy>Silvie Kořínková Presova</cp:lastModifiedBy>
  <dcterms:modified xsi:type="dcterms:W3CDTF">2009-11-03T21:29:53Z</dcterms:modified>
  <cp:revision>102</cp:revision>
  <dc:subject/>
  <dc:title>Snímek 1</dc:title>
</cp:coreProperties>
</file>