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30560" cy="36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1169640" y="5086080"/>
            <a:ext cx="522612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C93B-1744-468D-8461-ED1517D4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B83-584E-4AA0-9DC6-4170C8BA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7CF5-CCA5-4FBF-8067-CD47BA14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3F6-FBEF-4454-B95E-F3D59CA6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8E9-9F0A-4ECB-AC48-ECEE46A9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4963-9EC2-4655-8CD0-3A1CEEA4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77F-F690-474E-B107-4E750034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D72-C469-4F07-B7E9-0D4E9DE5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F6B-E797-4E43-A120-B7D88997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CE9-12F9-4142-8D5F-0BC02B97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347-609F-4C32-94AC-D348B2BA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A5F-EE52-4713-A94F-9633200E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68947-2343-49C9-BC4B-8BA57AF29F9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04640" y="1892160"/>
            <a:ext cx="9674280" cy="56660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isk.phil.muni.cz/mgr-silvie-korinkova-presova-dis" TargetMode="External"/><Relationship Id="rId2" Type="http://schemas.openxmlformats.org/officeDocument/2006/relationships/slideLayout" Target="../slideLayouts/slideLayout26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javascript:open_window(%22http://sigma.nkp.cz/F/QDF4KV7RXEU9N56M96RYIVEEM5JXLGTKS7KMKJ9H4F2Q64GVF6-11507?func=service&amp;doc_number=001567255&amp;line_number=0029&amp;service_type=TAG%22);" TargetMode="External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osmas.cz/knihy/128653/dejiny-loutkoveho-divadla-v-evrope-1/" TargetMode="External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kosmas.cz/knihy/127133/vecny-prepych/" TargetMode="External"/><Relationship Id="rId2" Type="http://schemas.openxmlformats.org/officeDocument/2006/relationships/slideLayout" Target="../slideLayouts/slideLayout28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ikaros.cz/node/3986" TargetMode="External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Georgia"/>
              </a:rPr>
              <a:t>Indexace dokumentů</a:t>
            </a:r>
            <a:r>
              <a:rPr b="1" lang="cs-CZ" sz="4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1240" y="214632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ředmět: Selekční jazy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7. 11.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řednášející: Mgr. Silvie Kořínková Pres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kisk.phil.muni.cz/mgr-silvie-korinkova-presova-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Obsahová analýz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6962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Obsahovou analýzu není vhodné opřít pouze </a:t>
            </a:r>
            <a:br>
              <a:rPr sz="2800"/>
            </a:b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o název či referát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viz příklad publikace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Drahokamy / Květoslav Minařík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ři obsahové analýze vychází indexá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 textu dokumentu, přičemž pozornost věnuje následujícím položká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titul, obs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bstrakt, ano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utorská klíčov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úvod a závěr, úvodní věty kapitol, odstav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výrazněné úseky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ilustrace, schémata, tabulky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333333"/>
                </a:solidFill>
                <a:latin typeface="Georgia"/>
              </a:rPr>
              <a:t>Dějiny loutkového divadla v Evropě 1. / Charles Magnin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outkové divadlo -- Evropa -- děj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Na základě anotace se pokuste určit další důležitá témata či té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notace je dostupná z </a:t>
            </a:r>
            <a:r>
              <a:rPr b="0" lang="cs-CZ" sz="3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kosmas.cz/knihy/128653/dejiny-loutkoveho-divadla-v-evrope-1/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333333"/>
                </a:solidFill>
                <a:latin typeface="Georgia"/>
              </a:rPr>
              <a:t>Dějiny loutkového divadla v Evropě 1. / Charles Magnin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ýsledný S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outkové divadlo -- Evropa -- děj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outky -- Evropa -- děj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řehl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Obsahová analýz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Netištěné dokumenty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(audiovizuální, vizuální a zvukové dok., digitální dok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Indexace na základě jejich textové složk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Nestačí-li textová složka, je třeba se seznámit s úplným dokumen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Identifikace pojmů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Co ovlivňuje identifikaci pojmů vhodných pro reprezentaci předmětu dokumentu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Konkrétní cíl indexace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např. tvorba SOD či rejstříku ve smyslu informačního aparátu primárního dokumen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Druh indexovaného doku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Georgia"/>
              </a:rPr>
              <a:t>Funkce IS a potřeby uži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Identifikace pojmů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Během pojmové analýzy si musí indexátor klást následující otázky týkající se dokumentu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Lancaster, 2003, s. 9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1.  O čem dokument 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2. Proč má být dok. přidán do fond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3. Jaké aspekty budou zajímat naše uživate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fektivní indexace zahrnuje nejenom rozhodnutí o tom, o čem dokument je, ale také z jakého důvodu bude zajímat určitou skupinu uživatel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1240" y="595080"/>
            <a:ext cx="860904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Identifikace pojmů - vliv uživatelů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0960" y="2160360"/>
            <a:ext cx="860904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Z hlediska indexace zaměřené na uživatele -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dokument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různé IS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různé S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Zachycení témat, které maj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pro uživatele IS potencionální hodnot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Čím je specializovanější pracoviště a jeho uživatelé, tím je pravděpodobnější, že indexace může být a měla by být přizpůsobena přesným zájmům uživatel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User-centered indexing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Fidel, 1994)  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dkazuje k indexaci na základě požadavků očekávaných od určité skupiny uživatel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19280" y="2700360"/>
            <a:ext cx="90036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59280" y="2697120"/>
            <a:ext cx="901800" cy="456480"/>
            <a:chOff x="4859280" y="2697120"/>
            <a:chExt cx="901800" cy="456480"/>
          </a:xfrm>
        </p:grpSpPr>
        <p:sp>
          <p:nvSpPr>
            <p:cNvPr id="163" name=""/>
            <p:cNvSpPr/>
            <p:nvPr/>
          </p:nvSpPr>
          <p:spPr>
            <a:xfrm>
              <a:off x="4859280" y="2700360"/>
              <a:ext cx="90000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59280" y="2697120"/>
              <a:ext cx="90180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920" bIns="4680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Arial Unicode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Identifikace pojmů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5880" indent="-32076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ojmová analýza by neměla být ovlivněna charakterem SJ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, který bude použit při převodu do PZ. Indexátor musí nejprve rozhodnout jaká témata je potřeba reprezentovat.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Lancaster, 2003, s. 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„</a:t>
            </a: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Analýza i transkripce by se měly provádět s pomocí nástrojů indexová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jako jsou tezaurus a klasifikační systémy.“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ČSN ISO 5963, 1996, s.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Vyjádření pojmů znaky SJ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„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řeklad“ identifikovaných pojmů do pořádacích znaků SJ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- např. deskriptory, předmětová hesla, klasifikační znaky, volně tvořená klíčová slo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Nutné zohlednit syntaxi (indexační pravidla) jednotlivých systémů, např. tvorba předmětových hesel NK ČR, klasifikačních znaků MDT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Vyjádření pojmů znaky SJ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jmy, které nejsou obsaženy ve slovníku SJ se vyjádř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buď novými znaky, které se současně zařadí do selekčního jazyk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nebo významově širšími znaky selekčního jazyka a nové pojmy lze zařadit mezi kandidá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klad pojmu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6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ace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výklad z TDKIV)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- ekv heslování, indexování, ang. ekv. index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Proces vyjádření obsahu dokumentu pomocí prvků selekčního jazyka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, obvykle s cílem umožnit zpětné vyhledávání. Podle použitých metod se rozlišuje pojmová a slovní indexace, podle použitých postupů se rozlišuje intelektuální, automatická a poloautomatická indexace. Z hlediska použitých selekčních jazyků se rozlišuje prekoordinovaná indexace a postkoordinovaná indexa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80"/>
                </a:solidFill>
                <a:latin typeface="Georgia"/>
              </a:rPr>
              <a:t>Indexován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Georgia"/>
              </a:rPr>
              <a:t>(ČSN ISO 5963, 1996, s. 5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racovní postup popisování nebo identifikace dokumentu ve vztahu na jeho věcný obsa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595080"/>
            <a:ext cx="860904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Vyjádření pojmů znaky SJ - specifičnost slovníku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2833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ruh SJ (PSJ, SSJ) není nejdůležitějším faktorem ovlivňujícím fázi překlad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Důležitější je šíře tematického pokrytí a specifičnost slovník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Různé SJ mohou specifičnosti dosáhnout různě, např. kombinací P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např. vyjádření složeného tématu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dějiny hygie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J 1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hygiena - dějiny </a:t>
            </a: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ředmětové hes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J 2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613/614(091)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klasifikační znak M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J 3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800000"/>
                </a:solidFill>
                <a:latin typeface="Georgia"/>
              </a:rPr>
              <a:t>hygiena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deskrip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cs-CZ" sz="2800" spc="-1" strike="noStrike">
                <a:solidFill>
                  <a:srgbClr val="800000"/>
                </a:solidFill>
                <a:latin typeface="Georgia"/>
              </a:rPr>
              <a:t>dějiny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0360" y="6840360"/>
            <a:ext cx="1979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600360" y="7016760"/>
            <a:ext cx="2160720" cy="185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Vyjádření pojmů znaky SJ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97912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3000"/>
          </a:bodyPr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e fázi vyjádření pojmů znaky SJ lze rozlišit dva typy indexace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Lancaster, 2003, s. 18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extrakce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(slovní indexace) - Slova nebo slovní spojení pro reprezentaci předmětu dokumentu jsou vybrána přímo z dokument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přiřazová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(pojmová indexace) - Obsah dokumentu je reprezentován pomocí slov, slovních spojení či znaků umělého jazyka, která jsou vybrána z jiného zdroje, než je samotný doku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Úplnost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0000" y="1355760"/>
            <a:ext cx="9720360" cy="60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9000"/>
          </a:bodyPr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Úplnost se vztahuje k tomu, nakolik jsou v SOD zachycena hlavní témata, popř. dílčí tém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 klíčové pojmy, které mají pro uživatele IS potencionální hodno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ztahuje se k počtu pořádacích znak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úplná indexace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Předmět dokumentu je pořádacími znaky SJ pokryt kompletně - je užito dostatečný počet P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výběrová/selektivní indexace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Jsou zachycena pouze hlavní témata, mnohem méně PZ než u úplné index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Úplnost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0960" y="1979280"/>
            <a:ext cx="8609040" cy="59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Úplnost indexace ovlivňuje pozitivně úplnost vyhledává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(umožňuje vyčerpávající vyhledávání), zapříčiňuje ale nižší míru přesnosti vyhledává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míra přesnosti rešerše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Jak velká část nalezených dok. je relevantní? Poměr počtu nalezených relevantních záznamů k celkovému počtu záznamů v rešer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míra úplnosti rešerše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- Jak velká část relevantních dok. byla vyhledána? Poměr počtu nalezených relevantních záznamů k počtu všech relevantních záznamů v databáz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Úplnost indexace – Věčný přepych/ Gilles Lipovetsky</a:t>
            </a:r>
            <a:r>
              <a:rPr b="1" lang="cs-CZ" sz="4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SVK Klad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ní zbož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 -- sociolog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se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notace je dostupná z </a:t>
            </a:r>
            <a:r>
              <a:rPr b="0" lang="cs-CZ" sz="3200" spc="-1" strike="noStrike" u="sng">
                <a:solidFill>
                  <a:srgbClr val="ccccff"/>
                </a:solidFill>
                <a:uFillTx/>
                <a:latin typeface="Georgia"/>
                <a:hlinkClick r:id="rId1"/>
              </a:rPr>
              <a:t>http://www.kosmas.cz/knihy/127133/vecny-prepych/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Úplnost indexace – Věčný přepych/ Gilles Lipovetsky</a:t>
            </a:r>
            <a:r>
              <a:rPr b="1" lang="cs-CZ" sz="4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H V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sociolog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s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SVK Klad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ní zbož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 -- sociolog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se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Úplnost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878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Kdy neindexovat dílčí téma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kud se dokument zabývá obecnější problematikou a dílčí témata jsou z hlediska celkového obsahu dokumentu nepodstatná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kud se dokument zabývá obecnější problematikou, v rámci které je systematicky rozpracována většina dílčích témat, která do dané obecné problematiky nálež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obecně platí - pokud ze stejné hierarchie 3 termíny   - indexovat nadřazeným termí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Harmonizace</a:t>
            </a:r>
            <a:r>
              <a:rPr b="1" lang="cs-CZ" sz="3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věcné katalogizace v Česku: sen či realita? – M.Balíková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5204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020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KAPIT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Partneři procesu harmonizace věcné katalog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Role Národní knihovn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Předpoklady harmonizace věcné katalogiz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Charakteristika věcné katalogizace, mezinárodní pravidla a doporučení,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Obsahová analý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Metody věcné katalog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Nástroje věcné katalog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Klasifikační systémy - systematické selekční jazy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Integrovan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Soubor věcných auto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86000"/>
              </a:lnSpc>
              <a:spcBef>
                <a:spcPts val="499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Funkce souboru věcných autorit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86000"/>
              </a:lnSpc>
              <a:spcBef>
                <a:spcPts val="499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Hloubka indexace – varianty věcného zpřístup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Harmonizace</a:t>
            </a:r>
            <a:r>
              <a:rPr b="1" lang="cs-CZ" sz="3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věcné katalogizace v Česku: sen či realita? – M.Balíková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Georgia"/>
              </a:rPr>
              <a:t>SOD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á katalogizace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é selekční jazyky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Georgia"/>
              </a:rPr>
              <a:t>SOD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á katalogizace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ředmětové selekční jazyk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oubory věcných autor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ezau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bsahová analýza dokument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Harmonizace</a:t>
            </a:r>
            <a:r>
              <a:rPr b="1" lang="cs-CZ" sz="3800" spc="-1" strike="noStrike">
                <a:solidFill>
                  <a:srgbClr val="333333"/>
                </a:solidFill>
                <a:latin typeface="Georgia"/>
              </a:rPr>
              <a:t> </a:t>
            </a:r>
            <a:r>
              <a:rPr b="1" lang="cs-CZ" sz="3600" spc="-1" strike="noStrike">
                <a:solidFill>
                  <a:srgbClr val="990033"/>
                </a:solidFill>
                <a:latin typeface="Georgia"/>
              </a:rPr>
              <a:t>věcné katalogizace v Česku: sen či realita? – M.Balíková</a:t>
            </a:r>
            <a:endParaRPr b="1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Georgia"/>
              </a:rPr>
              <a:t>SOD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á katalogizace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é selekční jazyky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9900"/>
                </a:solidFill>
                <a:latin typeface="Georgia"/>
              </a:rPr>
              <a:t>SOD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věcná katalogizace -- Če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ředmětové selekční jazyk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oubory věcných autor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tezaur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spcBef>
                <a:spcPts val="601"/>
              </a:spcBef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obsahová analýza dokument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0000" y="3240000"/>
            <a:ext cx="4680000" cy="180036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0360" y="378000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19280" y="3060720"/>
            <a:ext cx="2879640" cy="2519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41240" y="600120"/>
            <a:ext cx="86090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  <a:ea typeface="Arial Unicode MS"/>
              </a:rPr>
              <a:t>Výklad poj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0200" indent="-3240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Různá pojetí termínu index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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  <a:ea typeface="Arial Unicode MS"/>
              </a:rPr>
              <a:t>proces spjatý s předmětovými S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  <a:ea typeface="Arial Unicode MS"/>
              </a:rPr>
              <a:t>proces zahrnující jak identifikační, tak věcný popis dokum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  <a:ea typeface="Arial Unicode MS"/>
              </a:rPr>
              <a:t>proces vyjádření obsahu doku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pecifičnost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33cc"/>
                </a:solidFill>
                <a:latin typeface="Georgia"/>
              </a:rPr>
              <a:t>Vztahuje se k míře, do jaké je konkrétní pojem, vyjadřující téma dokumentu, přesně specifikován selekčním jazyk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33cc33"/>
                </a:solidFill>
                <a:latin typeface="Georgia"/>
              </a:rPr>
              <a:t>Specifičnost indexace souvisí se schopností selekčního jazyka vyjádřit téma dokumentu co nejpřesněji ve vztahu ke specifičnosti obsahu.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333333"/>
                </a:solidFill>
                <a:latin typeface="Georgia"/>
              </a:rPr>
              <a:t>Specifičnost indexace – Věčný přepych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H V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luxus -- sociologické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ese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deskriptory ETF UK v P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bohatství 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stmodernizmus 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sociologie 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stud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Kvalita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0960" y="1979280"/>
            <a:ext cx="8609040" cy="6039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Indexace, která zajistí maximální relevanci výsledků vyhledáván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Míra shody obsahu SOD s obsahem dokumentu a zároveň s obsahem selekčního obrazu dotaz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Jde o relativní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účel a zaměření inform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třeby a požadavky uži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Nelze hodnotit kvantitativními metod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Kvalita indexace - faktory vlivu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ff000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indexá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008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použitý selekční jazy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0800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indexovaný dok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80000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800000"/>
                </a:solidFill>
                <a:latin typeface="Georgia"/>
              </a:rPr>
              <a:t>indexační pravid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dc2300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racovní podmín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Metody hodnocení kvality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Přímá kontrola obsahové i  formální správnosti S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Hodnocení 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Konzistence index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Konzistence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20720" y="1925640"/>
            <a:ext cx="860904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Georgia"/>
              </a:rPr>
              <a:t>Míra shody dvou nebo více S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Typy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1. konzistence index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) mezi indexátory (interindexer consistency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hoda indexace totožného dokumentu mezi dvěma nebo více indexá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b) indexátora (intraindexer consistency) - Konzistence indexace jednoho indexát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80"/>
                </a:solidFill>
                <a:latin typeface="Georgia"/>
              </a:rPr>
              <a:t>2. konzistence dokumen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a) mezi dokumenty - Srovnání SOD pojednávajících o stejném téma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b) konzistenci dokumentu - Srovnání SOD vztahující se k jednomu dí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počet konzistence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20720" y="1924200"/>
            <a:ext cx="8609040" cy="60386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3000"/>
          </a:bodyPr>
          <a:p>
            <a:pPr marL="399960" indent="-3013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Poměr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očtu souhlasných pořádacích znaků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k </a:t>
            </a:r>
            <a:r>
              <a:rPr b="0" lang="cs-CZ" sz="3200" spc="-1" strike="noStrike">
                <a:solidFill>
                  <a:srgbClr val="800000"/>
                </a:solidFill>
                <a:latin typeface="Georgia"/>
              </a:rPr>
              <a:t>celkovému počtu jedinečných pořádacích znaků obsažených v obou SOD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C=ab/(a+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C=index konzistence index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b=počet souhlasných PZ v selekčních obrazech A a B, tj. shodně zvolených indexáto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=počet jedinečných PZ v selekčním obraz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b=počet jedinečných PZ v selekčním obraz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počet konzistence indexace  - příkla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sociolog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se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1600" y="2101680"/>
            <a:ext cx="42004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ní zbož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 -- sociolog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sej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počet konzistence indexace  - příkla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luxus -- sociologické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ese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293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ní zbož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luxus -- sociologické 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      aspek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ff0000"/>
                </a:solidFill>
                <a:latin typeface="Georgia"/>
              </a:rPr>
              <a:t>eseje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79640" y="5400720"/>
            <a:ext cx="5759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b =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+b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C=ab/(a+b) = 2/6=0,33=3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tj. částečná konzis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počet konzistence indexace  - příkla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sociolog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se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293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ní zboží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lečnost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ociologie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tudi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Účel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Hlavním smyslem indexace je tvorba reprezentací publikovaných dokumentů ve formě vhodné pro zahrnutí do různých typů databází.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Lancaster, 2003, s. 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Věcné vyhledávání - vyhledávání podle obsah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ýpočet konzistence indexace  - příkla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4200480" cy="32990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ději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filozof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 -- sociologické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     aspek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onzumní společ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ese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51600" y="2101320"/>
            <a:ext cx="4200480" cy="29386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8000"/>
                </a:solidFill>
                <a:latin typeface="Georgia"/>
              </a:rPr>
              <a:t>indexátor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luxusní zboží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lečnost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ociologie  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tudi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79640" y="5400720"/>
            <a:ext cx="5759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ab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a+b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C=ab/(a+b) = 0/9 =0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tj. nulová konzis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ztah kvality indexace </a:t>
            </a:r>
            <a:br>
              <a:rPr sz="4400"/>
            </a:b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a konzisten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Konzistentní indexace se nerovná kvalitní index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Konzistence indexace zlepšuje efektivitu vyhledávání a tím pozitivně ovlivňuje kvalitu index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eorgia"/>
              </a:rPr>
              <a:t>Povinná a použitá literatur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0960" y="1698480"/>
            <a:ext cx="8609040" cy="6126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156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600" spc="-1" strike="noStrike">
                <a:solidFill>
                  <a:srgbClr val="008000"/>
                </a:solidFill>
                <a:latin typeface="Georgia"/>
                <a:ea typeface="Verdana"/>
              </a:rPr>
              <a:t>ČSN ISO 5963. Dokumentace. Metody analýzy dokumentů, určování jejich obsahu a výběru lexikálních jednotek selekčního jazyka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. Praha : Český normalizační institut, 1995. 10 s.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dostupné v Ústřední knihovně FF MU – registrační pult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Pinkas, O. 2002. </a:t>
            </a:r>
            <a:r>
              <a:rPr b="0" i="1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Zpracování informačních fondů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. Vyd. 1.V Praze : Vysoká škola ekonomická, 2002.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  <a:ea typeface="Verdana"/>
              </a:rPr>
              <a:t>Kap. 6 Referování a indexování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, s. 79-88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56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Schwarz, J. </a:t>
            </a:r>
            <a:r>
              <a:rPr b="0" lang="cs-CZ" sz="2600" spc="-1" strike="noStrike">
                <a:solidFill>
                  <a:srgbClr val="008000"/>
                </a:solidFill>
                <a:latin typeface="Georgia"/>
                <a:ea typeface="Verdana"/>
              </a:rPr>
              <a:t>Praktické aspekty hodnocení kvality</a:t>
            </a:r>
            <a:br>
              <a:rPr sz="2600"/>
            </a:br>
            <a:r>
              <a:rPr b="0" lang="cs-CZ" sz="2600" spc="-1" strike="noStrike">
                <a:solidFill>
                  <a:srgbClr val="008000"/>
                </a:solidFill>
                <a:latin typeface="Georgia"/>
                <a:ea typeface="Verdana"/>
              </a:rPr>
              <a:t> a konzistence indexace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. </a:t>
            </a:r>
            <a:r>
              <a:rPr b="0" i="1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Ikaros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 [online]. 2001, roč. 5, č. 2. [cit. 2001-02-01]. Dostupné na WWW: </a:t>
            </a:r>
            <a:r>
              <a:rPr b="0" lang="cs-CZ" sz="2600" spc="-1" strike="noStrike" u="sng">
                <a:solidFill>
                  <a:srgbClr val="ccccff"/>
                </a:solidFill>
                <a:uFillTx/>
                <a:latin typeface="Georgia"/>
                <a:ea typeface="Verdana"/>
                <a:hlinkClick r:id="rId1"/>
              </a:rPr>
              <a:t>http://www.ikaros.cz/node/3986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  ISSN 1212-507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56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Georgia"/>
              </a:rPr>
              <a:t>Doporučená a použitá literatur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20720" y="1987560"/>
            <a:ext cx="8609040" cy="62690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Fidel, R. 1994.</a:t>
            </a:r>
            <a:r>
              <a:rPr b="0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 User-Centered Indexing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. </a:t>
            </a:r>
            <a:r>
              <a:rPr b="0" i="1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Journal of the American Society for Information Science and Technology.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 1994, roč. 45, č. 8, s. 572-5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KTD : Česká terminologická databáze knihovnictví a informační vědy (TDKIV)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 [online]. Praha : Národní knihovna České republiky, 2003. Dostupné z WWW:  http://sigma.nkp.cz/cze/k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Lancaster, F. W. 2003. </a:t>
            </a:r>
            <a:r>
              <a:rPr b="0" i="1" lang="cs-CZ" sz="2400" spc="-1" strike="noStrike">
                <a:solidFill>
                  <a:srgbClr val="008000"/>
                </a:solidFill>
                <a:latin typeface="Georgia"/>
              </a:rPr>
              <a:t>Indexing and abstracting in theory and practice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. London : Facet Publishing, 2003. 451 s. ISBN 18560448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Schwarz, J. </a:t>
            </a:r>
            <a:r>
              <a:rPr b="0" i="1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Selekční jazyky 2 : Úvod do problematiky : Sémantická redukce dokumentů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 [ppt]. Přednáška č. 1 (kombinované studium).  29. 2.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Schwarz, J. </a:t>
            </a:r>
            <a:r>
              <a:rPr b="0" i="1" lang="cs-CZ" sz="2400" spc="-1" strike="noStrike">
                <a:solidFill>
                  <a:srgbClr val="008000"/>
                </a:solidFill>
                <a:latin typeface="Georgia"/>
                <a:ea typeface="Verdana"/>
              </a:rPr>
              <a:t>Selekční jazyky 2 : Úvod do problematiky : Kvalita a konzistence indexace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  <a:ea typeface="Verdana"/>
              </a:rPr>
              <a:t> [ppt]. Přednáška č. 2 (kombinované studium).  21. 3. 200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1979640"/>
            <a:ext cx="918072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Vytváření obsahové charakteristiky dokumentů (sémantická redukce dokumentů) není doménou pouze indexace, ale též </a:t>
            </a:r>
            <a:r>
              <a:rPr b="0" lang="cs-CZ" sz="3200" spc="-1" strike="noStrike">
                <a:solidFill>
                  <a:srgbClr val="ff0000"/>
                </a:solidFill>
                <a:latin typeface="Georgia"/>
                <a:ea typeface="Arial Unicode MS"/>
              </a:rPr>
              <a:t>referování/abstrahován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.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  <a:ea typeface="Arial Unicode MS"/>
              </a:rPr>
              <a:t>Při indexaci je obsah popsán znaky SJ či volně pomocí slov přirozeného jazy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x </a:t>
            </a:r>
            <a:r>
              <a:rPr b="0" lang="cs-CZ" sz="3200" spc="-1" strike="noStrike">
                <a:solidFill>
                  <a:srgbClr val="000080"/>
                </a:solidFill>
                <a:latin typeface="Georgia"/>
                <a:ea typeface="Arial Unicode MS"/>
              </a:rPr>
              <a:t>Abstrahování je založeno na používání vět přirozeného jazyka k vytváření zhuštěných textů, které charakterizují původní dokument.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Arial Unicode MS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Arial Unicode MS"/>
              </a:rPr>
              <a:t>(Pinkas, 2002, s. 79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  <a:ea typeface="Arial Unicode MS"/>
              </a:rPr>
              <a:t>K referování více Pinkas, 2002, s. 79-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Volné indexování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4000"/>
          </a:bodyPr>
          <a:p>
            <a:pPr marL="4042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olné indexování  - indexování, které neužívá žádného definovaného selekčního jazy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2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280" indent="-3045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Pořádací znaky se přiřazují volně </a:t>
            </a:r>
            <a:br>
              <a:rPr sz="3200"/>
            </a:b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a nekontrolovaně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280" indent="-3045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Obvykle se vychází z přirozeného jazy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280" indent="-30456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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b80047"/>
                </a:solidFill>
                <a:latin typeface="Georgia"/>
              </a:rPr>
              <a:t>Pořádací znaky se čerpají z textu dokumentu nebo z přirozeného slovníku jednotliv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42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Pinkas, 2002, s. 8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Selekční obraz dokumentu (SOD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2076120"/>
            <a:ext cx="46800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Georgia"/>
              </a:rPr>
              <a:t>SOD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výklad z TDKIV)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- Množina věcných selekčních údajů vyjadřující obsah dokumentu. Výjimečně se termín používá také pro identifikační část záznamu dokumentu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80000" y="1979280"/>
            <a:ext cx="4200480" cy="52830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8000"/>
                </a:solidFill>
                <a:latin typeface="Georgia"/>
              </a:rPr>
              <a:t>Technologizace slova : mluvená a psaná řeč / Walter J. O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sané tex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luvený proje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jazyk a kul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ociologie kultu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stud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81 - Lingvistika. Jazy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81’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81:316.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316.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(048.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240000"/>
            <a:ext cx="4140360" cy="4140360"/>
          </a:xfrm>
          <a:prstGeom prst="roundRect">
            <a:avLst>
              <a:gd name="adj" fmla="val 37"/>
            </a:avLst>
          </a:prstGeom>
          <a:noFill/>
          <a:ln w="360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2519280"/>
            <a:ext cx="1260360" cy="900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1240" y="555120"/>
            <a:ext cx="860904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Fáze procesu indexac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556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8000"/>
                </a:solidFill>
                <a:latin typeface="Georgia"/>
                <a:ea typeface="Verdana"/>
              </a:rPr>
              <a:t>Trojfázový proces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  <a:ea typeface="Verdana"/>
              </a:rPr>
              <a:t>(ČSN ISO 5963, 1996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  <a:ea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analýza dokumentu a určení jeho věcného obsahu (obsahová analý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identifikace pojmů obsažených v předmě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yjádření těchto pojmů znaky S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5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Dvojfázový proces </a:t>
            </a: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(Lancaster, 200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pojmová analýza - obsahová analýza, identifikace poj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vyjádření pojmů znaky S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400" spc="-1" strike="noStrike">
                <a:solidFill>
                  <a:srgbClr val="333333"/>
                </a:solidFill>
                <a:latin typeface="Georgia"/>
              </a:rPr>
              <a:t>Obsahová analýza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720" y="216684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Zjištění obsahu - </a:t>
            </a: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kombinace pečlivé četby </a:t>
            </a:r>
            <a:br>
              <a:rPr sz="3200"/>
            </a:br>
            <a:r>
              <a:rPr b="0" lang="cs-CZ" sz="3200" spc="-1" strike="noStrike">
                <a:solidFill>
                  <a:srgbClr val="008000"/>
                </a:solidFill>
                <a:latin typeface="Georgia"/>
              </a:rPr>
              <a:t>a rychlého čtení (zjištění shrnujících částí v textu)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Pečlivé čtení 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- titul, abstrakt, shrnutí, 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80"/>
                </a:solidFill>
                <a:latin typeface="Georgia"/>
              </a:rPr>
              <a:t>Za pozornost též stojí</a:t>
            </a: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 - názvy kapitol, popisy u obrázků a tabul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0">
              <a:lnSpc>
                <a:spcPct val="95000"/>
              </a:lnSpc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560" indent="-317520">
              <a:lnSpc>
                <a:spcPct val="95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Georgia"/>
              </a:rPr>
              <a:t>Indexátor - brát v úvahu dokument jako cel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3:56:10Z</dcterms:created>
  <dc:creator>Silvie Kořínková Presova</dc:creator>
  <dc:description/>
  <dc:language>en-US</dc:language>
  <cp:lastModifiedBy>Silvie Kořínková Presova</cp:lastModifiedBy>
  <dcterms:modified xsi:type="dcterms:W3CDTF">2009-12-02T21:15:11Z</dcterms:modified>
  <cp:revision>43</cp:revision>
  <dc:subject/>
  <dc:title/>
</cp:coreProperties>
</file>