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E17-2E06-4AB7-939F-715FBBF5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1EF-8D68-41F8-983B-539CBA76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791-CBFF-4415-AD1C-52691E1D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D84-9CB5-4A1D-9373-E51ABE0E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56B-FEC6-4220-8E73-0FEF3ED6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E05-B182-4BA9-9EAD-5A90D926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17F-1CC1-4C64-97F6-779A8D84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D9E-E100-46FE-BDF0-C668DBBD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AFD-3A33-43A6-AF5C-B2D3C5F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BD7-B82B-4281-B58E-291E3E2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A92-A495-408C-AF57-1773E39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A1D-5595-458E-9A56-98A47E3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50A5-A23E-4149-AC74-5D189E93543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open_window(%22http://sigma.nkp.cz/F/QDF4KV7RXEU9N56M96RYIVEEM5JXLGTKS7KMKJ9H4F2Q64GVF6-11507?func=service&amp;doc_number=001567255&amp;line_number=0029&amp;service_type=TAG%22);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osmas.cz/knihy/128653/dejiny-loutkoveho-divadla-v-evrope-1/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osmas.cz/knihy/127133/vecny-prepych/" TargetMode="External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ikaros.cz/node/3986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eorgia"/>
              </a:rPr>
              <a:t>Indexace dokumentů</a:t>
            </a:r>
            <a:r>
              <a:rPr b="1" lang="cs-CZ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 11.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696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Obsahovou analýzu není vhodné opřít pouze </a:t>
            </a:r>
            <a:br>
              <a:rPr sz="2800"/>
            </a:b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o název či referát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viz příklad publikace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Drahokamy / Květoslav Minaří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i obsahové analýze vychází indexá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 textu dokumentu, přičemž pozornost věnuje následujícím položká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itul, ob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bstrakt, a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utorská klíčov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úvod a závěr, úvodní věty kapitol, odstav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výrazněné úseky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lustrace, schémata, tabulk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333333"/>
                </a:solidFill>
                <a:latin typeface="Georgia"/>
              </a:rPr>
              <a:t>Dějiny loutkového divadla v Evropě 1. / Charles Magnin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ové divadlo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Na základě anotace se pokuste určit další důležitá témata či t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otace je dostupná z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kosmas.cz/knihy/128653/dejiny-loutkoveho-divadla-v-evrope-1/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333333"/>
                </a:solidFill>
                <a:latin typeface="Georgia"/>
              </a:rPr>
              <a:t>Dějiny loutkového divadla v Evropě 1. / Charles Magnin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ýsledný S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ové divadlo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y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řehl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Netištěné dokumenty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(audiovizuální, vizuální a zvukové dok., digitální dok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ndexace na základě jejich textové slož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stačí-li textová složka, je třeba se seznámit s úplným dokumen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o ovlivňuje identifikaci pojmů vhodných pro reprezentaci předmětu dokumentu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onkrétní cíl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např. tvorba SOD či rejstříku ve smyslu informačního aparátu primárního dokumen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Druh indexovaného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Funkce IS a potřeby uži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ěhem pojmové analýzy si musí indexátor klást následující otázky týkající se dokumentu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9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1.  O čem dokument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2. Proč má být dok. přidán do fon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3. Jaké aspekty budou zajímat naše uživat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fektivní indexace zahrnuje nejenom rozhodnutí o tom, o čem dokument je, ale také z jakého důvodu bude zajímat určitou skupinu uživatel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595080"/>
            <a:ext cx="86090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Identifikace pojmů - vliv uživatelů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0960" y="2160360"/>
            <a:ext cx="86090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Z hlediska indexace zaměřené na uživatele -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okument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různé I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různé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Zachycení témat, které maj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pro uživatele IS potencionální hodnot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ím je specializovanější pracoviště a jeho uživatelé, tím je pravděpodobnější, že indexace může být a měla by být přizpůsobena přesným zájmům uživatel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User-centered indexing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Fidel, 1994) 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dkazuje k indexaci na základě požadavků očekávaných od určité skupiny uživatel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9280" y="2700360"/>
            <a:ext cx="90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59280" y="2697120"/>
            <a:ext cx="901800" cy="456480"/>
            <a:chOff x="4859280" y="2697120"/>
            <a:chExt cx="901800" cy="456480"/>
          </a:xfrm>
        </p:grpSpPr>
        <p:sp>
          <p:nvSpPr>
            <p:cNvPr id="163" name=""/>
            <p:cNvSpPr/>
            <p:nvPr/>
          </p:nvSpPr>
          <p:spPr>
            <a:xfrm>
              <a:off x="4859280" y="2700360"/>
              <a:ext cx="900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59280" y="2697120"/>
              <a:ext cx="9018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92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-3207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jmová analýza by neměla být ovlivněna charakterem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, který bude použit při převodu do PZ. Indexátor musí nejprve rozhodnout jaká témata je potřeba reprezentovat.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Lancaster, 2003, s. 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Analýza i transkripce by se měly provádět s pomocí nástrojů index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jako jsou tezaurus a klasifikační systémy.“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ČSN ISO 5963, 1996, s.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řeklad“ identifikovaných pojmů do pořádacích znaků SJ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např. deskriptory, předmětová hesla, klasifikační znaky, volně tvořená klíčová sl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utné zohlednit syntaxi (indexační pravidla) jednotlivých systémů, např. tvorba předmětových hesel NK ČR, klasifikačních znaků MDT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jmy, které nejsou obsaženy ve slovníku SJ se vyjádř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buď novými znaky, které se současně zařadí do selekčního jazy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nebo významově širšími znaky selekčního jazyka a nové pojmy lze zařadit mezi kandidá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pojm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ekv heslování, indexování, ang. ekv. index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roces vyjádření obsahu dokumentu pomocí prvků selekčního jazyk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obvykle s cílem umožnit zpětné vyhledávání. Podle použitých metod se rozlišuje pojmová a slovní indexace, podle použitých postupů se rozlišuje intelektuální, automatická a poloautomatická indexace. Z hlediska použitých selekčních jazyků se rozlišuje prekoordinovaná indexace a postkoordinovaná indexa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Indexová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ČSN ISO 5963, 1996, s. 5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acovní postup popisování nebo identifikace dokumentu ve vztahu na jeho věcný obsa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595080"/>
            <a:ext cx="86090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 - specifičnost slovníku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ruh SJ (PSJ, SSJ) není nejdůležitějším faktorem ovlivňujícím fázi překla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Důležitější je šíře tematického pokrytí a specifičnost slovník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Různé SJ mohou specifičnosti dosáhnout různě, např. kombinací P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 vyjádření složeného tématu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dějiny hygi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1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hygiena - dějiny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dmětové he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2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613/614(091)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lasifikační znak M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3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hygien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skrip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dějin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0360" y="6840360"/>
            <a:ext cx="197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00360" y="7016760"/>
            <a:ext cx="2160720" cy="1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9791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e fázi vyjádření pojmů znaky SJ lze rozlišit dva typy indexace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18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extrak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slovní indexace) - Slova nebo slovní spojení pro reprezentaci předmětu dokumentu jsou vybrána přímo z dokument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řiřaz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pojmová indexace) - Obsah dokumentu je reprezentován pomocí slov, slovních spojení či znaků umělého jazyka, která jsou vybrána z jiného zdroje, než je samotný dok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355760"/>
            <a:ext cx="9720360" cy="60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Úplnost se vztahuje k tomu, nakolik jsou v SOD zachycena hlavní témata, popř. dílčí tém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 klíčové pojmy, které mají pro uživatele IS potencionální hodn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ztahuje se k počtu pořádacích zna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úplná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Předmět dokumentu je pořádacími znaky SJ pokryt kompletně - je užito dostatečný počet P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ýběrová/selektivní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Jsou zachycena pouze hlavní témata, mnohem méně PZ než u úplné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0960" y="1979280"/>
            <a:ext cx="8609040" cy="59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Úplnost indexace ovlivňuje pozitivně úplnost vyhledá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umožňuje vyčerpávající vyhledávání), zapříčiňuje ale nižší míru přesnosti vyhledáv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míra přesnosti rešerš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Jak velká část nalezených dok. je relevantní? Poměr počtu nalezených relevantních záznamů k celkovému počtu záznamů v rešer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míra úplnosti rešerš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Jak velká část relevantních dok. byla vyhledána? Poměr počtu nalezených relevantních záznamů k počtu všech relevantních záznamů v databá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Úplnost indexace – Věčný přepych/ Gilles Lipovetsky</a:t>
            </a:r>
            <a:r>
              <a:rPr b="1" lang="cs-CZ" sz="4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VK Klad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otace je dostupná z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kosmas.cz/knihy/127133/vecny-prepych/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Úplnost indexace – Věčný přepych/ Gilles Lipovetsky</a:t>
            </a:r>
            <a:r>
              <a:rPr b="1" lang="cs-CZ" sz="4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H V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VK Klad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878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Kdy neindexovat dílčí té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kud se dokument zabývá obecnější problematikou a dílčí témata jsou z hlediska celkového obsahu dokumentu nepodstatn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kud se dokument zabývá obecnější problematikou, v rámci které je systematicky rozpracována většina dílčích témat, která do dané obecné problematiky nálež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becně platí - pokud ze stejné hierarchie 3 termíny   - indexovat nadřazeným termí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APIT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artneři procesu harmonizace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Role Národní knihovn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ředpoklady harmonizace věcné katalogiz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Charakteristika věcné katalogizace, mezinárodní pravidla a doporučení,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Metody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Nástroje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Klasifikační systémy - systematické selekční jazy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Integrovan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Soubor věcných auto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Funkce souboru věcných autorit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Hloubka indexace – varianty věcného zpřístup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é selekční jazyky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edmětové selekční jazy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ubory věcných auto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zau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sahová analýza dokumen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é selekční jazyky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edmětové selekční jazy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ubory věcných auto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zau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sahová analýza dokumen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0000" y="3240000"/>
            <a:ext cx="468000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780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9280" y="3060720"/>
            <a:ext cx="28796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41240" y="600120"/>
            <a:ext cx="8609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  <a:ea typeface="Arial Unicode MS"/>
              </a:rPr>
              <a:t>Výklad poj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Různá pojetí termínu index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  <a:ea typeface="Arial Unicode MS"/>
              </a:rPr>
              <a:t>proces spjatý s předmětovými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proces zahrnující jak identifikační, tak věcný popis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Arial Unicode MS"/>
              </a:rPr>
              <a:t>proces vyjádření obsahu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pecifič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33cc"/>
                </a:solidFill>
                <a:latin typeface="Georgia"/>
              </a:rPr>
              <a:t>Vztahuje se k míře, do jaké je konkrétní pojem, vyjadřující téma dokumentu, přesně specifikován selekčním jazy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33cc33"/>
                </a:solidFill>
                <a:latin typeface="Georgia"/>
              </a:rPr>
              <a:t>Specifičnost indexace souvisí se schopností selekčního jazyka vyjádřit téma dokumentu co nejpřesněji ve vztahu ke specifičnosti obsahu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pecifičnost indexace – Věčný přepych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H V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deskriptory ETF UK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ohatství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stmodernizmus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lita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0960" y="1979280"/>
            <a:ext cx="86090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Indexace, která zajistí maximální relevanci výsledků vyhledáv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Míra shody obsahu SOD s obsahem dokumentu a zároveň s obsahem selekčního obrazu dotaz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Jde o relativní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účel a zaměření inform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třeby a požadavky uži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lze hodnotit kvantitativními metod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lita indexace - faktory vliv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index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oužitý selekční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indexovaný dok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indexační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dc23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racovní podmí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Metody hodnocení kvality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římá kontrola obsahové i  formální správnosti S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Hodnocení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onzistence index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onzistence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0720" y="1925640"/>
            <a:ext cx="86090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Míra shody dvou nebo více S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ypy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1. konzistence index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) mezi indexátory (interindexer consistency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hoda indexace totožného dokumentu mezi dvěma nebo více indexá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) indexátora (intraindexer consistency) - Konzistence indexace jednoho indexá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2. konzistence dokum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) mezi dokumenty - Srovnání SOD pojednávajících o stejném téma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) konzistenci dokumentu - Srovnání SOD vztahující se k jednomu dí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0720" y="1924200"/>
            <a:ext cx="8609040" cy="60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oměr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čtu souhlasných pořádacích znaků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k </a:t>
            </a: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celkovému počtu jedinečných pořádacích znaků obsažených v obou SOD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ab/(a+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index konzistence index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=počet souhlasných PZ v selekčních obrazech A a B, tj. shodně zvolených index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=počet jedinečných PZ v selekčním obraz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=počet jedinečných PZ v selekčním obraz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luxus -- sociologické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     aspek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esej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79640" y="5400720"/>
            <a:ext cx="5759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+b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ab/(a+b) = 2/6=0,33=3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tj. částečná konz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lečnost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čel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Hlavním smyslem indexace je tvorba reprezentací publikovaných dokumentů ve formě vhodné pro zahrnutí do různých typů databází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Věcné vyhledávání - vyhledávání podle obsah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lečnost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79640" y="5400720"/>
            <a:ext cx="5759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b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+b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C=ab/(a+b) = 0/9 =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tj. nulová konz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kvality indexace </a:t>
            </a:r>
            <a:br>
              <a:rPr sz="4400"/>
            </a:b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 konzisten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Konzistentní indexace se nerovná kvalitní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Konzistence indexace zlepšuje efektivitu vyhledávání a tím pozitivně ovlivňuje kvalitu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Povinná a použit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0960" y="1698480"/>
            <a:ext cx="8609040" cy="6126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ČSN ISO 5963. Dokumentace. Metody analýzy dokumentů, určování jejich obsahu a výběru lexikálních jednotek selekčního jazyk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Praha : Český normalizační institut, 1995. 10 s.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dostupné v Ústřední knihovně FF MU – registrační pult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Pinkas, O. 2002. 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Zpracování informačních fondů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Vyd. 1.V Praze : Vysoká škola ekonomická, 2002.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Kap. 6 Referování a indexová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, s. 79-88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Praktické aspekty hodnocení kvality</a:t>
            </a:r>
            <a:br>
              <a:rPr sz="2600"/>
            </a:b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 a konzistence index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 [online]. 2001, roč. 5, č. 2. [cit. 2001-02-01]. Dostupné na WWW: </a:t>
            </a: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www.ikaros.cz/node/3986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  ISSN 1212-507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0720" y="1987560"/>
            <a:ext cx="86090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Fidel, R. 1994.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 User-Centered Indexing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Journal of the American Society for Information Science and Technology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1994, roč. 45, č. 8, s. 572-5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KTD : Česká terminologická databáze knihovnictví a informační vědy (TDKIV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online]. Praha : Národní knihovna České republiky, 2003. Dostupné z WWW:  http://sigma.nkp.cz/cze/k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Lancaster, F. W. 2003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</a:rPr>
              <a:t>Indexing and abstracting in theory and practi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London : Facet Publishing, 2003. 451 s. ISBN 18560448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2 : Úvod do problematiky : Sémantická redukce dokument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1 (kombinované studium).  29. 2.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2 : Úvod do problematiky : Kvalita a konzistence indexa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2 (kombinované studium).  21. 3.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979640"/>
            <a:ext cx="918072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Vytváření obsahové charakteristiky dokumentů (sémantická redukce dokumentů) není doménou pouze indexace, ale též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referování/abstrah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Arial Unicode MS"/>
              </a:rPr>
              <a:t>Při indexaci je obsah popsán znaky SJ či volně pomocí slov přirozeného jazy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x 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  <a:ea typeface="Arial Unicode MS"/>
              </a:rPr>
              <a:t>Abstrahování je založeno na používání vět přirozeného jazyka k vytváření zhuštěných textů, které charakterizují původní dokument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Arial Unicode MS"/>
              </a:rPr>
              <a:t>(Pinkas, 2002, s. 7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K referování více Pinkas, 2002, s. 79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olné indexován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4000"/>
          </a:bodyPr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olné indexování  - indexování, které neužívá žádného definovaného selekčního jazy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řádací znaky se přiřazují volně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a nekontrolova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Obvykle se vychází z přirozeného jazy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b80047"/>
                </a:solidFill>
                <a:latin typeface="Georgia"/>
              </a:rPr>
              <a:t>Pořádací znaky se čerpají z textu dokumentu nebo z přirozeného slovníku jednotliv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inkas, 2002, s. 8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elekční obraz dokumentu (SOD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076120"/>
            <a:ext cx="4680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SOD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výklad z TDKIV)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Množina věcných selekčních údajů vyjadřující obsah dokumentu. Výjimečně se termín používá také pro identifikační část záznamu dokumentu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80000" y="1979280"/>
            <a:ext cx="4200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Technologizace slova : mluvená a psaná řeč / Walter J. 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sané tex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luvený pro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jazyk a k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ociologie kult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 - Lingvistika. Jazy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’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:316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048.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240000"/>
            <a:ext cx="4140360" cy="4140360"/>
          </a:xfrm>
          <a:prstGeom prst="roundRect">
            <a:avLst>
              <a:gd name="adj" fmla="val 37"/>
            </a:avLst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2519280"/>
            <a:ext cx="1260360" cy="90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Fáze procesu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Verdana"/>
              </a:rPr>
              <a:t>Trojfázový proce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(ČSN ISO 5963, 1996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alýza dokumentu a určení jeho věcného obsahu (obsahová analý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dentifikace pojmů obsažených v předmě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yjádření těchto pojmů znaky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Dvojfázový proce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jmová analýza - obsahová analýza, identifikace po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yjádření pojmů znaky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216684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Zjištění obsahu -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kombinace pečlivé četby </a:t>
            </a:r>
            <a:br>
              <a:rPr sz="3200"/>
            </a:b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 rychlého čtení (zjištění shrnujících částí v textu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ečlivé čtení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titul, abstrakt, shrnutí, 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Za pozornost též stoj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názvy kapitol, popisy u obrázků a tabu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ndexátor - brát v úvahu dokument jako ce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56:10Z</dcterms:created>
  <dc:creator>Silvie Kořínková Presova</dc:creator>
  <dc:description/>
  <dc:language>en-US</dc:language>
  <cp:lastModifiedBy>Silvie Kořínková Presova</cp:lastModifiedBy>
  <dcterms:modified xsi:type="dcterms:W3CDTF">2009-12-02T21:15:11Z</dcterms:modified>
  <cp:revision>43</cp:revision>
  <dc:subject/>
  <dc:title/>
</cp:coreProperties>
</file>