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FFC5-78F6-4520-A314-5F5C900F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67F-F13D-4588-BD39-6B38E671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A35-2633-4C49-9D73-6CEBCFFB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C14-D134-4BCA-B731-10D55D6D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D15-C33D-4FE7-AF46-2A017B95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426-7DC4-4BC6-A992-F34FDE84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81C-EC03-4D53-9E1A-4FB13C4E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C636-20A3-433C-A5AE-512E09ED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5E71-23C4-4DCA-97B1-17CD3F3C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3D3-B4C4-4D03-BB35-718CD3F4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CB8-2E39-4E42-8136-49DDCAF6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839-F825-49E7-A5C1-BAF25427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D670F-26CA-4950-BAEB-06BEF488096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isk.phil.muni.cz/mgr-silvie-korinkova-presova-dis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:/Users/Silvie/Documents/SJ-v&#253;uka/podzim2010/PR1/Srovn&#225;n&#237;%20PSJ%20a%20SSJ.pdf" TargetMode="External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jib.cz/" TargetMode="External"/><Relationship Id="rId2" Type="http://schemas.openxmlformats.org/officeDocument/2006/relationships/hyperlink" Target="http://www.lib.ncsu.edu/catalog/" TargetMode="External"/><Relationship Id="rId3" Type="http://schemas.openxmlformats.org/officeDocument/2006/relationships/hyperlink" Target="http://library.muni.cz/ezdroje/" TargetMode="External"/><Relationship Id="rId4" Type="http://schemas.openxmlformats.org/officeDocument/2006/relationships/hyperlink" Target="http://bubl.ac.uk/" TargetMode="External"/><Relationship Id="rId5" Type="http://schemas.openxmlformats.org/officeDocument/2006/relationships/hyperlink" Target="file:///C:/Users/Silvie/Documents/SJ-v&#253;uka/podzim2010/PR1/PeopleSoft%20%20Site%20Index.mht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axonomywarehouse.com/" TargetMode="External"/><Relationship Id="rId2" Type="http://schemas.openxmlformats.org/officeDocument/2006/relationships/hyperlink" Target="http://www.public.iastate.edu/~CYBERSTACKS/CTW.htm" TargetMode="External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aleph.nkp.cz/F/" TargetMode="External"/><Relationship Id="rId2" Type="http://schemas.openxmlformats.org/officeDocument/2006/relationships/hyperlink" Target="http://aims.fao.org/website/AGROVOC-Thesaurus/sub" TargetMode="External"/><Relationship Id="rId3" Type="http://schemas.openxmlformats.org/officeDocument/2006/relationships/hyperlink" Target="http://aip.nkp.cz/mdt/" TargetMode="External"/><Relationship Id="rId4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full.nkp.cz/nkkr/NKKR0103/0103175.html" TargetMode="External"/><Relationship Id="rId2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41240" y="555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Georgia"/>
                <a:ea typeface="Arial Unicode MS"/>
              </a:rPr>
              <a:t>Úvod do věcných S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0960" y="2076480"/>
            <a:ext cx="86090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ředmět: Selekční jazy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 10.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řednášející: Mgr. Silvie Kořínková Presov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/>
              </a:rPr>
              <a:t>http://kisk.phil.muni.cz/mgr-silvie-korinkova-presova-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Georgia"/>
                <a:ea typeface="Arial Unicode MS"/>
              </a:rPr>
              <a:t>Pojednává kniha </a:t>
            </a:r>
            <a:br>
              <a:rPr sz="3200"/>
            </a:br>
            <a:r>
              <a:rPr b="0" lang="en-GB" sz="3200" spc="-1" strike="noStrike">
                <a:solidFill>
                  <a:srgbClr val="0033cc"/>
                </a:solidFill>
                <a:latin typeface="Georgia"/>
                <a:ea typeface="Arial Unicode MS"/>
              </a:rPr>
              <a:t>s tímto názvem o problematice, která nás zajím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71520" y="2004840"/>
            <a:ext cx="3229200" cy="48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1440000"/>
            <a:ext cx="860904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Georgia"/>
                <a:ea typeface="Arial Unicode MS"/>
              </a:rPr>
              <a:t>Záznam v 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Georgia"/>
                <a:ea typeface="Arial Unicode MS"/>
              </a:rPr>
              <a:t>katalogu 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Georgia"/>
                <a:ea typeface="Arial Unicode MS"/>
              </a:rPr>
              <a:t>NK ČR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(cit. 2008-16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578400" y="457200"/>
            <a:ext cx="5962320" cy="6383160"/>
          </a:xfrm>
          <a:prstGeom prst="rect">
            <a:avLst/>
          </a:prstGeom>
          <a:ln w="0">
            <a:noFill/>
          </a:ln>
        </p:spPr>
      </p:pic>
      <p:cxnSp>
        <p:nvCxnSpPr>
          <p:cNvPr id="148" name=""/>
          <p:cNvCxnSpPr/>
          <p:nvPr/>
        </p:nvCxnSpPr>
        <p:spPr>
          <a:xfrm flipV="1">
            <a:off x="2044800" y="3614040"/>
            <a:ext cx="1092960" cy="61668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9360">
            <a:solidFill>
              <a:srgbClr val="008000"/>
            </a:solidFill>
            <a:round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41240" y="555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  <a:ea typeface="Arial Unicode MS"/>
              </a:rPr>
              <a:t>Záznam v katalogu AV ČR </a:t>
            </a:r>
            <a:br>
              <a:rPr sz="4400"/>
            </a:br>
            <a:r>
              <a:rPr b="0" lang="cs-CZ" sz="2800" spc="-1" strike="noStrike">
                <a:solidFill>
                  <a:srgbClr val="333333"/>
                </a:solidFill>
                <a:latin typeface="Georgia"/>
                <a:ea typeface="Arial Unicode MS"/>
              </a:rPr>
              <a:t>(cit. 2008-16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60360" y="1893960"/>
            <a:ext cx="7740720" cy="422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20720" y="4859280"/>
            <a:ext cx="8607600" cy="26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  <a:ea typeface="Arial Unicode MS"/>
              </a:rPr>
              <a:t>Nezjistíme, že jde o knihu s odlišnou 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  <a:ea typeface="Arial Unicode MS"/>
              </a:rPr>
              <a:t>tematikou. 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  <a:ea typeface="Arial Unicode MS"/>
              </a:rPr>
              <a:t>Záznam obsahuje pouze 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  <a:ea typeface="Arial Unicode MS"/>
              </a:rPr>
              <a:t>identifikační úda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6300720"/>
            <a:ext cx="360360" cy="36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550800"/>
            <a:ext cx="8609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Selekční jazyky používané NK ČR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20720" y="1924200"/>
            <a:ext cx="8609040" cy="59673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9000"/>
          </a:bodyPr>
          <a:p>
            <a:pPr marL="765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mystici</a:t>
            </a:r>
            <a:r>
              <a:rPr b="1" lang="en-GB" sz="26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- Česko - 20. stol.          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765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duchovní cesta 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    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765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                                 </a:t>
            </a:r>
            <a:r>
              <a:rPr b="0" lang="en-GB" sz="2600" spc="-1" strike="noStrike">
                <a:solidFill>
                  <a:srgbClr val="ff0000"/>
                </a:solidFill>
                <a:latin typeface="Georgia"/>
              </a:rPr>
              <a:t>PHNK            </a:t>
            </a:r>
            <a:r>
              <a:rPr b="0" lang="en-GB" sz="26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00cc00"/>
                </a:solidFill>
                <a:latin typeface="Georgia"/>
              </a:rPr>
              <a:t>předmětový SJ</a:t>
            </a:r>
            <a:r>
              <a:rPr b="0" lang="en-GB" sz="2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GB" sz="26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              (předmětová hesla Národní knihovny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765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2-587-051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765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159.923.5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765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133.2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      </a:t>
            </a:r>
            <a:r>
              <a:rPr b="0" lang="en-GB" sz="2600" spc="-1" strike="noStrike">
                <a:solidFill>
                  <a:srgbClr val="ff0000"/>
                </a:solidFill>
                <a:latin typeface="Georgia"/>
              </a:rPr>
              <a:t>MDT</a:t>
            </a: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00cc00"/>
                </a:solidFill>
                <a:latin typeface="Georgia"/>
              </a:rPr>
              <a:t>systematický SJ</a:t>
            </a:r>
            <a:r>
              <a:rPr b="0" lang="en-GB" sz="2600" spc="-1" strike="noStrike">
                <a:solidFill>
                  <a:srgbClr val="0033cc"/>
                </a:solidFill>
                <a:latin typeface="Georg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765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(437.3)  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(Mezinárodní desetinné třídění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765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(0:82-94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765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Georgia"/>
              </a:rPr>
              <a:t>                   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765360" indent="-657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Georgia"/>
              </a:rPr>
              <a:t>Ukázka slovníků PHNK a MDT (soubor pdf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Srovnání PSJ a          SSJ</a:t>
            </a:r>
            <a:r>
              <a:rPr b="0" lang="en-GB" sz="2400" spc="-1" strike="noStrike">
                <a:solidFill>
                  <a:srgbClr val="ff0000"/>
                </a:solidFill>
                <a:latin typeface="Georgia"/>
              </a:rPr>
              <a:t>)</a:t>
            </a:r>
            <a:r>
              <a:rPr b="0" lang="en-GB" sz="2600" spc="-1" strike="noStrike">
                <a:solidFill>
                  <a:srgbClr val="ff0000"/>
                </a:solidFill>
                <a:latin typeface="Georgia"/>
              </a:rPr>
              <a:t>                                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765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133 - Okultismus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765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Georgia"/>
              </a:rPr>
              <a:t>                                    </a:t>
            </a:r>
            <a:r>
              <a:rPr b="0" lang="en-GB" sz="2600" spc="-1" strike="noStrike">
                <a:solidFill>
                  <a:srgbClr val="ff0000"/>
                </a:solidFill>
                <a:latin typeface="Georgia"/>
              </a:rPr>
              <a:t>skupina Konspektu</a:t>
            </a: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GB" sz="2600" spc="-1" strike="noStrike">
                <a:solidFill>
                  <a:srgbClr val="00cc00"/>
                </a:solidFill>
                <a:latin typeface="Georgia"/>
              </a:rPr>
              <a:t>hybridní SJ </a:t>
            </a:r>
            <a:r>
              <a:rPr b="0" lang="en-GB" sz="26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00cc00"/>
                </a:solidFill>
                <a:latin typeface="Georgia"/>
              </a:rPr>
              <a:t>	</a:t>
            </a:r>
            <a:r>
              <a:rPr b="0" lang="en-GB" sz="2600" spc="-1" strike="noStrike">
                <a:solidFill>
                  <a:srgbClr val="00cc00"/>
                </a:solidFill>
                <a:latin typeface="Georgia"/>
              </a:rPr>
              <a:t>blížící se k SSJ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765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159.9 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(Psychologie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    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159.92 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(Duševní vývoj a schopnosti.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 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Srovnávací psychologie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159.923 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(Psychologie typu. Individuální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 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psychologie. Osobnost... 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159.923.5 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1" lang="en-GB" sz="2600" spc="-1" strike="noStrike">
                <a:solidFill>
                  <a:srgbClr val="008000"/>
                </a:solidFill>
                <a:latin typeface="Georgia"/>
              </a:rPr>
              <a:t>(Pěstování osobnosti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1240" y="550800"/>
            <a:ext cx="8609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Příklady dalších možností uplatnění SJ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0000" y="2101680"/>
            <a:ext cx="9720360" cy="5910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773280" indent="-6638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tematický rozcestní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7732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www.jib.cz/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7732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773280" indent="-6638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Catalog NCSU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http://www.lib.ncsu.edu/catalog/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773280" indent="-6638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komerční databáze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, např.  LISTA with Fulltext  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Georgia"/>
                <a:hlinkClick r:id="rId3"/>
              </a:rPr>
              <a:t>http://library.muni.cz/ezdroje/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773280" indent="-6638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kategorizační schémata v předmětových katalozích, portálech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např.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7732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Georgia"/>
                <a:hlinkClick r:id="rId4"/>
              </a:rPr>
              <a:t>http://bubl.ac.uk/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7732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773280" indent="-6638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Georgia"/>
                <a:hlinkClick r:id="rId5"/>
              </a:rPr>
              <a:t>Ukázka webového indexu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pro webové sídlo PeopleSoft.com (v současné době již nefunkční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7732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77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77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4680000" y="1979640"/>
            <a:ext cx="5097240" cy="1027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4140360" y="5040360"/>
            <a:ext cx="180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Georgia"/>
              </a:rPr>
              <a:t>Seznamy různých druhů SJ</a:t>
            </a:r>
            <a:endParaRPr b="1" lang="en-US" sz="4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1041876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77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773280" indent="-6638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Taxonomy Wareho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295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taxonomywarehouse.com/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77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77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773280" indent="-6638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Beyond Bookmarks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public.iastate.edu/~CYBERSTACKS/CTW.ht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77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ěcné pořádání informací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0720" y="1619280"/>
            <a:ext cx="86090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 fontScale="96000"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ff0000"/>
                </a:solidFill>
                <a:latin typeface="Georgia"/>
              </a:rPr>
              <a:t>Věcný SJ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je nástrojem procesu</a:t>
            </a:r>
            <a:r>
              <a:rPr b="0" lang="cs-CZ" sz="27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cs-CZ" sz="2700" spc="-1" strike="noStrike">
                <a:solidFill>
                  <a:srgbClr val="008000"/>
                </a:solidFill>
                <a:latin typeface="Georgia"/>
              </a:rPr>
              <a:t>věcného pořádání informací,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je</a:t>
            </a:r>
            <a:r>
              <a:rPr b="0" lang="cs-CZ" sz="2700" spc="-1" strike="noStrike">
                <a:solidFill>
                  <a:srgbClr val="008000"/>
                </a:solidFill>
                <a:latin typeface="Georgia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jeho výrazový a vyjadřovací prostřede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b050"/>
                </a:solidFill>
                <a:latin typeface="Georgia"/>
              </a:rPr>
              <a:t>Věcné pořádání informací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termín z TDKIV) </a:t>
            </a:r>
            <a:br>
              <a:rPr sz="2400"/>
            </a:b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ekv věcný popis, věcné zpracování, věcné zpracování informací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angl. ekv subject control</a:t>
            </a:r>
            <a:br>
              <a:rPr sz="2400"/>
            </a:br>
            <a:br>
              <a:rPr sz="2400"/>
            </a:b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Specifický proces pořádání informací, při kterém jsou </a:t>
            </a:r>
            <a:r>
              <a:rPr b="0" lang="cs-CZ" sz="2700" spc="-1" strike="noStrike">
                <a:solidFill>
                  <a:srgbClr val="ff0000"/>
                </a:solidFill>
                <a:latin typeface="Georgia"/>
              </a:rPr>
              <a:t>informace získané obsahovou analýzou dokumentu vyjádřeny pořádacími znaky věcných selekčních jazyků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systematické poř. inf. 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předmětové poř. inf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319280" y="5759280"/>
            <a:ext cx="108252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00720" y="5759280"/>
            <a:ext cx="107928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1240" y="550800"/>
            <a:ext cx="8609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Systematické pořádání informací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54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2000"/>
          </a:bodyPr>
          <a:p>
            <a:pPr marL="397080" indent="-2977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Proces, při kterém jsou dokumenty, záznamy o nich nebo záznamy o jednotlivých informacích vřazovány na příslušné místo v rámci systematicky uspořádaného systému lidského poznání, kde se jejich postavení řídí v podstatě rodo-druhovými vztahy a slovní formulace obsahu dokumentu bývá většinou nahrazena znaky umělého jazyka (notacemi).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(volně podle Kovář,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1984,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. 13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97080" indent="-2977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ekv třídění, klasifikace, systematické zpracování, systematická katalogizac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97080" indent="-2977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vyjadřovacím prostředkem je systematický SJ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550800"/>
            <a:ext cx="8609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Předmětové pořádání informací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54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5000"/>
          </a:bodyPr>
          <a:p>
            <a:pPr marL="410040" indent="-3074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Proces, při kterém slovně vyjádřený obsah, téma či předmět dokumentu, jeho částí nebo jednotlivých v něm obsažených informací je převáděn do jednou více, jindy méně normalizovaných a formalizovaných hesel (deskriptorů), která jsou ve slovnících uspořádána abecedně.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(volně podle Kovář,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1984,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. 13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10040" indent="-3074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ekv. heslování, předmětové zpracování, indexace, někdy nevhodně předmětové třídění, předmětová klasifikac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10040" indent="-3074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vyjadřovacím prostředkem je předmětový SJ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Termíny a témata přednášek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20720" y="1739520"/>
            <a:ext cx="8609040" cy="8340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Kombinovaní stud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.   10.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Úvod do problematiky selekčních jazyků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SJ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2. 10.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ystematické SJ, Mezinárodní desetinné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říděn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2. 11.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edmětové SJ, věcné autority Č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.   12.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7. 12.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ěcné vyhledávání pomocí selekčních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azyk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Times New Roman"/>
              </a:rPr>
              <a:t>Místo a čas konání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učebna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:11, 13:20 - 14:55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550800"/>
            <a:ext cx="8609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Georgia"/>
              </a:rPr>
              <a:t>Účel věcného pořádání informací</a:t>
            </a:r>
            <a:r>
              <a:rPr b="1" lang="cs-CZ" sz="3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cs-CZ" sz="2600" spc="-1" strike="noStrike">
                <a:solidFill>
                  <a:srgbClr val="333333"/>
                </a:solidFill>
                <a:latin typeface="Georgia"/>
              </a:rPr>
              <a:t>(Taylor, 2004, s. 242) 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Poskytnutí věcného přístupu k informačním objektům prostřednictvím vyhledávacího nástroje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Seskupení obsahově stejných nebo podobných informačních objektů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Logická lokace podobných informačních objektů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Georgia"/>
              </a:rPr>
              <a:t>Šetří čas uživatele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9640" y="1901880"/>
            <a:ext cx="93600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Oblast věcného pořádání informací a selekčních jazyků patří do širší problematiky pořádání informací a informačních jazyků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Arial Unicode MS"/>
              </a:rPr>
              <a:t>(více viz Kovář, 1984, s. 9-18).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  <a:ea typeface="Arial Unicode MS"/>
              </a:rPr>
              <a:t>Pořádání informací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v zahraniční problematika označující se jako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  <a:ea typeface="Arial Unicode MS"/>
              </a:rPr>
              <a:t>knowledge 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  <a:ea typeface="Arial Unicode MS"/>
              </a:rPr>
              <a:t>organization, 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organization of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knowledge, information organization, organization of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information, organizing information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  <a:ea typeface="Arial Unicode MS"/>
              </a:rPr>
              <a:t>české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 ekv 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  <a:ea typeface="Arial Unicode MS"/>
              </a:rPr>
              <a:t>organizace znalostí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, organizace poznání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pořádání znal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5400720"/>
            <a:ext cx="720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6659640"/>
            <a:ext cx="720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Georgia"/>
              </a:rPr>
              <a:t>Pořádání informací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169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b050"/>
                </a:solidFill>
                <a:latin typeface="Georgia"/>
              </a:rPr>
              <a:t>Pořádání informací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termín z TDKIV) ekv pořádání znalostí, termín anglicky 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knowledge organiza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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Organizace a reprezentace zaznamenaných znalostí s cílem zajistit efektivní využívání údajů, informací a poznatků obsažených v informačních zdrojích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ořádání informací zahrnuje vytváření organizovaných souborů identifikačních a obsahových informací získaných informační analýzou dokumentu podle předem stanoveného systému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odle typu vstupních informací se vyčleňuje identifikační pořádání informací a věcné pořádání informací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4680000"/>
            <a:ext cx="720720" cy="144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3060720"/>
            <a:ext cx="720720" cy="144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6659640"/>
            <a:ext cx="720720" cy="144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SJ v procesu reprezentace </a:t>
            </a:r>
            <a:br>
              <a:rPr sz="4000"/>
            </a:b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a vyhledávání informací </a:t>
            </a:r>
            <a:r>
              <a:rPr b="0" lang="cs-CZ" sz="2800" spc="-1" strike="noStrike">
                <a:solidFill>
                  <a:srgbClr val="333333"/>
                </a:solidFill>
                <a:latin typeface="Georgi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Chu, 2007)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39640" y="1824120"/>
            <a:ext cx="9329760" cy="55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SJ v procesu reprezentace a vyhledávání informací</a:t>
            </a:r>
            <a:r>
              <a:rPr b="0" lang="cs-CZ" sz="2800" spc="-1" strike="noStrike">
                <a:solidFill>
                  <a:srgbClr val="333333"/>
                </a:solidFill>
                <a:latin typeface="Georgia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Chu, 2007)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Vedle přirozeného jazyka patří SJ mezi důležité složky tohoto procesu.</a:t>
            </a:r>
            <a:br>
              <a:rPr sz="3200"/>
            </a:b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Je výhodnější užít přirozený jazyk či SJ?</a:t>
            </a:r>
            <a:br>
              <a:rPr sz="3200"/>
            </a:b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863640" indent="-57312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Obojí výhody i nevýhody (viz přednáška Věcné vyhledávání pomocí SJ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1240" y="550800"/>
            <a:ext cx="8609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Charakter SJ z hlediska lingvistik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5000"/>
          </a:bodyPr>
          <a:p>
            <a:pPr marL="410040" indent="-3074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Přirozený jazyk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výklad z TDKIV)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- Jazyk, který se vyvíjí, jehož pravidla vyplývají z úzu (nejsou definována formálně) a jenž je užíván konkrétním jazykovým společenstvím (např. národní jazyky).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10040" indent="-3074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Umělý jazyk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výklad z TDKIV)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- Jazyk vytvořený nebo řízený pomocí souboru předem stanovených pravidel s přesně definovanou syntaxí a sémantikou vytvořený pro určité praktické účely. Typem umělého jazyky je např. informační jazyk.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10040" indent="-3074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SJ patří mezi informační jazyky, tj. umělé jazyky  používané v rámci informačního systému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1240" y="550800"/>
            <a:ext cx="8609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Charakter SJ z hlediska lingvistik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1320" y="1617480"/>
            <a:ext cx="8608680" cy="6121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řirozený jazyk (dále PJ) má dvě základní složky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slovník (lexikum)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pravidla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, jak s tímto slovníkem nakládat, tedy </a:t>
            </a: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gramatiku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863640" indent="-573120">
              <a:lnSpc>
                <a:spcPct val="95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orfologie: nauka o tom, jak se slova ohýbají (flexe) nebo tvoří (slovotvorb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63640" indent="-573120">
              <a:lnSpc>
                <a:spcPct val="95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yntax: způsob, jakým se slova spojují do vět (zjednodušeně řečeno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odobně i SJ má tyto tři složky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slovník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morfologii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a </a:t>
            </a: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syntax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1240" y="550800"/>
            <a:ext cx="8609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Srovnání tří základních složek SJ a PJ: slovník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6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23000" indent="-3171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Slovníku (lexiku) PJ odpovídají u SJ </a:t>
            </a: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řízený slovník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nebo (PSJ) </a:t>
            </a: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klasifikační tabulky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(SSJ)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říklad: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23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846360" indent="-5616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databáze národních autorit NK ČR</a:t>
            </a: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aleph.nkp.cz/F/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846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846360" indent="-5616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8000"/>
                </a:solidFill>
                <a:latin typeface="Georgia"/>
              </a:rPr>
              <a:t>tezaurus AGROVOC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23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http://aims.fao.org/website/AGROVOC-Thesaurus/sub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846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846360" indent="-5616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Georgia"/>
              </a:rPr>
              <a:t>soubor MDT MR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nline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Georgia"/>
                <a:hlinkClick r:id="rId3"/>
              </a:rPr>
              <a:t>http://aip.nkp.cz/mdt/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23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23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1240" y="550800"/>
            <a:ext cx="8609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Srovnání tří základních složek SJ a PJ: slovník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6000"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Pořádací znak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Slovu nebo slovnímu spojení u PJ odpovídá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u SJ pořádací znak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Předmětový SJ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lexikální jednotka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mystici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duchovní cest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Systematický SJ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klasifikační znak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2-587-051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33cc"/>
                </a:solidFill>
                <a:latin typeface="Georgia"/>
              </a:rPr>
              <a:t>2-584.5 </a:t>
            </a: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"/>
          <p:cNvSpPr/>
          <p:nvPr/>
        </p:nvSpPr>
        <p:spPr>
          <a:xfrm>
            <a:off x="4140360" y="4140360"/>
            <a:ext cx="1260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19640" y="6119640"/>
            <a:ext cx="126036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1240" y="550800"/>
            <a:ext cx="8609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Srovnání tří základních složek SJ a PJ: morfologi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1240" y="2340000"/>
            <a:ext cx="86090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Morfologii (přesněji její části, slovotvorbě, protože flexi nelze u SJ uplatnit) PJ odpovídají u SJ </a:t>
            </a: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pravidla pro tvorbu pořádacích znaků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např. u </a:t>
            </a: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SSJ typ notačního systému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- MDT - desetinná notac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Termíny a témata přednášek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20360" y="2019240"/>
            <a:ext cx="89787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Times New Roman"/>
              </a:rPr>
              <a:t>Prezenční student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8. 10.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Systematické SJ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5. 10.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ezinárodní desetinné třídění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9. 10.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ředmětové SJ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5. 11.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Věcné autority Č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9. 11.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dexován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6. 11.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dexován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0. 12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Věcné vyhledávání pomocí selekčních jazyk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80"/>
                </a:solidFill>
                <a:latin typeface="Times New Roman"/>
              </a:rPr>
              <a:t>Místo a čas konání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učebna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:11, 13:20 - 14:55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1240" y="550800"/>
            <a:ext cx="8609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Srovnání tří základních složek SJ a PJ: syntax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Syntaxi (skladbě) PJ odpovídají u SJ </a:t>
            </a: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pravidla pro indexaci (klasifikaci) a formulaci dotazu při vyhledávání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(tedy pravidla pro spojování a kombinaci pořádacích znaků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Větě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v PJ odpovídá v SJ </a:t>
            </a: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selekční obraz dokumentu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nebo</a:t>
            </a: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 selekční obraz dotazu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41360" y="1373040"/>
            <a:ext cx="8609040" cy="43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Georgia"/>
                <a:ea typeface="Arial Unicode MS"/>
              </a:rPr>
              <a:t>Záznam v 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Georgia"/>
                <a:ea typeface="Arial Unicode MS"/>
              </a:rPr>
              <a:t>katalogu 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Georgia"/>
                <a:ea typeface="Arial Unicode MS"/>
              </a:rPr>
              <a:t>NK ČR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(cit. 2008-16-4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jednotlivé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selekční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obraz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dokum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419640" y="817560"/>
            <a:ext cx="5962320" cy="6383520"/>
          </a:xfrm>
          <a:prstGeom prst="rect">
            <a:avLst/>
          </a:prstGeom>
          <a:ln w="0">
            <a:noFill/>
          </a:ln>
        </p:spPr>
      </p:pic>
      <p:cxnSp>
        <p:nvCxnSpPr>
          <p:cNvPr id="202" name=""/>
          <p:cNvCxnSpPr/>
          <p:nvPr/>
        </p:nvCxnSpPr>
        <p:spPr>
          <a:xfrm flipV="1">
            <a:off x="2160720" y="2982240"/>
            <a:ext cx="1092960" cy="61668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9360">
            <a:solidFill>
              <a:srgbClr val="008000"/>
            </a:solidFill>
            <a:round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3419640" y="3780000"/>
            <a:ext cx="5940360" cy="2339640"/>
          </a:xfrm>
          <a:prstGeom prst="roundRect">
            <a:avLst>
              <a:gd name="adj" fmla="val 65"/>
            </a:avLst>
          </a:pr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19640" y="6480000"/>
            <a:ext cx="5940360" cy="721080"/>
          </a:xfrm>
          <a:prstGeom prst="roundRect">
            <a:avLst>
              <a:gd name="adj" fmla="val 218"/>
            </a:avLst>
          </a:pr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6119640"/>
            <a:ext cx="5940360" cy="360360"/>
          </a:xfrm>
          <a:prstGeom prst="roundRect">
            <a:avLst>
              <a:gd name="adj" fmla="val 44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519280" y="4498560"/>
            <a:ext cx="720720" cy="182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9280" y="4680000"/>
            <a:ext cx="900360" cy="16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9280" y="4680000"/>
            <a:ext cx="720720" cy="2340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Typy SJ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5559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Nejčastější dělení: podle uspořádání slovníku, podle charakteru pořádacích znaků SJ, šířky tematického zaměření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Georgia"/>
              </a:rPr>
              <a:t>Pořádací znaky lze ve slovníku SJ uspořádat abecedně, nebo tematicky, takže se SJ dělí na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předmětové SJ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(více viz konkrétní přednáška)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- abecední princip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systematické SJ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(více viz konkrétní přednáška)-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tematický princip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Šířka tematického zaměření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Selekční jazyk lze klasifikovat podle šíře univerza (oblasti), které popisují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univerzální selekční jazyk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- univerzum selekčního jazyka pokrývá všechny oblasti lidského poznání a lidské činnosti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speciální selekční jazyk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- univerzum selekčního jazyka je omezeno na určitý obor 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Pinkas, 2002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Typy SJ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Georgia"/>
              </a:rPr>
              <a:t>Charakter pořádacích znaků SJ je určen mírou postkoordinace, resp. prekoordinace, takže se SJ dělí na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postkoordinované SJ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prekoordinované SJ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1240" y="550800"/>
            <a:ext cx="8609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Prekoordinace versus postkoordin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2040" y="2076120"/>
            <a:ext cx="93283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ostkoordinace a prekoordinace jsou principy, které se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uplatňují</a:t>
            </a: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23000" indent="-3171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při tvorbě pořádacích znaků ve slovníku SJ (morfologie),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23000" indent="-3171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při indexaci (klasifikaci) a vyhledávání (syntax)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23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23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Neexistuje čistě postkoordinovaný nebo čistě prekoordinovaný SJ. Postkoordinace a prekoordinace se uplatňuje v každém SJ; podle toho, který princip v daném SJ převažuje, označujeme jej jako  prekoordinovaný nebo jako postkoordinovaný SJ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23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1240" y="550800"/>
            <a:ext cx="8609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Prekoordinace versus postkoordin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9280" y="2012760"/>
            <a:ext cx="9328320" cy="7165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Na úrovni slovníku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postkoordinace/prekoordinace vyjadřuje míru složení pořádacího znaku. Pokud jsou jako pořádací znaky použity jednoduché pojmy, hovoří se o postkoordinaci. Pokud jsou použity složené pojmy, hovoří se o prekoordinaci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postkoordinovaný PSJ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Dvořák, Antonín, 1841-190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dram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televizní inscena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bibliografi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prekoordinovaný PSJ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Dvořák, Antonín – hry divadelní a televizní – bibliografi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dramatik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"/>
          <p:cNvSpPr/>
          <p:nvPr/>
        </p:nvSpPr>
        <p:spPr>
          <a:xfrm>
            <a:off x="4859280" y="4979880"/>
            <a:ext cx="37800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Georgia"/>
              </a:rPr>
              <a:t>složené téma vyjádříme jednotlivými pořádacími znaky (deskrip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86640" y="6130800"/>
            <a:ext cx="249408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Georgia"/>
              </a:rPr>
              <a:t>složené téma vyjádříme jedním pořádacím  znakem (předmětové  hes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659640" y="6659280"/>
            <a:ext cx="900000" cy="182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959280" y="5578560"/>
            <a:ext cx="900000" cy="363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1240" y="550800"/>
            <a:ext cx="8609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Prekoordinace versus postkoordin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55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6000"/>
          </a:bodyPr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rekoordinovaný nebo postkoordinovaný charakter pořádacích znaků ovlivňuje samozřejmě i indexaci (klasifikaci) a vyhledávání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U postkoordinovaného SJ je složený pojem popsán dílčími pořádacími znaky, které jsou k dokumentu přiřazovány samostatně a koordinovány (kombinovány) až při vyhledávání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U prekoordinovaného SJ je naopak složený pojem vyjádřen jediným pořádacím znakem, který se použije jak pro indexaci, tak pro vyhledávání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1240" y="550800"/>
            <a:ext cx="8609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Prekoordinace versus postkoordin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2040" y="2339640"/>
            <a:ext cx="9328320" cy="5861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80"/>
                </a:solidFill>
                <a:latin typeface="Georgia"/>
              </a:rPr>
              <a:t>postkoordinovaná indexace v bibliogr. záznamu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mořeplavci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Itáli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18.-19. stol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tudi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80"/>
                </a:solidFill>
                <a:latin typeface="Georgia"/>
              </a:rPr>
              <a:t>prekoordinovaná indexace v bibliogr. záznamu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mořeplavci -- Itálie -- 18.-19. stol. - studi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Pozn. Současné rešeršní systémy vyhledávají i v jednotlivých prvcích předmětového hesla. Rozdíl znatelný při prohlížení v rejstřících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Typy SJ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Výsledkem tohoto třídění jsou celkem čtyři typy SJ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rekoordinované systematické SJ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ostkoordinované systematické SJ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rekoordinované předmětové SJ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ostkoordinované předmětové SJ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Ukončení předmětu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0960" y="1743120"/>
            <a:ext cx="86090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863640" indent="-57312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způsob ukončení– písemná zkouška – </a:t>
            </a: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863640" indent="-57312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uzavřené otázky, počet otázek – 21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863640" indent="-57312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klasifikační stupnic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21-20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19-18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17-16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15-14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13-12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863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11 - 0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Příklady typů SJ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5232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6000"/>
          </a:bodyPr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prekoordinované SSJ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ezinárodní desetinné třídění, Deweyho desetinné třídění, Třídění Kongresové knihovny, Cutterova expanzivní klasifik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postkoordinované SSJ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Dvojtečkové třídění (Ranghanatan), Blissovo bibliografické tříděn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prekoordinované PSJ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ředmětová hesl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postkoordinované PSJ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deskriptorové SJ, volně tvořená klíčová slova, permutované (rotované) rejstříky (KWIC, KWOC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Použitá a povinná literatura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59677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704880" indent="-5954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Verdana"/>
              </a:rPr>
              <a:t>Balíková, M. 2001 </a:t>
            </a:r>
            <a:r>
              <a:rPr b="0" lang="en-US" sz="2400" spc="-1" strike="noStrike">
                <a:solidFill>
                  <a:srgbClr val="008000"/>
                </a:solidFill>
                <a:latin typeface="Georgia"/>
                <a:ea typeface="Verdana"/>
              </a:rPr>
              <a:t>Problematika věcného pořádání informací a jejich zpřístupnění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Verdana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  <a:ea typeface="Verdana"/>
              </a:rPr>
              <a:t>Národní knihovn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Verdana"/>
              </a:rPr>
              <a:t>, 2001, roč. 12, č. 3, s. 175-186. Dostupné z WWW: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Georgia"/>
                <a:ea typeface="Verdana"/>
                <a:hlinkClick r:id="rId1"/>
              </a:rPr>
              <a:t>http://full.nkp.cz/nkkr/NKKR0103/0103175.htm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704880" indent="-5954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Verdana"/>
              </a:rPr>
              <a:t>Hj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Georgia"/>
              </a:rPr>
              <a:t>ø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Verdana"/>
              </a:rPr>
              <a:t>rland, Birger.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 2006.</a:t>
            </a:r>
            <a:r>
              <a:rPr b="0" i="1" lang="cs-CZ" sz="2400" spc="-1" strike="noStrike">
                <a:solidFill>
                  <a:srgbClr val="008000"/>
                </a:solidFill>
                <a:latin typeface="Georgia"/>
                <a:ea typeface="Verdana"/>
              </a:rPr>
              <a:t> </a:t>
            </a:r>
            <a:r>
              <a:rPr b="0" i="1" lang="en-US" sz="2400" spc="-1" strike="noStrike">
                <a:solidFill>
                  <a:srgbClr val="008000"/>
                </a:solidFill>
                <a:latin typeface="Georgia"/>
                <a:ea typeface="Verdana"/>
              </a:rPr>
              <a:t>Indexing language</a:t>
            </a:r>
            <a:r>
              <a:rPr b="0" i="1" lang="cs-CZ" sz="2400" spc="-1" strike="noStrike">
                <a:solidFill>
                  <a:srgbClr val="008000"/>
                </a:solidFill>
                <a:latin typeface="Georgia"/>
                <a:ea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[online].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Verdana"/>
              </a:rPr>
              <a:t>Last edited: 19-10-2006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 [cit. 2009-09-29]. Dostupné z WWW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704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http://www.db.dk/bh/lifeboat_ko/CONCEPTS/indexing_languages.ht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704880" indent="-5954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Kovář, Blahoslav. 1984. 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Věcné pořádání informací 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a selekční jazyky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. Praha : ÚVTEI, 1984. 1.1 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  <a:ea typeface="Verdana"/>
              </a:rPr>
              <a:t>Úvod do problematiky věcného pořádání informací </a:t>
            </a:r>
            <a:br>
              <a:rPr sz="2400"/>
            </a:br>
            <a:r>
              <a:rPr b="0" lang="cs-CZ" sz="2400" spc="-1" strike="noStrike">
                <a:solidFill>
                  <a:srgbClr val="008000"/>
                </a:solidFill>
                <a:latin typeface="Georgia"/>
                <a:ea typeface="Verdana"/>
              </a:rPr>
              <a:t>a selekčních jazyků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, s. 9-18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704880" indent="-5954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Pinkas, Otakar. 2002. 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Zpracování informačních fondů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. Vyd. 1.V Praze : Vysoká škola ekonomická, 2002. Kap. 7 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  <a:ea typeface="Verdana"/>
              </a:rPr>
              <a:t>Selekční jazyky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, s. 89-114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704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704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1240" y="550800"/>
            <a:ext cx="8609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Použitá a doporučená literatura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0960" y="1979280"/>
            <a:ext cx="860904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9000"/>
          </a:bodyPr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Chu, Heting. 2007. </a:t>
            </a:r>
            <a:r>
              <a:rPr b="0" i="1" lang="cs-CZ" sz="2400" spc="-1" strike="noStrike">
                <a:solidFill>
                  <a:srgbClr val="008000"/>
                </a:solidFill>
                <a:latin typeface="Georgia"/>
              </a:rPr>
              <a:t>Information representation and retrieval in the digital age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. Medford : Information Today, 2007. 248 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8000"/>
                </a:solidFill>
                <a:latin typeface="Georgia"/>
              </a:rPr>
              <a:t>KTD : Česká terminologická databáze knihovnictví a informační vědy (TDKIV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[online]. Praha : Národní knihovna České republiky, 2003. Dostupné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z WWW: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http://sigma.nkp.cz/cze/kt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chwarz, Josef. 2007.  </a:t>
            </a:r>
            <a:r>
              <a:rPr b="0" i="1" lang="cs-CZ" sz="2400" spc="-1" strike="noStrike">
                <a:solidFill>
                  <a:srgbClr val="008000"/>
                </a:solidFill>
                <a:latin typeface="Georgia"/>
              </a:rPr>
              <a:t>Selekční jazyky 1 : Úvod do problematiky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[ppt]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. Přednáška č. 2 (kombinované studium). 9.11.2007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Taylor, Arlene G. 2004. </a:t>
            </a:r>
            <a:r>
              <a:rPr b="0" i="1" lang="cs-CZ" sz="2400" spc="-1" strike="noStrike">
                <a:solidFill>
                  <a:srgbClr val="008000"/>
                </a:solidFill>
                <a:latin typeface="Georgia"/>
                <a:ea typeface="Verdana"/>
              </a:rPr>
              <a:t>The organization of information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. Westport : Libraries Unlimited , 2004.  417 s. ISBN 1-56308-976-9 </a:t>
            </a:r>
            <a:br>
              <a:rPr sz="2700"/>
            </a:b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Selekční jazyk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20720" y="1979640"/>
            <a:ext cx="8609040" cy="6486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Selekční jazyk (SJ)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výklad z TDKIV)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- Umělý informační jazyk používaný k vyjádření identifikačních nebo obsahových selekčních údajů za účelem pořádání, ukládání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 vyhledávání dokumentů.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Doplnění 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Kovář, 1984, s. 14)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- Selekční jazyk - </a:t>
            </a: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Soustava znaků přirozeného, formalizovaného nebo umělého jazyka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vytvořená pro účely pořádání, ukládání, vyhledávání, popř. i distribuce jak dokumentů samých, tak záznamů o nich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Selekční jazyk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2519280"/>
            <a:ext cx="450072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6000"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Georgia"/>
              </a:rPr>
              <a:t>Identifikační SJ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(výklad z TDKIV) -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elekční informační jazyk sloužící pro popis formálních charakteristik dokumentu používaný v bibliografickém popisu a jmenné katalogizaci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íce viz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Kovář,1984,  9-18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apř. jmenné autority NK ČR, nakladatelské údaj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9160" y="2518920"/>
            <a:ext cx="456084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8000"/>
          </a:bodyPr>
          <a:p>
            <a:pPr marL="423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Věcný SJ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(výklad z TDKIV) - Selekční jazyk používaný pro zpracování dokumentů pomocí věcných údajů s cílem umožnit vyhledávání dokumentů podle obsahu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23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23000" indent="-3171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ang. ekv. - indexing language, subject retrieval langu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46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698560" y="1979640"/>
            <a:ext cx="90324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19640" y="1979640"/>
            <a:ext cx="72072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550800"/>
            <a:ext cx="8609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Příklady dalších výkladů věcného SJ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0904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3000"/>
          </a:bodyPr>
          <a:p>
            <a:pPr marL="401400" indent="-3009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An indexing language is a "language" used for subject classification or indexing of documents.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(Not used about systems for descriptive cataloging or indexing).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(Hjørland, 2006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01400" indent="-3009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Verdana"/>
              </a:rPr>
              <a:t>Věcný SJ - </a:t>
            </a:r>
            <a:r>
              <a:rPr b="0" lang="cs-CZ" sz="3200" spc="-1" strike="noStrike">
                <a:solidFill>
                  <a:srgbClr val="ff0000"/>
                </a:solidFill>
                <a:latin typeface="Georgia"/>
                <a:ea typeface="Verdana"/>
              </a:rPr>
              <a:t>Selekční jazyk používaný při realizaci procesu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Georgia"/>
                <a:ea typeface="Verdana"/>
              </a:rPr>
              <a:t>věcného pořádání informací</a:t>
            </a:r>
            <a:r>
              <a:rPr b="0" lang="cs-CZ" sz="3200" spc="-1" strike="noStrike">
                <a:solidFill>
                  <a:srgbClr val="ff0000"/>
                </a:solidFill>
                <a:latin typeface="Georgia"/>
                <a:ea typeface="Verdana"/>
              </a:rPr>
              <a:t> jako jeho výrazový a vyjadřovací prostředek.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(Kovář, 1984, 15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803160" indent="-532800">
              <a:lnSpc>
                <a:spcPct val="95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Věcné pořádání vychází z obsahové analýzy, informace jsou při něm pořádány podle obsahových údajů získaných inf. analýzou. (Kovář, 1984, s. 11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Co nás bude zajímat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0720" y="2420640"/>
            <a:ext cx="8609040" cy="6397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věcný selekční jazyk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  <a:ea typeface="Georgia"/>
              </a:rPr>
              <a:t>! </a:t>
            </a:r>
            <a:r>
              <a:rPr b="0" i="1" lang="cs-CZ" sz="3200" spc="-1" strike="noStrike">
                <a:solidFill>
                  <a:srgbClr val="000000"/>
                </a:solidFill>
                <a:latin typeface="Georgia"/>
                <a:ea typeface="Georgia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Georgia"/>
              </a:rPr>
              <a:t>kráceně ho budeme nazývat pouze </a:t>
            </a:r>
            <a:r>
              <a:rPr b="0" i="1" lang="cs-CZ" sz="3200" spc="-1" strike="noStrike">
                <a:solidFill>
                  <a:srgbClr val="ff0000"/>
                </a:solidFill>
                <a:latin typeface="Georgia"/>
              </a:rPr>
              <a:t>selekční jazyk, SJ</a:t>
            </a:r>
            <a:r>
              <a:rPr b="0" i="1" lang="cs-CZ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le nejen to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též </a:t>
            </a: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věcné pořádání informací</a:t>
            </a: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550800"/>
            <a:ext cx="8609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Ukázky věcných SJ různých typů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Č Í M   Z A Č Í T 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Georgia"/>
              </a:rPr>
              <a:t>autoritou nejvyšš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elekčními jazyky v katalogu Národní knihovny ČR (NK Č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NEBOL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Jaké druhy selekčních jazyků používá při indexaci NK ČR 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Georgia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ledáme knihu o drahokamech (nerost) pomocí klíčového slova z názvu - </a:t>
            </a:r>
            <a:r>
              <a:rPr b="0" lang="en-GB" sz="2800" spc="-1" strike="noStrike" u="sng">
                <a:solidFill>
                  <a:srgbClr val="990033"/>
                </a:solidFill>
                <a:uFillTx/>
                <a:latin typeface="Georgia"/>
              </a:rPr>
              <a:t>drahokam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9:43:04Z</dcterms:created>
  <dc:creator>Silvie Kořínková Presova</dc:creator>
  <dc:description/>
  <dc:language>en-US</dc:language>
  <cp:lastModifiedBy>Silvie Kořínková Presova</cp:lastModifiedBy>
  <dcterms:modified xsi:type="dcterms:W3CDTF">2010-10-02T12:56:09Z</dcterms:modified>
  <cp:revision>87</cp:revision>
  <dc:subject/>
  <dc:title/>
</cp:coreProperties>
</file>