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0160" y="878040"/>
            <a:ext cx="44737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E52-EB49-44F2-87CE-581FC87D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CB2-79A5-4AA7-8F5C-466962DF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F9D-637C-43A4-ABB5-9F5FDFB4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A9D-DDCF-4599-A068-CC4D084C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99A-A0EB-4AF8-BA85-412D2660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A18-61DB-4EA2-89FF-8149A6C5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EF7-1F52-4899-AFDE-06397A35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790-50C6-4E5D-897D-006C4A53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1009-5974-44F8-ACB8-CEE471BF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E9F3-2AEA-4538-88AB-BA5DDB8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A26B-F5FA-4572-9698-C09783CC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95F-44C8-4969-BFC3-90B6E8F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E67F-11E4-40E0-B4C4-A6A75C3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5AA9-F13E-466A-8DEF-ED78357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A3B1-90E5-407A-B8F4-B705C92A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5D82-BC98-4E63-B4FD-81CA41F2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8D73-58A8-41F5-A6F7-A6FE1652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570-D76F-4132-9ECD-D2F8EE43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827-32E9-48BE-8A8D-0A27B088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0F1-21B3-4D35-BBB7-564A7FB7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F01-A4F2-4251-9E3E-F3BB9F8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DD5-86B3-4A5B-AA56-666A256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337-6C16-4CAE-929C-D29250E8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780-D90A-4742-83F7-2172321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319A31-67DC-4FFA-80D5-D04A658117E1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A2639D-9775-4900-BADD-A14D60A60EEF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:/Users/Silvie/Documents/SJ-v&#253;uka/podzim2010/PR3/p&#345;edn&#225;&#353;ka/PZ/vpz%20jazyka.htm" TargetMode="External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nkp.cz/pages/page.php3?page=fond_veczprac1.htm" TargetMode="External"/><Relationship Id="rId2" Type="http://schemas.openxmlformats.org/officeDocument/2006/relationships/hyperlink" Target="http://autority.nkp.cz/vecne-autority/standardy/mezinarodni-desetinne-trideni/" TargetMode="External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catalog.loc.gov/webvoy.htm" TargetMode="External"/><Relationship Id="rId2" Type="http://schemas.openxmlformats.org/officeDocument/2006/relationships/hyperlink" Target="http://www.loc.gov/catdir/cpso/lcco/" TargetMode="External"/><Relationship Id="rId3" Type="http://schemas.openxmlformats.org/officeDocument/2006/relationships/hyperlink" Target="http://www-lib.nearnorth.edu.on.ca/dewey/ddc.htm#Dewey%20Pinball%20-" TargetMode="External"/><Relationship Id="rId4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konspekt.nkp.cz/" TargetMode="External"/><Relationship Id="rId2" Type="http://schemas.openxmlformats.org/officeDocument/2006/relationships/hyperlink" Target="http://autority.nkp.cz/vecne-autority/autoritni-soubor-skupin-konspektu-1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aleph.nkp.cz/" TargetMode="External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aleph.nkp.cz/" TargetMode="External"/><Relationship Id="rId2" Type="http://schemas.openxmlformats.org/officeDocument/2006/relationships/hyperlink" Target="http://aleph.muni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vkol.cz/cs/" TargetMode="Externa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nkp.cz/pages/page.php3?page=fond_MDT_WWW.htm" TargetMode="External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dcc.org/about.htm" TargetMode="Externa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dcc.org/udcsummary/php/index.php?lang=cs" TargetMode="External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dcc.org/index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6880"/>
            <a:ext cx="78091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eorgia"/>
              </a:rPr>
              <a:t>Mezinárodní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Georgia"/>
              </a:rPr>
              <a:t>desetinné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Georgia"/>
              </a:rPr>
              <a:t>třídění (MDT)</a:t>
            </a:r>
            <a:br>
              <a:rPr sz="3600"/>
            </a:br>
            <a:r>
              <a:rPr b="1" lang="cs-CZ" sz="3600" spc="-1" strike="noStrike">
                <a:solidFill>
                  <a:srgbClr val="ff0000"/>
                </a:solidFill>
                <a:latin typeface="Georgia"/>
              </a:rPr>
              <a:t>Konspekt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60000" y="1885680"/>
            <a:ext cx="84596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edmět: Selekční jazy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5. 10.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nášející: Mgr. Silvie Kořínková Pres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Klasifikace témat dokumentů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0000" y="1599840"/>
            <a:ext cx="8326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Dva přístupy k vyjádření předmětu dokumen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výběr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Georgia"/>
              </a:rPr>
              <a:t>jednoduchých znaků</a:t>
            </a:r>
            <a:r>
              <a:rPr b="0" lang="cs-CZ" sz="2400" spc="-1" strike="noStrike">
                <a:solidFill>
                  <a:srgbClr val="b2b2b2"/>
                </a:solidFill>
                <a:latin typeface="Georgia"/>
              </a:rPr>
              <a:t>           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tvorba </a:t>
            </a:r>
            <a:r>
              <a:rPr b="0" lang="cs-CZ" sz="2400" spc="-1" strike="noStrike" u="sng">
                <a:solidFill>
                  <a:srgbClr val="008000"/>
                </a:solidFill>
                <a:uFillTx/>
                <a:latin typeface="Georgia"/>
              </a:rPr>
              <a:t>složených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 a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z hlavních tabule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 u="sng">
                <a:solidFill>
                  <a:srgbClr val="008000"/>
                </a:solidFill>
                <a:uFillTx/>
                <a:latin typeface="Georgia"/>
              </a:rPr>
              <a:t>rozvinutých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yntaktická pravidla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– součástí tabulek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M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80"/>
                </a:solidFill>
                <a:latin typeface="Georgia"/>
              </a:rPr>
              <a:t>004.42</a:t>
            </a:r>
            <a:r>
              <a:rPr b="0" lang="cs-CZ" sz="2000" spc="-1" strike="noStrike">
                <a:solidFill>
                  <a:srgbClr val="00008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čítačové programov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čítačové progra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80"/>
                </a:solidFill>
                <a:latin typeface="Georgia"/>
              </a:rPr>
              <a:t>371.3</a:t>
            </a:r>
            <a:r>
              <a:rPr b="0" lang="cs-CZ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učovací metody a postupy.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8000"/>
                </a:solidFill>
                <a:latin typeface="Georgia"/>
              </a:rPr>
              <a:t>004.42:371.3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ýukové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 Formy vyučování a výcviku.      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                       programy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058920" y="2340000"/>
            <a:ext cx="145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80000" y="2160720"/>
            <a:ext cx="36036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622560" y="3598920"/>
            <a:ext cx="219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Nástroje pro tvorbu složených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a rozvinutých znaků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1670040"/>
            <a:ext cx="8280360" cy="553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omocné zna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všeobecné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např. jazyka, formy dokumentu, místa, času, etn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zvláš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Spojovací symbo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 symbol pro vyjádření vztahu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4000" spc="-1" strike="noStrike">
                <a:solidFill>
                  <a:srgbClr val="008000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čet pomocných znaků a spojovacích symbolů, instrukce pro jejich aplikaci obsahují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mocné tabul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Nalezneme v nich podrobné rozčlenění všeobecných pomocných znaků a pro zvláštní pomocné znaky pouze pravidla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 příkla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ředmět dokumentu lze vyjádřit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6880" y="1619280"/>
            <a:ext cx="7772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nakem jednoduchým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004.738.5 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5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                                             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316.772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      formy (druhy)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    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1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nakem složeným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316.772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: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004.738.5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1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   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      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internetová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1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nakem rozvinutým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004.738.5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(031)</a:t>
            </a:r>
            <a:br>
              <a:rPr sz="2400"/>
            </a:b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encyklopedie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internetu</a:t>
            </a:r>
            <a:r>
              <a:rPr b="0" lang="sv-SE" sz="24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1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0360" y="1600200"/>
            <a:ext cx="8783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  <a:ea typeface="Arial Unicode MS"/>
              </a:rPr>
              <a:t>Složené znaky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- Vznikají spojením jednoduchých nebo rozvinutých znaků MDT, které jsou k sobě připojeny pomocí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spojovacích symbolů/znaků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(zastupují je interpunkční znaménka), např. </a:t>
            </a:r>
            <a:r>
              <a:rPr b="0" i="1" lang="cs-CZ" sz="2800" spc="-1" strike="noStrike">
                <a:solidFill>
                  <a:srgbClr val="00cc00"/>
                </a:solidFill>
                <a:latin typeface="Georgia"/>
                <a:ea typeface="Arial Unicode MS"/>
              </a:rPr>
              <a:t>51+53 Matematika a fyzika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  <a:ea typeface="Arial Unicode MS"/>
              </a:rPr>
              <a:t>Rozvinuté znaky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- Vznikají spojením jednoduchých znaků MDT se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znaky pomocnými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(všeobecnými a zvláštními),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např. </a:t>
            </a:r>
            <a:r>
              <a:rPr b="0" i="1" lang="sv-SE" sz="2800" spc="-1" strike="noStrike">
                <a:solidFill>
                  <a:srgbClr val="00cc00"/>
                </a:solidFill>
                <a:latin typeface="Georgia"/>
                <a:ea typeface="Arial Unicode MS"/>
              </a:rPr>
              <a:t>94(437)</a:t>
            </a:r>
            <a:r>
              <a:rPr b="0" i="1" lang="sv-SE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Přehled spojovacích symbolů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řiřaze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 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622+669 hornictví a hu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rozšíře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 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791/793 film, divadlo,tanec X 791+7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vztah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17:7 etika ve vztahu k um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odřaze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 znak 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[622+669](485) hornictví a hutnictví ve Švéds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pojovací znaky/symboly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00cc00"/>
                </a:solidFill>
                <a:latin typeface="Georgia"/>
              </a:rPr>
              <a:t>Kde je nalezn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0000ff"/>
                </a:solidFill>
                <a:latin typeface="Georgia"/>
              </a:rPr>
              <a:t>V pomocných tabulká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Tabulka 1a. Přiřazení. Rozší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Tabulka 1b. Vztah. Podř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i="1" lang="cs-CZ" sz="3200" spc="-1" strike="noStrike">
                <a:solidFill>
                  <a:srgbClr val="ff9900"/>
                </a:solidFill>
                <a:latin typeface="Georgia"/>
              </a:rPr>
              <a:t>tištěná ver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i="1" lang="cs-CZ" sz="3200" spc="-1" strike="noStrike">
                <a:solidFill>
                  <a:srgbClr val="ff9900"/>
                </a:solidFill>
                <a:latin typeface="Georgia"/>
              </a:rPr>
              <a:t>elektronická verze –</a:t>
            </a: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MDT M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ŘIŘAZENÍ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 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pojuje dva nebo víc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od sebe vzdálené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ne po sobě následujíc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) znaky MDT, aby bylo možno vyjádřit složený předmět, pro který neexistuje žádný jednoduchý (hlavní) z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Rozšiřuje význam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jednoduchého zn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Vyjádření logického součtu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, označuje složený předmě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622+669 hornictví a hu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330.5+338  národní hospod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504.66+338.2+304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trvale udržitelný rozvoj – dnes nahrazen 502.13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ROZŠÍŘENÍ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360" y="1599840"/>
            <a:ext cx="86407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symbol/notační zna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Georgia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Rozšiřuje význam jednoduchého zna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jádření logického součtu, označuje složený předmě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Georgia"/>
              </a:rPr>
              <a:t>Spojuje první a poslední z řady po sobě následujících znaků MDT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025.44/.47 klasifikační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026/027 knihov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026 odborné/speciální knihov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027 univerzální knihov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užívá se jako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nástroj specifikac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a pro spojení dvou nebo více znaků MDT, jejichž pojmy se projevují v různých typech vztah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 rozdíl od symbolů `plus` a `lomítko` dvojtečka spíš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zužuj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než rozšiřuje rozsah předmě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316.74:2 sociologie nábožen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341.63(44:450) arbitráž ve sporech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mezi Francií a Itáli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Verdana"/>
              <a:buChar char="x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44+4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82:7.079 literární festiv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ODŘAZENÍ</a:t>
            </a: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86696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symbol/notační 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Georgia"/>
              </a:rPr>
              <a:t>[ ]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plikuje se při kombinaci znaků MDT, aby objasnil povahu vztahů mezi znaky MDT v rámci jejich kombin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dřazení může být použito tehdy, jestliže předmět, který byl vyjádřen dvěma nebo více znaky MDT spojenými symbolem `plus`, `lomítko` nebo `dvojtečka`, je uváděn pomocí dvojtečky jako celek do vztahu k jinému znaku nebo je blíže určen prostřednictvím všeobecného nebo speciálního pomocného zna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7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783:[274/278] protestantská chrámová hudb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7320" indent="-213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004.384:[621.771.016.3:669.14] počítače ve válcovnách oceli za stude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539640"/>
            <a:ext cx="78087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Obecná charakteristika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prekoordinovaný systematický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le tematického zaměření jde 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univerzální SSJ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Usiluje o klasifikaci univerza lidských poznatků a jejich uspořádání v rámci jednotlivých vědních oborů do tříd, podtříd, oddíl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lasifikované pojmy systému MDT a vztahy mezi pojmy vycházejí z vědních disciplí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hierarchický princip, rodo-druhové vztahy, podřazení specifického tématu obecné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0360" y="539640"/>
            <a:ext cx="1765440" cy="24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omocné znaky  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Účelem je vyjádření druhotné charakteristiky předmětu zastoupeného hlavním znak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mocí nich vznikaj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rozvinuté zna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čet pomocných znaků a instrukce pro jejich aplikaci obsahuj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pomocné tabulky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hlavní znak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všeobecný pomocný znak 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821.134.2(862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eb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kolumbijská literatur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zvláštní pomocný znak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821.134.2.09 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Georgia"/>
              </a:rPr>
              <a:t>španělská literatura (o ní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=rozvinutý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omocné znaky  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</a:rPr>
              <a:t>všeobecné P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PZ SAMOSTAT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PZ ZÁVIS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</a:rPr>
              <a:t>zvláštní P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78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Arial Unicode MS"/>
              </a:rPr>
              <a:t>POMOCNÉ TABUL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365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Arial Unicode MS"/>
              </a:rPr>
              <a:t>HLAVNÍ TABUL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Všeobecné pomocné znaky  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</a:rPr>
              <a:t>Slouží k vyjádření druhotných charakteristik všeobecného ty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00cc00"/>
                </a:solidFill>
                <a:uFillTx/>
                <a:latin typeface="Georgia"/>
              </a:rPr>
              <a:t>Lze použít pro specifikaci</a:t>
            </a: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 primárního předmětu vyjádřeného hlavním znakem </a:t>
            </a:r>
            <a:r>
              <a:rPr b="0" lang="cs-CZ" sz="2800" spc="-1" strike="noStrike" u="sng">
                <a:solidFill>
                  <a:srgbClr val="00cc00"/>
                </a:solidFill>
                <a:uFillTx/>
                <a:latin typeface="Georgia"/>
              </a:rPr>
              <a:t>v celé šíři klasifikačního schématu</a:t>
            </a: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 a pro připojení ke složenému znaku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Georgia"/>
              </a:rPr>
              <a:t>Každý z těchto znaků má svoji specifickou formu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Všeobecné pomocné znaky  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96848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VPZ SAMOSTAT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jazyka     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=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formy dokumentu 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(0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místa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(1/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času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„..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etnické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(=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VPZ ZÁVIS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vlastností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-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materiálů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-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vztahů, procesů a operací (postupů) -0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osob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-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VPZ JAZYK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0240" y="18410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423000" indent="-211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ymbol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r>
              <a:rPr b="1" lang="cs-CZ" sz="2200" spc="-1" strike="noStrike">
                <a:solidFill>
                  <a:srgbClr val="008000"/>
                </a:solidFill>
                <a:latin typeface="Georgia"/>
              </a:rPr>
              <a:t> =1/=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9900"/>
                </a:solidFill>
                <a:latin typeface="Georgia"/>
              </a:rPr>
              <a:t>Označují jazyk dokumentu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(vyjadřují jazyk nebo jazykovou formu dokumentu, jehož předmět je klasifikovaný hlavními znaky MD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000" spc="-1" strike="noStrike">
                <a:solidFill>
                  <a:srgbClr val="0000ff"/>
                </a:solidFill>
                <a:latin typeface="Georgia"/>
              </a:rPr>
              <a:t>53(035)=111=112.2=133.1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 Příručka fyziky v angličtině, francouzštině a němč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211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oužívají se jako podkl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4636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pro členění třídy 811 - jazyky     </a:t>
            </a:r>
            <a:r>
              <a:rPr b="0" lang="cs-CZ" sz="1800" spc="-1" strike="noStrike">
                <a:solidFill>
                  <a:srgbClr val="0000ff"/>
                </a:solidFill>
                <a:latin typeface="Georgia"/>
              </a:rPr>
              <a:t>811.162.3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     (VPZ </a:t>
            </a:r>
            <a:r>
              <a:rPr b="0" lang="cs-CZ" sz="1800" spc="-1" strike="noStrike">
                <a:solidFill>
                  <a:srgbClr val="000080"/>
                </a:solidFill>
                <a:latin typeface="Georgia"/>
              </a:rPr>
              <a:t>=162.3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češ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6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636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pro členění třídy 821- literatura   </a:t>
            </a:r>
            <a:r>
              <a:rPr b="0" lang="cs-CZ" sz="1800" spc="-1" strike="noStrike">
                <a:solidFill>
                  <a:srgbClr val="0000ff"/>
                </a:solidFill>
                <a:latin typeface="Georgia"/>
              </a:rPr>
              <a:t>821.162.3</a:t>
            </a:r>
            <a:br>
              <a:rPr sz="1800"/>
            </a:br>
            <a:r>
              <a:rPr b="0" lang="cs-CZ" sz="1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636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pro tvorbu všeobecných pomocných znaků etnic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6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0000ff"/>
                </a:solidFill>
                <a:latin typeface="Georgia"/>
              </a:rPr>
              <a:t>=411.16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Hebrejština            </a:t>
            </a:r>
            <a:r>
              <a:rPr b="0" lang="cs-CZ" sz="1800" spc="-1" strike="noStrike">
                <a:solidFill>
                  <a:srgbClr val="0000ff"/>
                </a:solidFill>
                <a:latin typeface="Georgia"/>
              </a:rPr>
              <a:t>(=411.16)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Hebrejský. Žid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VPZ formy dokumentu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VPZ míst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47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91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VPZ formy dokumentu -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yjadřují formu dokumen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400" indent="-20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ymbol: </a:t>
            </a:r>
            <a:r>
              <a:rPr b="1" lang="cs-CZ" sz="2200" spc="-1" strike="noStrike">
                <a:solidFill>
                  <a:srgbClr val="008000"/>
                </a:solidFill>
                <a:latin typeface="Georgia"/>
              </a:rPr>
              <a:t>(0...)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ff"/>
                </a:solidFill>
                <a:latin typeface="Georgia"/>
              </a:rPr>
              <a:t>02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(038.072)</a:t>
            </a:r>
            <a:r>
              <a:rPr b="0" lang="pl-PL" sz="2200" spc="-1" strike="noStrike">
                <a:solidFill>
                  <a:srgbClr val="000000"/>
                </a:solidFill>
                <a:latin typeface="Georgia"/>
              </a:rPr>
              <a:t> výkladové slovníky z oboru knihovnic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1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VPZ místa -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ypovídají o geografické oblasti, lokalitě nebo jiných prostorových aspektech předmětu, který byl popsán znakem MD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-200880">
              <a:lnSpc>
                <a:spcPct val="90000"/>
              </a:lnSpc>
              <a:spcBef>
                <a:spcPts val="575"/>
              </a:spcBef>
              <a:spcAft>
                <a:spcPts val="425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ymbol: </a:t>
            </a:r>
            <a:r>
              <a:rPr b="1" lang="cs-CZ" sz="2200" spc="-1" strike="noStrike">
                <a:solidFill>
                  <a:srgbClr val="008000"/>
                </a:solidFill>
                <a:latin typeface="Georgia"/>
              </a:rPr>
              <a:t>(1/9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0">
              <a:lnSpc>
                <a:spcPct val="90000"/>
              </a:lnSpc>
              <a:spcBef>
                <a:spcPts val="575"/>
              </a:spcBef>
              <a:spcAft>
                <a:spcPts val="4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(437.3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Česká republika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130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316.774(437.3) masmédia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-200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oučástí hlavních znaků ve třídě 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913 Regionální geografi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a 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94 Děj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94(437.3) dějiny Čes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2280" indent="-200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alší příklady hojného užití:</a:t>
            </a: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Georgia"/>
              </a:rPr>
              <a:t>821.111(73), 821.134.2(862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eorgia"/>
              </a:rPr>
              <a:t>VPZ plemen, etnických skupin a národů, VPZ času</a:t>
            </a:r>
            <a:endParaRPr b="1" lang="en-US" sz="32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15840"/>
            <a:ext cx="836928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VPZ plemen, etnických skupin a národů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O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značují etnický aspekt předmětu vyjádřeného znaky MD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symbol:</a:t>
            </a:r>
            <a:r>
              <a:rPr b="1" lang="cs-CZ" sz="2600" spc="-1" strike="noStrike">
                <a:solidFill>
                  <a:srgbClr val="008000"/>
                </a:solidFill>
                <a:latin typeface="Georgia"/>
              </a:rPr>
              <a:t> (=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7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leněny podle VPZ jazyka a mí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7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</a:t>
            </a: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 341.43(=411.16) deportace Žid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7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398(=81/=82) Severoamerický indiánský folklor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VPZ času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B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íže určují předmět v č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ymbol:</a:t>
            </a:r>
            <a:r>
              <a:rPr b="0" lang="cs-CZ" sz="26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"...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732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"19„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  20. stole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0688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"192„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dvacátá léta (1920-1929)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93960" y="636264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81360" y="598176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1600200"/>
            <a:ext cx="77724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Georgia"/>
                <a:ea typeface="Arial Unicode MS"/>
              </a:rPr>
              <a:t>                    </a:t>
            </a:r>
            <a:r>
              <a:rPr b="0" lang="cs-CZ" sz="3200" spc="-1" strike="noStrike">
                <a:solidFill>
                  <a:srgbClr val="0000ff"/>
                </a:solidFill>
                <a:latin typeface="Georgia"/>
                <a:ea typeface="Arial Unicode MS"/>
              </a:rPr>
              <a:t>94</a:t>
            </a:r>
            <a:r>
              <a:rPr b="0" lang="cs-CZ" sz="3200" spc="-1" strike="noStrike">
                <a:solidFill>
                  <a:srgbClr val="33cc33"/>
                </a:solidFill>
                <a:latin typeface="Georgia"/>
                <a:ea typeface="Arial Unicode MS"/>
              </a:rPr>
              <a:t>(100)</a:t>
            </a: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"1914/1918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 </a:t>
            </a:r>
            <a:r>
              <a:rPr b="0" lang="cs-CZ" sz="3200" spc="-1" strike="noStrike">
                <a:solidFill>
                  <a:srgbClr val="0000ff"/>
                </a:solidFill>
                <a:latin typeface="Georgia"/>
                <a:ea typeface="Arial Unicode MS"/>
              </a:rPr>
              <a:t>obecné dějiny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ff9900"/>
                </a:solidFill>
                <a:latin typeface="Georgia"/>
                <a:ea typeface="Arial Unicode MS"/>
              </a:rPr>
              <a:t>časový úd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33cc33"/>
                </a:solidFill>
                <a:latin typeface="Georgia"/>
                <a:ea typeface="Arial Unicode MS"/>
              </a:rPr>
              <a:t>univerzální ve vztahu k místu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1. světová válka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41560" y="2844720"/>
            <a:ext cx="358920" cy="503280"/>
          </a:xfrm>
          <a:custGeom>
            <a:avLst/>
            <a:gdLst/>
            <a:ahLst/>
            <a:rect l="l" t="t" r="r" b="b"/>
            <a:pathLst>
              <a:path w="998" h="1399">
                <a:moveTo>
                  <a:pt x="997" y="0"/>
                </a:moveTo>
                <a:lnTo>
                  <a:pt x="0" y="1398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2809800"/>
            <a:ext cx="504720" cy="1081080"/>
          </a:xfrm>
          <a:custGeom>
            <a:avLst/>
            <a:gdLst/>
            <a:ahLst/>
            <a:rect l="l" t="t" r="r" b="b"/>
            <a:pathLst>
              <a:path w="1404" h="3004">
                <a:moveTo>
                  <a:pt x="0" y="0"/>
                </a:moveTo>
                <a:lnTo>
                  <a:pt x="1403" y="3003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70680" y="2797200"/>
            <a:ext cx="647640" cy="504720"/>
          </a:xfrm>
          <a:custGeom>
            <a:avLst/>
            <a:gdLst/>
            <a:ahLst/>
            <a:rect l="l" t="t" r="r" b="b"/>
            <a:pathLst>
              <a:path w="1800" h="1403">
                <a:moveTo>
                  <a:pt x="0" y="0"/>
                </a:moveTo>
                <a:lnTo>
                  <a:pt x="1799" y="140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257800"/>
            <a:ext cx="1513080" cy="2890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23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Georgia"/>
              </a:rPr>
              <a:t>VPZ závislé – nestojí samostatně</a:t>
            </a:r>
            <a:endParaRPr b="1" lang="en-US" sz="38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1727280"/>
            <a:ext cx="8394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PZ vlastnost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značují obecné vlastnosti nebo rysy předmět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43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ymbo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-02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377.14</a:t>
            </a:r>
            <a:r>
              <a:rPr b="0" i="1" lang="cs-CZ" sz="2200" spc="-1" strike="noStrike">
                <a:solidFill>
                  <a:srgbClr val="0000ff"/>
                </a:solidFill>
                <a:latin typeface="Georgia"/>
              </a:rPr>
              <a:t>-028.26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audiovizuální výcvikové metod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PZ materiálů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yjadřují materiály nebo složky, z nichž jsou zhotoveny předměty nebo výrob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ymbol: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-03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620.1</a:t>
            </a:r>
            <a:r>
              <a:rPr b="0" i="1" lang="cs-CZ" sz="2200" spc="-1" strike="noStrike">
                <a:solidFill>
                  <a:srgbClr val="0000ff"/>
                </a:solidFill>
                <a:latin typeface="Georgia"/>
              </a:rPr>
              <a:t>-034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kovy - zko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23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Georgia"/>
              </a:rPr>
              <a:t>VPZ závislé – nestojí samostatně</a:t>
            </a:r>
            <a:endParaRPr b="1" lang="en-US" sz="38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600" y="1749600"/>
            <a:ext cx="839448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PZ vztahů, procesů a operací (postupů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ymbol: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-04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303.1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-047.4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vyhodnocení metodologie sociálního výzk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PZ osob a osobních charakteristik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značují jednotlivé kategorie osob v souvislosti s předmětem dokumen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ymbol: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ff00"/>
                </a:solidFill>
                <a:latin typeface="Georgia"/>
              </a:rPr>
              <a:t>-05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32</a:t>
            </a:r>
            <a:r>
              <a:rPr b="0" i="1" lang="cs-CZ" sz="2200" spc="-1" strike="noStrike">
                <a:solidFill>
                  <a:srgbClr val="0000ff"/>
                </a:solidFill>
                <a:latin typeface="Georgia"/>
              </a:rPr>
              <a:t>-051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politici, 82</a:t>
            </a:r>
            <a:r>
              <a:rPr b="0" i="1" lang="cs-CZ" sz="2200" spc="-1" strike="noStrike">
                <a:solidFill>
                  <a:srgbClr val="0000ff"/>
                </a:solidFill>
                <a:latin typeface="Georgia"/>
              </a:rPr>
              <a:t>-055.2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literatura psaná žen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Morfologie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" y="1692000"/>
            <a:ext cx="84596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ořádací zn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731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klasifikační znak, numerická desetinná notace pro označení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731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025.4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klasifikace a inde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rincip desetinné notace -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zděluje univerzum do deseti základních tříd (základní znaky),  které je možné rozčlenit až na deset podtříd vyjadřujících bezprostředně podřazené pojmy a ty zase až na deset podtříd nižšího řádu (jednoduché znak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Zvláštní pomocné znaky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31640" y="1671120"/>
            <a:ext cx="858528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Jejich uplatnění pro konkrétní třídy je definováno přímo v hlavních tabulk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Nelze uplatnit v celé šíři tabul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cc00"/>
                </a:solidFill>
                <a:latin typeface="Georgia"/>
              </a:rPr>
              <a:t>Na jejich existenci se upozorňuje na začátku každé tří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b80047"/>
                </a:solidFill>
                <a:latin typeface="Georgia"/>
              </a:rPr>
              <a:t>Série se spojovníkem, série s tečkou a nulou, série s apostrof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Nelze je spojovat s hlavními znaky libovolně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82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-1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821.162.3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-1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 česká poez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6600" y="5954760"/>
            <a:ext cx="1431720" cy="504720"/>
          </a:xfrm>
          <a:prstGeom prst="wedgeRectCallout">
            <a:avLst>
              <a:gd name="adj1" fmla="val 67685"/>
              <a:gd name="adj2" fmla="val -7102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5805360"/>
            <a:ext cx="16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Arial Unicode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6520" y="6097680"/>
            <a:ext cx="2808360" cy="722160"/>
          </a:xfrm>
          <a:prstGeom prst="wedgeRectCallout">
            <a:avLst>
              <a:gd name="adj1" fmla="val -47222"/>
              <a:gd name="adj2" fmla="val -95763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Arial Unicode MS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Arial Unicode MS"/>
              </a:rPr>
              <a:t>ZPZ označující           poez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1720" y="5981760"/>
            <a:ext cx="1506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Co z toho o MDT vyplývá?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není čistě enumerativním SSJ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jako např. L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</a:rPr>
              <a:t>nástroje pro tvorbu komplexních znaků, fasetový přístup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VP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Georgia"/>
              </a:rPr>
              <a:t>analyticko-syntetické tří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821.111(73)-1 americká poe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hlavní znak      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   ZPZ se spojovní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VPZ mí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906200" y="5013360"/>
            <a:ext cx="5065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5013360"/>
            <a:ext cx="18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60640" y="4965840"/>
            <a:ext cx="42408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Co z toho vyplývá dále?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9760" y="1815840"/>
            <a:ext cx="8813880" cy="63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Flexibilita při aplikaci MDT/klasifikování pomocí MD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Klasifikace pomocí jednoduchých znaků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DT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Georgia"/>
              </a:rPr>
              <a:t>aplikováno jako enumerativní, nesyntetická klasifika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jejímž hlavním smyslem je systematické prohlížení a je si v mnohém podobná s funkčními prvky DD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Tvorba složených a rozvinutých znak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tížnější a časově náročnější. Indexátor musí rozhodovat o tom, jaké použije pomocné znaky, jaké vztahy mezi znaky chce vyjádřit, jaké zvolí citační pořadí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1981080"/>
            <a:ext cx="77724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33cc33"/>
                </a:solidFill>
                <a:latin typeface="Georgia"/>
                <a:ea typeface="Arial Unicode MS"/>
              </a:rPr>
              <a:t>Knihovny                          různé podoby M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80"/>
                </a:solidFill>
                <a:latin typeface="Georgia"/>
                <a:ea typeface="Arial Unicode MS"/>
              </a:rPr>
              <a:t>Mohou aplikovat různá vydání tabulek, různé  způsoby klasifik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Georgia"/>
                <a:ea typeface="Arial Unicode MS"/>
              </a:rPr>
              <a:t>Flexibilita způsobuje nejednotnost aplikace MDT, problematizuje standardizaci </a:t>
            </a:r>
            <a:br>
              <a:rPr sz="2800"/>
            </a:br>
            <a:r>
              <a:rPr b="0" lang="cs-CZ" sz="2800" spc="-1" strike="noStrike">
                <a:solidFill>
                  <a:srgbClr val="ff9900"/>
                </a:solidFill>
                <a:latin typeface="Georgia"/>
                <a:ea typeface="Arial Unicode MS"/>
              </a:rPr>
              <a:t>a znesnadňuje kooperaci, která předpokládá jednotnou aplik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Při vyhledávání je nutné znát politiku instituce vzhledem k M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78040" y="2077920"/>
            <a:ext cx="1944720" cy="289080"/>
          </a:xfrm>
          <a:prstGeom prst="rightArrow">
            <a:avLst>
              <a:gd name="adj1" fmla="val 50000"/>
              <a:gd name="adj2" fmla="val 1681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Aplikace MDT v ČR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7920" y="1802880"/>
            <a:ext cx="8356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 ČR odpovídá za aplikaci MDT NK ČR -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Oddělení národních věcných autorit a věcného zpraco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nkp.cz/pages/page.php3?page=fond_veczprac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autority.nkp.cz/vecne-autority/standardy/mezinarodni-desetinne-triden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33cc33"/>
                </a:solidFill>
                <a:latin typeface="Georgia"/>
              </a:rPr>
              <a:t>Znak MDT je součástí autoritního záznamu věcného selekčního prvku v souboru věcných autor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říklad: prostituce, český román, sociologie lékařstv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Aplikace MDT v ČR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680" y="1307880"/>
            <a:ext cx="835668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1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Organizace knihovních jednotek ve volném výběru, např. ÚK FF MU, MZ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Georgia"/>
              </a:rPr>
              <a:t>V selekčním obraze dokumentu (SOD) NK ČR se vážou znaky MDT k vyjádření příslušných hesel zahrnutých do S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okument je klasifikován více klasifikačními znaky MDT, MDT neslouží k zatřídění tématu dokumentu jako celku - definování oboru, do kterého obsah dokumentu spadá. Tuto funkci plní skupiny Konsp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Praxe v zahraničních knihovnách - jeden klasifikační zn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příklad:</a:t>
            </a:r>
            <a:r>
              <a:rPr b="1" lang="cs-CZ" sz="1800" spc="-1" strike="noStrike">
                <a:solidFill>
                  <a:srgbClr val="000000"/>
                </a:solidFill>
                <a:latin typeface="Georgia"/>
              </a:rPr>
              <a:t> Friedman, T. L., Svět je plochý/World is flat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v NK ČR  x  Library of Congress 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catalog.loc.gov/webvo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Porozumění notacím v katalogu Library of Con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-4129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www.loc.gov/catdir/cpso/lcc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-4129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www-lib.nearnorth.edu.on.ca/dewey/ddc.htm#Dewey%20Pinball%20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Konspektové schém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8760" y="1906200"/>
            <a:ext cx="780876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Dvouúrovňové kategorizační sché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-6652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hierarchický princip, postup od obecného k detailnějším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-6652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znik – pro potřeby metody Konsp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konspekt.nkp.cz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Struktura konspektového sché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cs-CZ" sz="2200" spc="-1" strike="noStrike">
                <a:solidFill>
                  <a:srgbClr val="800080"/>
                </a:solidFill>
                <a:latin typeface="Georgia"/>
              </a:rPr>
              <a:t>předmětové kategori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nejvyšší úroveň,  24 kategorií, např. kategorie 12. Knihovnictví, informatika, všeobecné, referenční literatur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cs-CZ" sz="2200" spc="-1" strike="noStrike">
                <a:solidFill>
                  <a:srgbClr val="990033"/>
                </a:solidFill>
                <a:latin typeface="Georgia"/>
              </a:rPr>
              <a:t>skupiny Konspektu -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pecifičtější úroveň, cca 500 sk. K., klasifikační znak MDT a slovní vyjádření, konkordance mezi DDC a MDT, např. 316.4 Sociální procesy, 352/354 Stupně místní, oblastní a ústřední správy, 821.111(73) Americká lit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autority.nkp.cz/vecne-autority/autoritni-soubor-skupin-konspektu-1/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4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678720" y="2755800"/>
            <a:ext cx="15508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Aplikace Konspektu jako SJ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yužití skupin Konspektu jako nástroje minimální úrovně věcné katalogiz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onspektové schéma jako tematický rozcestník - např. J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kupiny Konspektu jako SJ v katalozích knihoven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3000"/>
          </a:bodyPr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kupiny Konspektu v bibliografických záznamech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MARC21 pole 072)- nástroj pro minimální věcné zpřístupnění informačních zdrojů, hrubá katego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souborný katalog ČR (CASLIN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fakultativní věcný prvek minimálního zá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pravidlo pro indexování</a:t>
            </a: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bibliografický záznam – 1 skupina Konspektu (hlavní téma) + možnost vyjádření formálního hledisk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b80047"/>
                </a:solidFill>
                <a:latin typeface="Georgia"/>
              </a:rPr>
              <a:t>autoritní záznam skupin Konspektu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součástí databáze věcných autorit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aleph.nkp.cz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Příklady využití konspektového schématu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6800" y="1906200"/>
            <a:ext cx="877716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marL="1080360" indent="-559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Tematická mapa fondů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aleph.nkp.cz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, 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aleph.muni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-559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33cc33"/>
                </a:solidFill>
                <a:latin typeface="Georgia"/>
              </a:rPr>
              <a:t>JIB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cs-CZ" sz="2800" spc="-1" strike="noStrike">
                <a:solidFill>
                  <a:srgbClr val="ff9900"/>
                </a:solidFill>
                <a:latin typeface="Georgia"/>
              </a:rPr>
              <a:t>tematický rozcest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www.jib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-559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00cc00"/>
                </a:solidFill>
                <a:uFillTx/>
                <a:latin typeface="Georgia"/>
              </a:rPr>
              <a:t>Vědecká knihovna v Olomouci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sledování nových titulů v katalogu prostřednictvím oborových RSS kanálů založených na předmětových kategoriích konspektového sch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http://www.vkol.cz/c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Morfologie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0000" y="1753920"/>
            <a:ext cx="84596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9276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osloupnost znaků notac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označující třídu vzniklou rozkladem je dána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ostupným přidáváním číslic 0 – 9 zprava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316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316.1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316.11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316.1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10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Hierarchická notac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, tj. vyjadřuje hierarchické vztahy mezi tříd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ovinná a použitá literatur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71120"/>
            <a:ext cx="8140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alíková, M. </a:t>
            </a:r>
            <a:r>
              <a:rPr b="0" i="1" lang="cs-CZ" sz="2800" spc="-1" strike="noStrike">
                <a:solidFill>
                  <a:srgbClr val="008000"/>
                </a:solidFill>
                <a:latin typeface="Georgia"/>
              </a:rPr>
              <a:t>MDT MRF : Koncepc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[online]. 13. 6. 2000 [cit. 2009-10-14]. Dostupné z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nkp.cz/pages/page.php3?page=fond_MDT_WWW.ht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esová, S.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Metoda Konspektu a její vztah k selekčním jazyků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V Brně : Masarykova univerzita, 2005.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Kap. 2-4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, s. 27-8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43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ožné zakoupit na sekretariátě KISK, dostupné v ÚK FF 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Doporučená a použitá literatur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6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8000"/>
                </a:solidFill>
                <a:latin typeface="Georgia"/>
              </a:rPr>
              <a:t>About Universal Decimal Classification and the UDC Consortiu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[online]. Last updated: 8th February 2006 [cit. 2006-05-03]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ostupné z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udcc.org/abou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urner, Ch.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i="1" lang="cs-CZ" sz="2800" spc="-1" strike="noStrike">
                <a:solidFill>
                  <a:srgbClr val="008000"/>
                </a:solidFill>
                <a:latin typeface="Georgia"/>
              </a:rPr>
              <a:t>Organizing information : principles and practice.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London : Clive Bingley, 1988. 158 s.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Deset základních tříd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0360" y="1738440"/>
            <a:ext cx="8002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šeobe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Filozofie. Psych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áboženství. Te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polečenské vědy. Statistika. Politika. Ekonomie. Obchod. Právo. Veřejná správa. Vojenství. Sociální péče. Pojišťovnictví. Výchova a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zdělání. Folklorist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neobsazená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atematika a přírodní vě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plikované vědy. Lékařství. Tech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Umění. Rekreace. Zábava. 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Jazyk. Lingvistik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Liter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Georgia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Geografie. Biografické studie. Ději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Základní znak versus jednoduchý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1800000"/>
            <a:ext cx="77724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boženství 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(základní tří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21 Prehistor. a primitiv. nábož. 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(podřazené třídy – 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b80047"/>
                </a:solidFill>
                <a:latin typeface="Arial"/>
              </a:rPr>
              <a:t>podtří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22 Východní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221 Náboženství Čí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221.3 Tao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základě principu desetinné notace dochází k rozkladu základního znaku (označující základní třídu) na jednoduché znaky vyjadřující podtří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2700360"/>
            <a:ext cx="1656000" cy="647640"/>
          </a:xfrm>
          <a:prstGeom prst="wedgeRectCallout">
            <a:avLst>
              <a:gd name="adj1" fmla="val 21907"/>
              <a:gd name="adj2" fmla="val -1306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637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 </a:t>
            </a:r>
            <a:r>
              <a:rPr b="0" lang="cs-CZ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základní </a:t>
            </a:r>
            <a:br>
              <a:rPr sz="2200"/>
            </a:br>
            <a:r>
              <a:rPr b="0" lang="cs-CZ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 z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3640" y="4319640"/>
            <a:ext cx="2577960" cy="720720"/>
          </a:xfrm>
          <a:prstGeom prst="wedgeRectCallout">
            <a:avLst>
              <a:gd name="adj1" fmla="val 10624"/>
              <a:gd name="adj2" fmla="val -16554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4292640"/>
            <a:ext cx="261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</a:t>
            </a:r>
            <a:r>
              <a:rPr b="0" lang="cs-CZ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jednoduché/hlavní</a:t>
            </a:r>
            <a:br>
              <a:rPr sz="2200"/>
            </a:br>
            <a:r>
              <a:rPr b="0" lang="cs-CZ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 zna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lovník MDT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906560"/>
            <a:ext cx="79441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Klasifikační tabu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Fixováno klasifikační schéma, systematické seskupení pojmů do tříd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 podtříd označených notacemi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 opatřených slovním vyjádřením (slovními ekvivalen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hlavní tabulk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mocné tabul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becední rejstř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Vydání tabulek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Různé druhy vydání tabulek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různý rozsah tříd):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úplné vyd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ibližně 150 000 znaků), </a:t>
            </a: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střed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jednotlivé třídy jsou kráceny v různém poměru), </a:t>
            </a: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zkrácené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očet znaků je redukován přibližně stejnou měrou ve všech třídách) a </a:t>
            </a:r>
            <a:r>
              <a:rPr b="0" lang="cs-CZ" sz="2600" spc="-1" strike="noStrike">
                <a:solidFill>
                  <a:srgbClr val="0000ff"/>
                </a:solidFill>
                <a:latin typeface="Georgia"/>
              </a:rPr>
              <a:t>speciál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omezeno tematiko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ištěná verz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nline verze - české vydání MDT – </a:t>
            </a: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MDT MRF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aip.nkp.cz/mdt/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tzv. základní vydání (5. vydání, aktualizace z roku 2002) Oproti úplnému vydání neobsahuje pomocné znaky v celé šíř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45720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Kdo se o MDT stará?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Spravující organizací je </a:t>
            </a:r>
            <a:r>
              <a:rPr b="0" i="1" lang="cs-CZ" sz="2800" spc="-1" strike="noStrike">
                <a:solidFill>
                  <a:srgbClr val="ff0000"/>
                </a:solidFill>
                <a:latin typeface="Georgia"/>
              </a:rPr>
              <a:t>UDC Consorcium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 se sídlem v Haagu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dpovídá za aktualizac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lasifikačního schém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dpovídá za rozvoj schém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přístupňuje lic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0640" y="3054240"/>
            <a:ext cx="1900080" cy="108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9:21:44Z</dcterms:created>
  <dc:creator>Silvie Presová</dc:creator>
  <dc:description/>
  <dc:language>en-US</dc:language>
  <cp:lastModifiedBy>Silvie Kořínková Presova</cp:lastModifiedBy>
  <dcterms:modified xsi:type="dcterms:W3CDTF">2010-10-18T19:39:27Z</dcterms:modified>
  <cp:revision>71</cp:revision>
  <dc:subject/>
  <dc:title>Snímek 1</dc:title>
</cp:coreProperties>
</file>