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2A7-9EA5-4303-BFB2-8D73AFC2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3FC-2F97-445B-AB38-90C90AD4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4E5-C3C9-44ED-B5E3-1716C037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085-2404-4214-B263-A8BA4DA1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A30-620E-4DCE-8F0C-DFCF0AEB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597-3F7E-4A17-B999-110B5611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36E-26CB-4819-9E7A-B42311B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6E3-45D1-4191-AE16-6000DF46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53E-AC04-4EAD-B21C-69838E0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382-3A2D-4A65-A5ED-20F8934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20B-6B9C-4C73-9D83-53E3A904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AA1-ED9C-4F25-89BF-3A423CE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6EC-B02D-4E38-A28C-FDB7E1D468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666800" y="34920"/>
            <a:ext cx="53532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mnestický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onové testy (kognitivní schop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ostní dotazníky (osobnostní vlast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iferní vi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a metod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rincip diskriminace tvarů, zjišťování změn pracovního výkonu v č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koncentrace pozornos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klon k chybovosti, PM tempo, impulzi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pozornosti d2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dodržování pravidel, selektivní pozornost, rychlost zpra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echslerova škála pamě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luchová i zraková, krátkodobá i dlouhodob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izuálně  retenční test Bentonův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izuální pozornost a retence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měťový test uč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erbální paměť, poruchy vybavování, demence, poruchy učení,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loučení MR, dem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avenovy progresivní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AIS – R, WAIS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struktury 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isjunktivní reakční čas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trénink rychlé orientace, rychlost rozhodování, psychické tempo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Číselný obdélník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lektivita a distribuce pozornosti v podmínkách vyžadujících vysoké tempo činnosti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eterminační test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nzomotorické reakce mnohonásobnými vizuálními a akustickými podněty, i barvocit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ě – psychologické vyšetřen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ové charakteristiky osob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minance, potřeba prosazení se, egocentr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oční stabilita × labilita (neuroticis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ypersenzitivita, úzkost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roveň sebejistoty, sebepoje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xtroverze × introver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bekontrola, sebedisciplína, poslušnost k pravidlům silničního provoz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ědomit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ízká frustrační tolerance a odolnost vůči stresu, psychická odo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) další koncepty osobnosti ovlivňující 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ování typu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hledávání situačního vzrušení, dobrodružství, sensation-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tisociální postoje × prosociální postoje, altru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C – vnější, vnitřní kontrola se sníženou anticip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ib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agresivní ten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ě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ti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O – FF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OC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chumský osobnostní dotazn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dtitul "inventář profesních charakteristik osobnosti„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interpersonální diagnózy I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ysenck DOPEN, EOD, EPQ, IV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impulziv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 P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sobnostní inventář K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HAVEZ, SPIDO, SP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reiburský osobnostní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ové funk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iferní vidě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uální orient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kční č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zomotorická koordin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ig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monoton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stres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sy osob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riskovat/ připravenost k rizikovému chová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vyhledávat vzrušení (sensation seeking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agresivního jedn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ezděte brzy ráno, za šera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ejte si přestávky, větrejte, protáhněte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su vždy pečlivě naplánujte, včetně odpočin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rážejte na dlouhé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po známé t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raději se spolujezdc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usedejte za volant, pokud se necítíte dob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k sobě kritičtí, nepřeceňujte své sí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echte se vyprovokovat k riskantní jízdě ostatními řidi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opatrně, přiměřenou rychlostí, nespěchejte, nevystavujte se zbytečnému riziku pro pár minut časového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 platí zvláště za zhoršených provozních podmí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 jízdy absolvujte po méně frekventovaných silnic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nažte se předvídat, přemýšlet o dopravní situ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odovaní řidiči - při žádosti o vrácení řidičského průkazu po 12 měsících od vyb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se zákazem činnosti (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jakémkoliv zákazu řízení motorových vozidel v rámci trestního řízení(minimálně 6 měsíců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"v podmínc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ch 6m nejezděte s dalšími pasažé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kromě zkušených řidičů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učte se požádat o ticho na soustře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jezděte vpodvečer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ředpisy vás mají chránit, dodržujte j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ohleduplní k chodcům a pomalejším řidičům, taky jimi jednou bud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ujte bezpečnou vzdál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nažte se o odvetu, pokud jin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 udělá chybu, nebo vás našt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jste v dobré kondici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edejte za vo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ěte na vozidlo značku „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oboda, M. 2010: Psychologická diagnostika dospělých. Praha. Portá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, K.: Psychologické zvláštnosti dopravního charakteru vybodovaných řidič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ová, M. Výstupy z dopravně psychologického vyšetření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intová, J.: psychická způsobilost a dopravně psychologické vyše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12bodu.cz/dopravni_psycholog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www.psychodiagnostik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psychologie.getacentrum.cz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pecifika řidičů účastnících se na dopravně  - psychologickém vyšetření dle Havlíka (201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 25 – 35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idičská praxe 4 – 8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měrný počet bodovaných přestupků za rok:  6 - 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í stejných přestup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minulosti soudně trestaní (2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émy v sociálních vztaz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účely výkonu zaměstnání a získání kval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C1E, C, CE, pokud řídí nákladní nebo speciální automobil o největší povolené hmotnosti nad 7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D1E, D nebo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čitelé autošk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peč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soby ve vyšším vě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nioři nad 65 let (po lékařské prohlídce, následně 68 a pak každé 2 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dy musí absolvovat dopravně – psychologické vyšetření - profesionál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 zahájením čin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 měsíců před dovršením 50 let vě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ě pravidelně jednou za 5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yt předloženo při pravidelné lékařské prohlí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yny pro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Občanský průk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Výpis z evidenční karty řidi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slouchadlo či brýle, pokud je užívá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 vyšetření byste se měli dostavit včas, odpočatí, přiměřeně vyspalí a v dobrém fyzickém a psychickém rozpolož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ůže provádě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Zákon č. 133/2011 Sb. mění zákon č. 361/2000 Sb., o provozu na pozemních komunikacích a o změnách některých zákonů (zákon o silničním provozu), ve znění pozdějších předpisů, a některé další zákon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4) Dopravně psychologické vyšetření provádí psycholog, kterému ministerstvo udělilo akreditaci.“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Platné od 1.8.201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současné době neexistuje povinnost provádět vyšetření dle schválené metod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1T12:39:05Z</dcterms:modified>
  <cp:revision>314</cp:revision>
  <dc:subject/>
  <dc:title>Prezentace aplikace PowerPoint</dc:title>
</cp:coreProperties>
</file>