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D5C-001B-4716-AF05-4C689D70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97D-2908-4273-9965-420ED3F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895-89EE-4311-8F24-8BF35E8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39D-756C-4CF8-A87E-8F8CED98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811-67DC-4F3A-89D8-89BDB5B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15F-9068-4000-8253-94E4056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59E-737D-45EF-9D5F-A9625A7D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50-F60A-4690-94A1-8886E29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F92-102B-443E-9E22-8136BCB0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F9A-2BFB-4895-92E2-E969CBB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B55-78FF-4625-A366-C4F6C4D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B98-26A6-4972-9DE9-B8C7BFC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7C6-0E6E-42C3-A226-3565ED9A1B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kompetence řešit problé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pování zdroj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ušenosti z překonávání překážek v minu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íle: malé, blízké, reá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ilování kompe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ktivní naslouch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vzbuz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jádření zájmu (Jak jste to dokáza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jasn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ískat inform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cadl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řipojit se, verbálně i neverbál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ceně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vzb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afráz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ověřit, zda jsem porozumě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ekapitula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shrnout, vyzdvihnout podstat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dersenovy otáz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se stalo, že jste tady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už jste tady, jak toho času využijem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áme to, pro co jste přišel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co jiného potřebujet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áce s emocemi v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ně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ěch (šíření panik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žádané 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eschopnění kli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těš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é sli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át vlastní h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esvědč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agateliz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odno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abízet to, co nemůžu spl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flek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enta/ pacienta/ účastní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be s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ex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ažský výt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patro: pracovníkovo bezpeč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patro: klient má vždycky prav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patro: práce na společném t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bezpečit sebe i pros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ba rol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né informace: kdo, kde, co, kdy, kolik lidí,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Users\Turosikova\Desktop\fotky\Upravene.jpg"/>
          <p:cNvPicPr/>
          <p:nvPr/>
        </p:nvPicPr>
        <p:blipFill>
          <a:blip r:embed="rId1"/>
          <a:stretch/>
        </p:blipFill>
        <p:spPr>
          <a:xfrm>
            <a:off x="1177920" y="14130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Krizová intervence účastníkům dopravních nehod a jejich blízkým osobá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fik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storové  a časové zvlášt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ý intervent přichází za účastníkem (úmysl získat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možné psychické dekompen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zor nad bezpečností, bezpečnostní doporu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sem, proč tam js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hodnocení aktuálního psychick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dka pomoci + co můžu nabíd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edení základních protišokových opat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bezp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ován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erbální signály, práce s dotek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votní odmítnutí pomo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utenticita krizového pracovníka – znát vlastní li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formace, co se bude dít dál – eliminace úzk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ace situace, další plány (krátkodobé)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smyslné“ požadavky – selekce důležitého od méně podstatn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žitečné konta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stová, V. (2000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rize a tvořivý přístup k 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, edice Spektrum. ISBN 80- 7178-365-X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řán, M. a kol. (2006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České sdružení obětí dopravních nehod, Přehled systému péče o oběti dopravních nehod v Evropských zemí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pohrebiste.cz/stranky/archiv/dokument/45/peceev.pd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odáčková, D. a kol. (2007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Krizová interv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. ISBN 978–80–7367–342–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zscr.cz/clanek/psychologicka-sluzba-materialy-ke-stazeni-a-odkazy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csodn.cz/uv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pit-cr.info/index.php?section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bkb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gaudia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byla definována jako pracovní nápl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e se dostala do popředí práce psychologa při dopravních neho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ubjektivně ohrožují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lký dynamický náb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vadní regulační mechanismy selh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tenciál zm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ypy kriz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průběhu: akutní – chron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manifestace: latentní – zjev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íčiny k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nější  - vnitř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épomocn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ájemnou pomo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anné mechanis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anné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tě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nická rea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real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nebo kontro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tro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není vnímána jako dostatečně kompetentní, aby konala s ohledem na vlastní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ansparentní, nevyhnutelná, et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šší zodpovědnost krizového inter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je partne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řehlednit a struktur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n ty oblasti, které se týkají krizové situ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ovat klientovy kompetence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stabilizace stavu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ňujeme příčiny, hledáme možnosti zvlád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první řadě je potřeba snížit úzkost, následně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ktické rad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ecné principy krizové pomo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dostup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individuality k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komplexnosti služeb: bio – psycho – sociálně – spirituál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vnitřní bezbariérov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návaz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09-30T14:49:07Z</dcterms:modified>
  <cp:revision>212</cp:revision>
  <dc:subject/>
  <dc:title>Prezentace aplikace PowerPoint</dc:title>
</cp:coreProperties>
</file>