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750-C8A5-42FE-B08B-53FEE7D6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E60-5606-483F-BB94-1E6AEF3B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DA3-71E6-4853-90C3-C69654C8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5F3-3865-4338-9618-8FCC5199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B8F-F786-4DF9-B4E5-7AB28574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B12-7106-473C-A693-AF3C1D1F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304-A92B-45FB-A1C0-F6D0694D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BFD-78EC-4379-A56C-12E42195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2AB-54F7-4A6C-BCB4-90659161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227-DF83-4353-A85D-CAFEC96C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095-B85E-4009-A664-4ED4FBF7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3A6-53A9-4BD6-87B0-103B156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D594-7B30-4ADC-AC80-A89E3C46BF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Porušený zdravotní – tělesný stav včetně nedostatků smyslových orgánů (senzorika  - motori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ostatek úsudkových schop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Nedostatek znalostí – pravidel, vozidla, silnice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Nedostatek zručností a pohybových dovedností, nedostatek zkuše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ostatek potřebných charakterových vlas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chodné stav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Únava z dlouhých jízd a nevyspání, která mizí po odpoči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Okénko ve vědomí, přechodné útlumové stavy aktivní pozornosti nebo některých jejích složek bez úna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Přechodné emoce z rodinných, společenských a jiných důvodů absorbujících pozo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Alkohol a dr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ronické abnormní duševní stavy: neurózy, periodické nebo neperiodické proměny impulsiv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Činnost v časové zátěž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727280" y="1557360"/>
            <a:ext cx="568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rušený zdravotní – tělesný stav včetně nedostatků smyslových orgánů (senzorika  - motori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chvat, infarkt za vola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ě znevýhodnění jedin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hronické onemoc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utní onemoc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hodné lé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mbinace onemocnění a medikamen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úsudkových schop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cení, poznávání, logické, analytické, praktické i kritické myšlení, pamě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znalostí – pravidel, vozidla, silnice ap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znalost tra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dostatek zkušení s konkrétním vozid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dostatek zručností a pohybových dovedností, nedostatek zkušen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kušení řidiči (chybění zautomatizovaných úkon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blematika mladých řidičů (nezkušenost, osobnostní nezralost, přeceňování, častější porušování dopravních předpis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soby ve vyšším věku (vyšší zranitelnost, pokles percepčních, kognitivních a motorických schopností – kompenzační strateg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potřebných charakterových vlas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normy a neformální normy (sociálně psychologick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onymní podmí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:  http://www.spektrumzdravi.cz/w/spektrumzdravi/files/typologie-osobnosti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697040" y="490680"/>
            <a:ext cx="54673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Únava z dlouhých jízd a nevyspání, která mizí po odpočin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ikrospánek, usnutí, úna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Únava: smyslové orgány, fyzická, psychická, koordinace pohybů (Havlík, 200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ánková deprivace, noční doba, monoton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ez spolujezdce, spící spolujezde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ychlost nižší než 60 km/h, vysoká teplota, vyrovnaný hluk, oslňování sluncem, známá trasa, mlha (Štikar, 200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iorytm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Hloubková analýza dopravních neho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kénko ve vědomí, přechodné útlumové stavy aktivní pozornosti nebo některých jejích složek bez úna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jčastější příčina neh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hlcení – vysoká hustota provozu, zařízení ve vozidle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dklon pozor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otonie, změna na známe trase,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yndrom konce cesty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(Havlík, 200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kušenost, emoce, napětí, únava, extrémní počasí, užití omamných a návykových látek, bolest, nemoc, …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chodné emoce z rodinných, společenských a jiných důvodů absorbujících 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gativní i pozitivní, nedostatek i přeby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kost, hněv, s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ádka s partnerem, cesta na pohř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lkohol a další omamné a psychotropní lát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lkohol i zbytkový alkoh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šší náchylnost k vážnějším úrazům (riziko smrti – 3krát vyšš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soby nezralé, příznaky závislosti, nižší sebekontrola, egocentrizmus, emoční nevyváženost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raving jako příčina nehody (zhoršení kognitivních funkc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mamné a návykové léky, včetně nebezpečných lék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ronické abnormní duševní stavy: neurózy, periodické nebo neperiodické proměny impuls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se (pomalejší reak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ční 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ypochondrická, nutkavá, depresivní, úzkostná, fobická, hysterická neuró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gresivní, úzkostný, cholerický řidič (jen v dopravních chová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innost v časové zátěž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šší chybov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ušení pravi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od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vinění nehod řidič 50 x chodec 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va obleč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lkohol chod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vojové specifika dítěte (výška – zraková orientace, vnímání, rychlost reagování, pozornost, myšl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daptace na prostřed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časí : slunce, náledí, vítr, sníh a déš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infrastruktura: kvalita vozovky, dopravní značení, roz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vě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y kategorizace a očekávání účastní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třeby fragilní popu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vans, L. (2004). Traffic Safety. Science Serving Society, U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avlík, K. (2005). Psychologie pro řidiče. Portál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řán, M. (1977). Komplexní analýza závažných dopravních nehod přímo na místě. Nepublikovaný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špor, K. (2007). Návykové chování a závislost. Portál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thengatter, T., Huguenin, R. D. (ed.), (2004). Traffic and Transport Psychology. Theory and Application. ELSEVIER Ltd,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tikar, J., Hoskovec, J., Šmolíková, J., (2006). Psychologická prevence nehod (teorie a praxe). Karolinum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tikar, J., Hoskovec, J., Štikarová, J., (2003). Psychologie v dopravě. Karolinum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heeuwes, J., van der Hirst, R., Kuiken, M. (2012): Designing Safe Road Systems.Ashgate Publising Limited, Eng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ovéPole 4"/>
          <p:cNvSpPr/>
          <p:nvPr/>
        </p:nvSpPr>
        <p:spPr>
          <a:xfrm>
            <a:off x="546120" y="2085840"/>
            <a:ext cx="5075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MV, 5 let (2011 – 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R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TAČR (zaměření na chodce, 2013 – 2015, CDV spoluřešit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ávislé šetření dopravních nehod, výzkumné úč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Šetřeny jsou nehody, při kterých došlo ke zranění účast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: zjišťování dostatečně průkazných podnětů ke zlepšení dopravní infrastruktury, automobilové techniky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 ke kvalitnější přípravě řidič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běr dat a tvorba rozsáhlé databá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posud bylo šetřeno více než 400 neh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rno – město, Brno – venk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todika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tailní analýza jednotlivých nehod, sběr vysokého množství dat, pochopení následností a vztahů u každé nehody zvláš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ledné zobecnění závěrů -  tvorba typických scénař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rekvence výskytu různých kauzálních činitelů – taxonomie kategori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polupracující subjekt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icie české republ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asičský záchranní s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ravotnická záchranná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ultní nemocnice B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podnik města B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Barbora Sulíková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blasti zájmu šetř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infrastruktura (na místě neh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tomobilová technika (na místě neh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dicína (bezprostředně po nehodě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sycholo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 místě nehody, s časovým odstupem v nemocničním zaříz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le psycholog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běr 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zová interv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běr 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toda polo - strukturovaného rozhovoru, především aktivní účastníci ne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sulo</cp:lastModifiedBy>
  <cp:lastPrinted>2011-09-06T07:59:48Z</cp:lastPrinted>
  <dcterms:modified xsi:type="dcterms:W3CDTF">2014-01-19T20:49:46Z</dcterms:modified>
  <cp:revision>278</cp:revision>
  <dc:subject/>
  <dc:title>Prezentace aplikace PowerPoint</dc:title>
</cp:coreProperties>
</file>