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C329-D212-4C8E-BC08-7988D362C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ED2B-1A51-4F7F-9CF0-3E182621B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6762-B97E-44AB-A7DD-8EBD00355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EF5A-07E0-457F-A482-DEEC7A823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6A99-ECA9-4171-A32B-9FE5FA65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0543-E531-4F2E-8D34-600042F6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BB84-28A4-4F43-A288-0C981304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CAB1-D413-4EF6-9847-41D73488C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E6A7-3FE6-4797-8E8E-6D596D4F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86C8-CE77-4C0D-8743-B72C47C90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77A1-817F-4B97-AE2E-A560DB33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B733-087F-4BD9-8CAE-B47EE4EF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0E32F-A8D5-4DB5-BAE0-47FAAF10A6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ora.sulikova@cdv.cz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CDV Grafika\_PIC\LOGO\logo_CDV_PLUS\logo_CDV.png"/>
          <p:cNvPicPr/>
          <p:nvPr/>
        </p:nvPicPr>
        <p:blipFill>
          <a:blip r:embed="rId2"/>
          <a:stretch/>
        </p:blipFill>
        <p:spPr>
          <a:xfrm>
            <a:off x="1957320" y="604800"/>
            <a:ext cx="275904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dpora kompetence řešit problé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apování zdroj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kušenosti z překonávání překážek v minul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Cíle: malé, blízké, reál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ilování kompet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ktivní naslouch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ovzbuze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vyjádření zájmu (Jak jste to dokázal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bjasně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získat inform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Zrcadle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– připojit se, verbálně i neverbál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cenění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- povzbud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arafráze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- ověřit, zda jsem porozumě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Rekapitulace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– shrnout, vyzdvihnout podstatn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Andersenovy otázk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„</a:t>
            </a:r>
            <a:r>
              <a:rPr b="0" lang="cs-CZ" sz="3200" spc="-1" strike="noStrike">
                <a:solidFill>
                  <a:srgbClr val="ff0000"/>
                </a:solidFill>
                <a:latin typeface="Calibri"/>
              </a:rPr>
              <a:t>Jak se stalo, že jste tady?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dyž už jste tady, jak toho času využijeme?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ěláme to, pro co jste přišel?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kud ne, co jiného potřebujete?“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áce s emocemi v 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lá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ně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tr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 neděl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ěch (šíření panik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ozor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vyžádané ra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neschopnění klien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těš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lané sli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nát vlastní hran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o neděl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přesvědč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bagatelizov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hodnot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nabízet to, co nemůžu spln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eflekt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enta/ pacienta/ účastní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ebe sam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ntex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zhov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ažský výta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1. patro: pracovníkovo bezpeč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2. patro: klient má vždycky pravd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3. patro: práce na společném téma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I v terén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bezpečit sebe i pros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ělba rol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třebné informace: kdo, kde, co, kdy, kolik lidí, čas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D:\Users\Turosikova\Desktop\fotky\Upravene.jpg"/>
          <p:cNvPicPr/>
          <p:nvPr/>
        </p:nvPicPr>
        <p:blipFill>
          <a:blip r:embed="rId1"/>
          <a:stretch/>
        </p:blipFill>
        <p:spPr>
          <a:xfrm>
            <a:off x="1177920" y="1413000"/>
            <a:ext cx="6788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ovéPole 8"/>
          <p:cNvSpPr/>
          <p:nvPr/>
        </p:nvSpPr>
        <p:spPr>
          <a:xfrm>
            <a:off x="468360" y="620640"/>
            <a:ext cx="633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 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Barbora Sulí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 Katarína Poláč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9"/>
          <p:cNvSpPr/>
          <p:nvPr/>
        </p:nvSpPr>
        <p:spPr>
          <a:xfrm>
            <a:off x="468360" y="1341360"/>
            <a:ext cx="59529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77933c"/>
                </a:solidFill>
                <a:latin typeface="Arial"/>
              </a:rPr>
              <a:t>Krizová intervence účastníkům dopravních nehod a jejich blízkým osobám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I v terén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pecifik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storové  a časové zvlášt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rizový intervent přichází za účastníkem (úmysl získat dat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ledování možné psychické dekompen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zor nad bezpečností, bezpečnostní doporuč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ntakt s účastníkem neh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do jsem, proč tam js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hodnocení aktuálního psychického stav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abídka pomoci + co můžu nabídn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vedení základních protišokových opatř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y bezpeč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skytování informa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ntakt s účastníkem neh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erbální signály, práce s dotek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votní odmítnutí pomo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utenticita krizového pracovníka – znát vlastní lim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Informace, co se bude dít dál – eliminace úzk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trukturace situace, další plány (krátkodobé) oso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smyslné“ požadavky – selekce důležitého od méně podstatnéh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Užitečné kontak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Kastová, V. (2000). 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Krize a tvořivý přístup k ní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Praha: Portál, edice Spektrum. ISBN 80- 7178-365-X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Kořán, M. a kol. (2006). 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České sdružení obětí dopravních nehod, Přehled systému péče o oběti dopravních nehod v Evropských zemích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http://www.pohrebiste.cz/stranky/archiv/dokument/45/peceev.pdf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Vodáčková, D. a kol. (2007</a:t>
            </a:r>
            <a:r>
              <a:rPr b="0" i="1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). Krizová intervence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Praha: Portál. ISBN 978–80–7367–342–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hzscr.cz/clanek/psychologicka-sluzba-materialy-ke-stazeni-a-odkazy.aspx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csodn.cz/uvo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pit-cr.info/index.php?section=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bkb.cz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http://www.gaudia.cz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barbora.sulikova@cdv.cz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Nadpis 1"/>
          <p:cNvSpPr/>
          <p:nvPr/>
        </p:nvSpPr>
        <p:spPr>
          <a:xfrm>
            <a:off x="546120" y="598320"/>
            <a:ext cx="625788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48a54"/>
                </a:solidFill>
                <a:latin typeface="Arial"/>
                <a:ea typeface="Arial"/>
              </a:rPr>
              <a:t>Děkuji vám za pozornos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ovéPole 4"/>
          <p:cNvSpPr/>
          <p:nvPr/>
        </p:nvSpPr>
        <p:spPr>
          <a:xfrm>
            <a:off x="546120" y="2085840"/>
            <a:ext cx="50752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76092"/>
                </a:solidFill>
                <a:latin typeface="Arial"/>
                <a:ea typeface="Arial"/>
              </a:rPr>
              <a:t>Barbora Sulíko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barbora.sulikova@cdv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+420 </a:t>
            </a:r>
            <a:r>
              <a:rPr b="1" lang="cs-CZ" sz="2000" spc="-1" strike="noStrike">
                <a:solidFill>
                  <a:srgbClr val="8cbbd3"/>
                </a:solidFill>
                <a:latin typeface="Arial"/>
                <a:ea typeface="Arial"/>
              </a:rPr>
              <a:t>601 322 14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Obdélník 1"/>
          <p:cNvSpPr/>
          <p:nvPr/>
        </p:nvSpPr>
        <p:spPr>
          <a:xfrm>
            <a:off x="546120" y="3789360"/>
            <a:ext cx="36352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Centrum dopravního výzkumu, v. v. 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Líšeňská 33a, 636 00  Br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telefon:</a:t>
            </a: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+420 549 429 366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email: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  <a:ea typeface="Arial"/>
              </a:rPr>
              <a:t>cdv@cdv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76092"/>
                </a:solidFill>
                <a:latin typeface="Arial"/>
                <a:ea typeface="Arial"/>
              </a:rPr>
              <a:t>www.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rizová interv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počátku nebyla definována jako pracovní náplň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ychle se dostala do popředí práce psychologa při dopravních nehodá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  <a:ea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Barbora Sulíková,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1"/>
              </a:rPr>
              <a:t>barbora.sulikova@cdv.cz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,  +420 601 322 14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Teorie kri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ubjektivně ohrožujíc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elký dynamický náboj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savadní regulační mechanismy selhávaj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tenciál změ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Typy kriz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e průběhu: akutní – chronick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le manifestace: latentní – zjevn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říčiny kriz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nější  - vnitř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Řešení kri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vépomocn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zájemnou pomoc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ranné mechanis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Obranné chová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gr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tě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egr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anická reak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erealiz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moc nebo kontrol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Kontrol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ílová osoba není vnímána jako dostatečně kompetentní, aby konala s ohledem na vlastní dob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Transparentní, nevyhnutelná, etick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yšší zodpovědnost krizového interv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omoc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ílová osoba je partner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incipy 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přehlednit a strukturov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Jen ty oblasti, které se týkají krizové situ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orovat klientovy kompetence řešit problé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rátkodob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íl: stabilizace stavu klien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odstraňujeme příčiny, hledáme možnosti zvládnu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V první řadě je potřeba snížit úzkost, následně řešit problé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aktické rady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incipy K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Obecné principy krizové pomoci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incip dostup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incip individuality kriz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incip komplexnosti služeb: bio – psycho – sociálně – spirituál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incip vnitřní bezbariérov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incip návaznos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6:07:54Z</dcterms:created>
  <dc:creator>Paulas</dc:creator>
  <dc:description/>
  <dc:language>en-US</dc:language>
  <cp:lastModifiedBy>Turosikova</cp:lastModifiedBy>
  <cp:lastPrinted>2011-09-06T07:59:48Z</cp:lastPrinted>
  <dcterms:modified xsi:type="dcterms:W3CDTF">2013-09-30T14:49:07Z</dcterms:modified>
  <cp:revision>212</cp:revision>
  <dc:subject/>
  <dc:title>Prezentace aplikace PowerPoint</dc:title>
</cp:coreProperties>
</file>