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BF30-35B5-44D3-B1B6-8C515C33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A991-B090-442E-909A-7D5A1F02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0053-D63B-4CCB-98E7-49B1FDAB9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F4EA-0356-4C47-A954-B3F1D1A1C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346B-E998-458D-BF22-AF5F446A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4DC1-092E-4613-88D4-8C62002E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5739-F9EA-417A-8D99-732F23A5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6546-8F96-4E3E-B0FA-B31C3FBA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A1BD-7A07-45C1-9DAD-33009E59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B809-0544-444B-9832-A0A693B2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63C2-6AC8-4C9A-822E-894A4B0A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90D2-A846-4C76-8E41-A3CB7DCF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3769-2DBD-4B4F-9070-61ECEECC722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skodahrou.cz/" TargetMode="External"/><Relationship Id="rId2" Type="http://schemas.openxmlformats.org/officeDocument/2006/relationships/hyperlink" Target="mailto:barbora.sulikova@cdv.cz" TargetMode="External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besip.cz/cache/img/01/--data--web--images--dopravni-vychova--" TargetMode="External"/><Relationship Id="rId2" Type="http://schemas.openxmlformats.org/officeDocument/2006/relationships/hyperlink" Target="mailto:barbora.sulikova@cdv.cz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scb.cz/" TargetMode="External"/><Relationship Id="rId2" Type="http://schemas.openxmlformats.org/officeDocument/2006/relationships/hyperlink" Target="mailto:barbora.sulikova@cdv.cz" TargetMode="Externa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jihlava.idnes.cz/foto.aspx?r=jihlava-" TargetMode="External"/><Relationship Id="rId2" Type="http://schemas.openxmlformats.org/officeDocument/2006/relationships/hyperlink" Target="mailto:barbora.sulikova@cdv.cz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ontonland.cz/?cat_id=SU5842-2&amp;aid=D1D4G7F5S6G7H8" TargetMode="External"/><Relationship Id="rId2" Type="http://schemas.openxmlformats.org/officeDocument/2006/relationships/hyperlink" Target="mailto:barbora.sulikova@cdv.cz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dK8hTw45-0" TargetMode="External"/><Relationship Id="rId2" Type="http://schemas.openxmlformats.org/officeDocument/2006/relationships/hyperlink" Target="http://www.youtube.com/watch?v=odK8hTw45-0" TargetMode="External"/><Relationship Id="rId3" Type="http://schemas.openxmlformats.org/officeDocument/2006/relationships/hyperlink" Target="http://www.youtube.com/watch?v=2KjAerRde3g" TargetMode="External"/><Relationship Id="rId4" Type="http://schemas.openxmlformats.org/officeDocument/2006/relationships/hyperlink" Target="http://www.youtube.com/watch?v=2KjAerRde3g" TargetMode="External"/><Relationship Id="rId5" Type="http://schemas.openxmlformats.org/officeDocument/2006/relationships/hyperlink" Target="http://www.youtube.com/watch?v=9zWRWh7RTiw" TargetMode="External"/><Relationship Id="rId6" Type="http://schemas.openxmlformats.org/officeDocument/2006/relationships/hyperlink" Target="http://www.youtube.com/watch?v=9zWRWh7RTiw" TargetMode="External"/><Relationship Id="rId7" Type="http://schemas.openxmlformats.org/officeDocument/2006/relationships/hyperlink" Target="http://www.youtube.com/watch?v=2TcC6BcO-LE" TargetMode="External"/><Relationship Id="rId8" Type="http://schemas.openxmlformats.org/officeDocument/2006/relationships/hyperlink" Target="http://www.youtube.com/watch?v=2TcC6BcO-LE" TargetMode="External"/><Relationship Id="rId9" Type="http://schemas.openxmlformats.org/officeDocument/2006/relationships/hyperlink" Target="http://www.youtube.com/watch?v=tOtYVYYiF18" TargetMode="External"/><Relationship Id="rId10" Type="http://schemas.openxmlformats.org/officeDocument/2006/relationships/hyperlink" Target="http://www.youtube.com/watch?v=tOtYVYYiF18" TargetMode="External"/><Relationship Id="rId11" Type="http://schemas.openxmlformats.org/officeDocument/2006/relationships/hyperlink" Target="http://www.youtube.com/watch?v=9ww1E7FXe4E" TargetMode="External"/><Relationship Id="rId12" Type="http://schemas.openxmlformats.org/officeDocument/2006/relationships/hyperlink" Target="http://www.youtube.com/watch?v=9ww1E7FXe4E" TargetMode="External"/><Relationship Id="rId13" Type="http://schemas.openxmlformats.org/officeDocument/2006/relationships/hyperlink" Target="http://www.youtube.com/watch?v=S2cDml9n-jY" TargetMode="External"/><Relationship Id="rId14" Type="http://schemas.openxmlformats.org/officeDocument/2006/relationships/hyperlink" Target="http://www.youtube.com/watch?v=S2cDml9n-jY" TargetMode="External"/><Relationship Id="rId15" Type="http://schemas.openxmlformats.org/officeDocument/2006/relationships/hyperlink" Target="http://www.youtube.com/watch?v=SQ0VX_2L5Tc" TargetMode="External"/><Relationship Id="rId16" Type="http://schemas.openxmlformats.org/officeDocument/2006/relationships/hyperlink" Target="http://www.youtube.com/watch?v=SQ0VX_2L5Tc" TargetMode="External"/><Relationship Id="rId17" Type="http://schemas.openxmlformats.org/officeDocument/2006/relationships/hyperlink" Target="http://www.youtube.com/watch?v=PZh44M9OTDk" TargetMode="External"/><Relationship Id="rId18" Type="http://schemas.openxmlformats.org/officeDocument/2006/relationships/hyperlink" Target="http://www.youtube.com/watch?v=PZh44M9OTDk" TargetMode="External"/><Relationship Id="rId19" Type="http://schemas.openxmlformats.org/officeDocument/2006/relationships/hyperlink" Target="mailto:barbora.sulikova@cdv.cz" TargetMode="External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CDV Grafika\_PIC\LOGO\logo_CDV_PLUS\logo_CDV.png"/>
          <p:cNvPicPr/>
          <p:nvPr/>
        </p:nvPicPr>
        <p:blipFill>
          <a:blip r:embed="rId2"/>
          <a:stretch/>
        </p:blipFill>
        <p:spPr>
          <a:xfrm>
            <a:off x="1957320" y="604800"/>
            <a:ext cx="275904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áří 20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vinný vstup dopravní výchovy do výuky na Z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teraktivní průběh, teoretická i praktická čá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edevším BESIP, 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Teoretická (a interaktivní ) čá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racovní sešity, pracovní listy pro žáky, metodické listy pro pedagog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Obsahová náplň přizpůsobena věku dítěte, např. 3. ročník – chodec, 4. ročník – cyklista, znalost dopravních značek, druhý stupeň ZŠ i legislativa, ekonomické dopady dopravních nehod apo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Předškolní děti – omalovánky, pexeso, pohádk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Calibri"/>
              </a:rPr>
              <a:t>9. ročník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1. Pravidla silničního provozu stanoví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vyhláška ministerstva vnitr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ákon č. 361/2000 Sb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ařízení vlády č. 100/1999 Sb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. K řízení mopedů a malých motocyklů s maximální konstrukční rychlostí 45 km/h. opravňuje řidičské oprávnění skupiny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4. Cyklist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řidič užitkového vozidl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je řidič nemotorového vozidl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)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ení řidič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rtál Škoda hrou: 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skodahrou.cz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3"/>
          <a:stretch/>
        </p:blipFill>
        <p:spPr>
          <a:xfrm>
            <a:off x="1892160" y="2205000"/>
            <a:ext cx="512784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ětská dopravní hřišt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4. ročník ZŠ – získávaní průkazu Mladý cykli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elostátní soutě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čet dopravních hřišť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ní dostatečný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ípravou nepřešlo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ca 20% žák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droj: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besip.cz/cache/img/01/--data--web--images--dopravni-vychova--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hriste--prukaz%20cyklisty.fitbox.x500.y1000.r0.q90.nr0.me2.p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4284720" y="2852640"/>
            <a:ext cx="4292640" cy="27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OUČAS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alší subjekty zaujímající se o dopravní výchovu a osvětovou činnos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ŠMT (zavedení DV so osnov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V (informační brožury, besedy s dopravním policistou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Z (školení první pomoci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ziskové organizace (Červený kříž, BESIP, Pražské matky,…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scb.cz/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Moravian science centre Br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jekt ME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jekt MELA – Metoda Larp v dopravní výchov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Live Action Role Play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eduLARP – jasně daný příběh, každý hráč má určenou rol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První roční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de si hrát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(místa vhodná a nevhodná ke hř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líčové kompetence v dopravní výchově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rozlišuje a využívá bezpečná a nebezpečná místa pro hr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nevyužívá pro hraní silnici či chodní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Jak si hraje Vendulka a Davíd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Calibri"/>
              </a:rPr>
              <a:t>Druhý roční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Já - chode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Klíčové kompetence v dopravní výchově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ák správně používá pravidla chování na stezkách pro chod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ák zná a respektuje vztahy mezi účastníky na stezkách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ák bezpečně přechází silnici bez přechodu, po přechodu i po přechodu se světelnými signál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Cesta bájnou krajin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ovéPole 8"/>
          <p:cNvSpPr/>
          <p:nvPr/>
        </p:nvSpPr>
        <p:spPr>
          <a:xfrm>
            <a:off x="468360" y="62064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76092"/>
                </a:solidFill>
                <a:latin typeface="Arial"/>
              </a:rPr>
              <a:t>Mgr. </a:t>
            </a:r>
            <a:r>
              <a:rPr b="1" lang="cs-CZ" sz="3200" spc="-1" strike="noStrike">
                <a:solidFill>
                  <a:srgbClr val="376092"/>
                </a:solidFill>
                <a:latin typeface="Arial"/>
              </a:rPr>
              <a:t>Barbora Sulí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76092"/>
                </a:solidFill>
                <a:latin typeface="Arial"/>
              </a:rPr>
              <a:t>Mgr.</a:t>
            </a:r>
            <a:r>
              <a:rPr b="1" lang="cs-CZ" sz="3200" spc="-1" strike="noStrike">
                <a:solidFill>
                  <a:srgbClr val="376092"/>
                </a:solidFill>
                <a:latin typeface="Arial"/>
              </a:rPr>
              <a:t> Katarína Poláč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9"/>
          <p:cNvSpPr/>
          <p:nvPr/>
        </p:nvSpPr>
        <p:spPr>
          <a:xfrm>
            <a:off x="468360" y="1341360"/>
            <a:ext cx="59529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77933c"/>
                </a:solidFill>
                <a:latin typeface="Arial"/>
              </a:rPr>
              <a:t>Dopravní výchov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77933c"/>
                </a:solidFill>
                <a:latin typeface="Arial"/>
              </a:rPr>
              <a:t>MEtoda LArp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Třetí roční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Cesta do ško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líčové kompetence v dopravní výchově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reaguje v roli chodce na ostatní účastníky silničního provoz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bezpečně překonává silnici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dodržuje pravidla chůze po chodník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tavba bezpečného měs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Čtvrtý roční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rizové situace – ohrože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líčové kompetence v dopravní výchově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zná a dokáže využívat zásady správného chování v krizových situací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pozná nebezpečné situace a navrhuje způsoby jejich řešení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Superhrdinové zachraňující svě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300" spc="-1" strike="noStrike">
                <a:solidFill>
                  <a:srgbClr val="000000"/>
                </a:solidFill>
                <a:latin typeface="Calibri"/>
              </a:rPr>
              <a:t>Pátý ročník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300" spc="-1" strike="noStrike">
                <a:solidFill>
                  <a:srgbClr val="000000"/>
                </a:solidFill>
                <a:latin typeface="Calibri"/>
              </a:rPr>
              <a:t>Já - chodec a cyklista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Klíčové kompetence v dopravní výchově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Žák využívá zásady správného chování na stezkách pro chodce a při přechodu silnice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Žák zná vztahy mezi účastníky silničního provozu a respektuje je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Žák odhadne dopravní situaci, její nebezpečí a vyvodí správné řešení, snaží se zachovat adekvátně situaci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Žák vnímá dopravní situaci všemi smysly, vyhodnotí ji a vyvodí správné závěry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300" spc="-1" strike="noStrike">
                <a:solidFill>
                  <a:srgbClr val="000000"/>
                </a:solidFill>
                <a:latin typeface="Calibri"/>
              </a:rPr>
              <a:t>Cesta kolem světa za jediný den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000000"/>
                </a:solidFill>
                <a:latin typeface="Calibri"/>
              </a:rPr>
              <a:t>Šestý ročník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Cesta dopravní mi prostředky - pravidla při cestování dopravní mi prostředky (vztahy mezi cestujícími a účastníky hromadné doprav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líčové kompetence v dopravní výchově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ák se chová ohleduplně v prostředcích hromadné dopravy a svým chováním neohrožuje ostatní cestující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ák uvolní své sedadlo v prostředcích hromadné dopravy seniorům, invalidům, těhotným ženám či matkám s dítětem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Žák se chová v prostředcích hromadné dopravy bezpečně a chápe nutnost držet se během jízdy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Cesta vesmírnou lodí ke Slunci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Sedmý roční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Já - cykli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líčové kompetence v dopravní výchově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Žák zná a ovládá pravidla bezpečného a ohleduplného chování cyklisty v silničním provozu a uplatňuje je v praktických situací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Žák chápe odpovědnost cyklisty a vztahy mezi účastníky silničního provozu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Žák zná možné krizové situace spojené s jízdou na kole a dokáže navrhnout jejich řeš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Ve službách tajných agent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Calibri"/>
              </a:rPr>
              <a:t>Osmý roční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Etika v silničním provoz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líčové kompetence v dopravní výchově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rozumí souvislosti celkového chování člověka, sounáležitosti a spolupráce v dopravních situacích pro uchování zdraví a života svojí osoby i druhýc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k chápe odpovědnost chodce v silničním provoz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Cesta bájného Odyss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BUDOUC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Calibri"/>
              </a:rPr>
              <a:t>Devátý roční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Téma: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Já – chodec, cyklista a řidič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Klíčové kompetence v dopravní výchově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ák používá své znalosti a dovednosti v praxi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ák analyzuje konkrétní situaci a vyvozuje bezpečné chování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Žák se chová tak, aby v silničním provozu chránil zdraví a život svůj i jiných osob – uvědomuje si dopad svého chování a koriguje jej podle situac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ámět hry: 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Soutěž o zlatého „deváťáka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trnadová, Z. (2012): Odborná zpráva o postupu prací a dosažených výsledků za rok 2012, projekt TAČR, ME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trnadová, Z. (2013): projekt ME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ttp://www.ibesip.cz/cz/dopravni-vycho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Nadpis 1"/>
          <p:cNvSpPr/>
          <p:nvPr/>
        </p:nvSpPr>
        <p:spPr>
          <a:xfrm>
            <a:off x="546120" y="598320"/>
            <a:ext cx="625788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48a54"/>
                </a:solidFill>
                <a:latin typeface="Arial"/>
                <a:ea typeface="Arial"/>
              </a:rPr>
              <a:t>Děkuji vám za pozornost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ovéPole 4"/>
          <p:cNvSpPr/>
          <p:nvPr/>
        </p:nvSpPr>
        <p:spPr>
          <a:xfrm>
            <a:off x="546120" y="2085840"/>
            <a:ext cx="5075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76092"/>
                </a:solidFill>
                <a:latin typeface="Arial"/>
                <a:ea typeface="Arial"/>
              </a:rPr>
              <a:t>Barbora Sulíkov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barbora.sulikova@cdv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+420 </a:t>
            </a:r>
            <a:r>
              <a:rPr b="1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601 322 14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Obdélník 1"/>
          <p:cNvSpPr/>
          <p:nvPr/>
        </p:nvSpPr>
        <p:spPr>
          <a:xfrm>
            <a:off x="546120" y="3789360"/>
            <a:ext cx="36352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Centrum dopravního výzkumu, v. v. 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Líšeňská 33a, 636 00  Br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telefon:</a:t>
            </a: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+420 549 429 366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email: 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cdv@cdv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76092"/>
                </a:solidFill>
                <a:latin typeface="Arial"/>
                <a:ea typeface="Arial"/>
              </a:rPr>
              <a:t>www.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1935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. A. Elstner  - hodinky bezpečnosti v rámci „Výstavy dopravní bezpečnosti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mé kurzy i školní rozh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60. rok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stavba dopravních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řišť (dobrovolníci +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VAZAR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droj: </a:t>
            </a:r>
            <a:r>
              <a:rPr b="0" lang="cs-CZ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jihlava.idnes.cz/foto.aspx?r=jihlava-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zpravy&amp;c=A120417_1765028_jihlava-zpravy_k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 nejmenší Spelbj a Hurvínek (autor F. Nepil) – cena Unice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3"/>
          <a:stretch/>
        </p:blipFill>
        <p:spPr>
          <a:xfrm>
            <a:off x="4481640" y="1754280"/>
            <a:ext cx="448308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70. rok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969 – 1970 -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Zavedení dopravní výchovy do osnov Z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těž zlatá zebra – </a:t>
            </a: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MV a 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interaktivní rozhlasové vysíl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10 minut na začátku vyuč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Calibri"/>
              </a:rPr>
              <a:t>- Vyplňování sešitů se zebr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cs-CZ" sz="1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i="1" lang="cs-CZ" sz="1000" spc="-1" strike="noStrike">
                <a:solidFill>
                  <a:srgbClr val="000000"/>
                </a:solidFill>
                <a:latin typeface="Calibri"/>
              </a:rPr>
              <a:t>Zdroj: </a:t>
            </a:r>
            <a:r>
              <a:rPr b="0" i="1" lang="cs-CZ" sz="1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bontonland.cz/?cat_id=SU5842-2&amp;aid=D1D4G7F5S6G7H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3"/>
          <a:stretch/>
        </p:blipFill>
        <p:spPr>
          <a:xfrm>
            <a:off x="5867280" y="299736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youtube.com/watch?v=odK8hTw45-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youtube.com/watch?v=2KjAerRde3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youtube.com/watch?v=9zWRWh7RTiw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youtube.com/watch?v=2TcC6BcO-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youtube.com/watch?v=tOtYVYYiF1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youtube.com/watch?v=9ww1E7FXe4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youtube.com/watch?v=S2cDml9n-j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youtube.com/watch?v=SQ0VX_2L5T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http://</a:t>
            </a:r>
            <a:r>
              <a:rPr b="0" lang="cs-CZ" sz="24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youtube.com/watch?v=PZh44M9OTD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http://www.youtube.com/watch?v=Mn2KO58_h8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9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uben – měsíc bezpečnosti silničního provozu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ýtvarní soutěž – Děti, pozor červená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droj:   http://zsckalovova.rajce.idnes.cz/Vytvarna_soutez_Deti_pozor_cervena_-_2012/#DSC00032.jpg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2627280" y="2708280"/>
            <a:ext cx="367344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200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ámcový vzdělávací plán – téma Dopravní výchovy se zde nenacház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oučást vyučovacího předmětu „Člověk a jeho svět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20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ŠMT + MD – tvorba metodických podkladů pro znovuzavedenou výuku dopravní výchovy do Ž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6:07:54Z</dcterms:created>
  <dc:creator>Paulas</dc:creator>
  <dc:description/>
  <dc:language>en-US</dc:language>
  <cp:lastModifiedBy>Turosikova</cp:lastModifiedBy>
  <cp:lastPrinted>2011-09-06T07:59:48Z</cp:lastPrinted>
  <dcterms:modified xsi:type="dcterms:W3CDTF">2013-10-24T15:31:19Z</dcterms:modified>
  <cp:revision>430</cp:revision>
  <dc:subject/>
  <dc:title>Prezentace aplikace PowerPoint</dc:title>
</cp:coreProperties>
</file>