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6A66-8952-4600-B94F-D4F79446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9019-FE75-4DBF-97CA-C0E94F9D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FCF6-F61D-4281-9E58-8E2CA49B0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3AA8-8FD1-4FFA-9420-71F4E0178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990C-8654-4F91-B0BE-5ACF3917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2927-E977-4086-AB1E-D497D3C22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DB5A-E152-4A67-AB40-EC8AC393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4369-425A-4FE9-A757-4C2641BE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33F5-B6CE-488B-90DD-CB652136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0CE4-EDD5-4CB0-AD2B-B5EEFA0C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56A4-1243-49AC-A33B-40FFC011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FFE9-E38B-4ADF-8189-47FFF32B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11AC3-F0DF-49C5-ABA0-62693719233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:\CDV Grafika\_PIC\LOGO\logo_CDV_PLUS\logo_CDV.png"/>
          <p:cNvPicPr/>
          <p:nvPr/>
        </p:nvPicPr>
        <p:blipFill>
          <a:blip r:embed="rId2"/>
          <a:stretch/>
        </p:blipFill>
        <p:spPr>
          <a:xfrm>
            <a:off x="1957320" y="604800"/>
            <a:ext cx="2759040" cy="27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nalostí – pravidel, vozidla, silnice apo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Nedostatek zručností a pohybových dovedností, nedostatek zkuše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řechodné stav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Únava z dlouhých jízd a nevyspání, která mizí po odpočink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Alkohol a dro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Calibri"/>
              </a:rPr>
              <a:t>Činnost v časové zátěž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 dle Štikare, Hoskovce a Štikarové (2003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727280" y="1557360"/>
            <a:ext cx="5689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Porušený zdravotní – tělesný stav včetně nedostatků smyslových orgánů (senzorika  - motorika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áchvat, infarkt za volan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dravotně znevýhodnění jedinc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hronické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kutní onemocněn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vhodné lé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Kombinace onemocnění a medikament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úsudkových schop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odnocení, poznávání, logické, analytické, praktické i kritické myšlení, pamě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znalostí – pravidel, vozidla, silnice ap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znalost tras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dostatek zkušení s konkrétním vozid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Nedostatek zručností a pohybových dovedností, nedostatek zkušenost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kušení řidiči (chybění zautomatizovaných úkon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blematika mladých řidičů (nezkušenost, osobnostní nezralost, přeceňování, častější porušování dopravních předpisů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Osoby ve vyšším věku (vyšší zranitelnost, pokles percepčních, kognitivních a motorických schopností – kompenzační strategi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Nedostatek potřebných charakterových vlastnost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ormální normy a neformální normy (sociálně psychologické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nonymní podmín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droj:  http://www.spektrumzdravi.cz/w/spektrumzdravi/files/typologie-osobnosti.jp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1"/>
          <a:stretch/>
        </p:blipFill>
        <p:spPr>
          <a:xfrm>
            <a:off x="1697040" y="490680"/>
            <a:ext cx="54673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Únava z dlouhých jízd a nevyspání, která mizí po odpočink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ikrospánek, usnutí, únav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Únava: smyslové orgány, fyzická, psychická, koordinace pohybů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Spánková deprivace, noční doba, monotoni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ez spolujezdce, spící spolujezde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Rychlost nižší než 60 km/h, vysoká teplota, vyrovnaný hluk, oslňování sluncem, známá trasa, mlha (Štikar, 200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Biorytmu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ovéPole 8"/>
          <p:cNvSpPr/>
          <p:nvPr/>
        </p:nvSpPr>
        <p:spPr>
          <a:xfrm>
            <a:off x="468360" y="62064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76092"/>
                </a:solidFill>
                <a:latin typeface="Arial"/>
              </a:rPr>
              <a:t>Mgr. </a:t>
            </a:r>
            <a:r>
              <a:rPr b="1" lang="cs-CZ" sz="32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9"/>
          <p:cNvSpPr/>
          <p:nvPr/>
        </p:nvSpPr>
        <p:spPr>
          <a:xfrm>
            <a:off x="468360" y="1341360"/>
            <a:ext cx="59529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77933c"/>
                </a:solidFill>
                <a:latin typeface="Arial"/>
              </a:rPr>
              <a:t>Hloubková analýza dopravních nehod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Okénko ve vědomí, přechodné útlumové stavy aktivní pozornosti nebo některých jejích složek bez únav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jčastější příčina neho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Zahlcení – vysoká hustota provozu, zařízení ve vozidle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dklon pozornos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Monotonie, změna na známe trase, </a:t>
            </a:r>
            <a:r>
              <a:rPr b="1" lang="cs-CZ" sz="2600" spc="-1" strike="noStrike">
                <a:solidFill>
                  <a:srgbClr val="000000"/>
                </a:solidFill>
                <a:latin typeface="Calibri"/>
              </a:rPr>
              <a:t>syndrom konce cesty</a:t>
            </a: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 (Havlík, 2005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Nezkušenost, emoce, napětí, únava, extrémní počasí, užití omamných a návykových látek, bolest, nemoc, …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řechodné emoce z rodinných, společenských a jiných důvodů absorbujících pozorn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egativní i pozitivní, nedostatek i přebyt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Úzkost, hněv, stra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ádka s partnerem, cesta na pohře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lkohol a další omamné a psychotropní lát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Alkohol i zbytkový alkoho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Vyšší náchylnost k vážnějším úrazům (riziko smrti – 3krát vyšš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soby nezralé, příznaky závislosti, nižší sebekontrola, egocentrizmus, emoční nevyváženost,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Craving jako příčina nehody (zhoršení kognitivních funkcí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alibri"/>
              </a:rPr>
              <a:t>Omamné a návykové léky, včetně nebezpečných léků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ronické abnormní duševní stavy: neurózy, periodické nebo neperiodické proměny impuls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eprese (pomalejší reak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Roční období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Hypochondrická, nutkavá, depresivní, úzkostná, fobická, hysterická neuróz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gresivní, úzkostný, cholerický řidič (jen v dopravních chování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Činnost v časové zátěž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šší chybovo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rušení pravi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Chodc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vinění nehod řidič 50 x chodec 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Barva obleče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lkohol chod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ývojové specifika dítěte (výška – zraková orientace, vnímání, rychlost reagování, pozornost, myšl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íčiny dopravních nehod z hlediska pochybení člově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Adaptace na prostřed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časí : slunce, náledí, vítr, sníh a dé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: kvalita vozovky, dopravní značení, rozh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vě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cesy kategorizace a očekávání účastník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třeby fragilní popul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vans, L. (2004). Traffic Safety. Science Serving Society, US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avlík, K. (2005). Psychologie pro řidiče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řán, M. (1977). Komplexní analýza závažných dopravních nehod přímo na místě. Nepublikovaný tex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špor, K. (2007). Návykové chování a závislost. Portál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thengatter, T., Huguenin, R. D. (ed.), (2004). Traffic and Transport Psychology. Theory and Application. ELSEVIER Ltd, U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molíková, J., (2006). Psychologická prevence nehod (teorie a praxe)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Štikar, J., Hoskovec, J., Štikarová, J., (2003). Psychologie v dopravě. Karolinum, Prah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heeuwes, J., van der Hirst, R., Kuiken, M. (2012): Designing Safe Road Systems.Ashgate Publising Limited, Engl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Nadpis 1"/>
          <p:cNvSpPr/>
          <p:nvPr/>
        </p:nvSpPr>
        <p:spPr>
          <a:xfrm>
            <a:off x="546120" y="598320"/>
            <a:ext cx="6257880" cy="9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948a54"/>
                </a:solidFill>
                <a:latin typeface="Arial"/>
              </a:rPr>
              <a:t>Děkuji vám za pozornost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ovéPole 4"/>
          <p:cNvSpPr/>
          <p:nvPr/>
        </p:nvSpPr>
        <p:spPr>
          <a:xfrm>
            <a:off x="546120" y="2085840"/>
            <a:ext cx="507528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76092"/>
                </a:solidFill>
                <a:latin typeface="Arial"/>
              </a:rPr>
              <a:t>Barbora Sulíková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8cbbd3"/>
                </a:solidFill>
                <a:latin typeface="Arial"/>
              </a:rPr>
              <a:t>barbora.sulikova@cdv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Obdélník 1"/>
          <p:cNvSpPr/>
          <p:nvPr/>
        </p:nvSpPr>
        <p:spPr>
          <a:xfrm>
            <a:off x="546120" y="3789360"/>
            <a:ext cx="36352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entrum dopravního výzkumu, v. v. 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Líšeňská 33a, 636 00  Brn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telefon:</a:t>
            </a: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+420 549 429 366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376092"/>
                </a:solidFill>
                <a:latin typeface="Arial"/>
              </a:rPr>
              <a:t>email: </a:t>
            </a:r>
            <a:r>
              <a:rPr b="1" lang="cs-CZ" sz="1400" spc="-1" strike="noStrike">
                <a:solidFill>
                  <a:srgbClr val="376092"/>
                </a:solidFill>
                <a:latin typeface="Arial"/>
              </a:rPr>
              <a:t>cdv@cdv.cz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76092"/>
                </a:solidFill>
                <a:latin typeface="Arial"/>
              </a:rPr>
              <a:t>www.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1884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MV, 5 let (2011 – 201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RV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rojekt TAČR (zaměření na chodce, 2013 – 2015, CDV spoluřešite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Nezávislé šetření dopravních nehod, výzkumné úč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Šetřeny jsou nehody, při kterých došlo ke zranění účastní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,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4756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Cíl: zjišťování dostatečně průkazných podnětů ke zlepšení dopravní infrastruktury, automobilové techniky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a ke kvalitnější přípravě řidič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Sběr dat a tvorba rozsáhlé databáz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oposud bylo šetřeno více než 400 nehod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Brno – město, Brno – venk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etodika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etailní analýza jednotlivých nehod, sběr vysokého množství dat, pochopení následností a vztahů u každé nehody zvláš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sledné zobecnění závěrů -  tvorba typických scénařů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rekvence výskytu různých kauzálních činitelů – taxonomie kategori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Spolupracující subjekty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licie české republi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Hasičský záchranní sb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dravotnická záchranná služ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Fakultní nemocnice Brn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podnik města Br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Barbora Sulíková</a:t>
            </a:r>
            <a:r>
              <a:rPr b="0" lang="pt-BR" sz="1600" spc="-1" strike="noStrike">
                <a:solidFill>
                  <a:srgbClr val="ffffff"/>
                </a:solidFill>
                <a:latin typeface="Arial"/>
              </a:rPr>
              <a:t>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Oblasti zájmu šetření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pravní infrastruktur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Automobilová technika (na místě nehod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dicína (bezprostředně po nehodě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Calibri"/>
              </a:rPr>
              <a:t>Psychologie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(na místě nehody, s časovým odstupem v nemocničním zařízení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Hloubková analýza dopravních neh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Role psychologa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rizová interv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Sběr d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etoda polo - strukturovaného rozhovoru, především aktivní účastníci ne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z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ovéPole 4"/>
          <p:cNvSpPr/>
          <p:nvPr/>
        </p:nvSpPr>
        <p:spPr>
          <a:xfrm>
            <a:off x="209520" y="6093000"/>
            <a:ext cx="875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ff"/>
                </a:solidFill>
                <a:latin typeface="Arial"/>
              </a:rPr>
              <a:t>Kontaktní informace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Barbora Sulíková, barbora.sulikova@cdv.cz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0T06:07:54Z</dcterms:created>
  <dc:creator>Paulas</dc:creator>
  <dc:description/>
  <dc:language>en-US</dc:language>
  <cp:lastModifiedBy>sulo</cp:lastModifiedBy>
  <cp:lastPrinted>2011-09-06T07:59:48Z</cp:lastPrinted>
  <dcterms:modified xsi:type="dcterms:W3CDTF">2014-01-19T20:49:46Z</dcterms:modified>
  <cp:revision>278</cp:revision>
  <dc:subject/>
  <dc:title>Prezentace aplikace PowerPoint</dc:title>
</cp:coreProperties>
</file>