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F888-BE27-492E-8F9C-7B5CF5600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74F9-46E9-4357-A18F-92FD7FB05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896E-103C-45FD-B7DE-0429F900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4D78-C238-4987-A601-D2839E4C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9B01-20E6-4C8E-ABD8-676D892D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A562-43CE-4115-AB3A-777183317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7CD6-B6C9-43BC-8B79-C939EAA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B00D-D889-4A23-A5EC-AD7E53F40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7651-46FC-4424-B6EA-F4D6D225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BFE-9AAF-4DFD-949F-2A235E26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342F-0025-460A-BB9C-6628C4AE3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B95D-0057-4CD6-B2BB-2688E29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361A-4DAA-45C9-A7E3-EB6D1E81F9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666800" y="34920"/>
            <a:ext cx="5353200" cy="68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amnestický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konové testy (kognitivní schop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sobnostní dotazníky (osobnostní vlastnos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Výkonové tes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eriferní vi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a metoda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rincip diskriminace tvarů, zjišťování změn pracovního výkonu v ča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koncentrace pozornos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klon k chybovosti, PM tempo, impulzivnos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pozornosti d2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dodržování pravidel, selektivní pozornost, rychlost zpracová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amě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echslerova škála pamět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sluchová i zraková, krátkodobá i dlouhodobá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Vizuálně  retenční test Bentonův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izuální pozornost a retence pamět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měťový test uče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verbální paměť, poruchy vybavování, demence, poruchy učení,…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Intelig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loučení MR, dem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avenovy progresivní m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WAIS – R, WAIS I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Test struktury intelig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akční č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isjunktivní reakční čas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trénink rychlé orientace, rychlost rozhodování, psychické tempo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Číselný obdélník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lektivita a distribuce pozornosti v podmínkách vyžadujících vysoké tempo činnosti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000000"/>
                </a:solidFill>
                <a:latin typeface="Calibri"/>
              </a:rPr>
              <a:t>Determinační test 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senzomotorické reakce mnohonásobnými vizuálními a akustickými podněty, i barvocit)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dolnost vůči monoto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urdonov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ě – psychologické vyšetřen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)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ysové charakteristiky osobnost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dominance, potřeba prosazení se, egocentrismu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oční stabilita × labilita (neuroticismu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ypersenzitivita, úzkost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roveň sebejistoty, sebepojet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xtroverze × introverz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ebekontrola, sebedisciplína, poslušnost k pravidlům silničního provoz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ědomit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nízká frustrační tolerance a odolnost vůči stresu, psychická odol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únav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) další koncepty osobnosti ovlivňující 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ování typu 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hledávání situačního vzrušení, dobrodružství, sensation-see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ntisociální postoje × prosociální postoje, altruism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LOC – vnější, vnitřní kontrola se sníženou anticipa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trib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) agresivní tend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iv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gr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ně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stili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sobnostní dotazní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O – FFI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OCEA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Bochumský osobnostní dotazník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podtitul "inventář profesních charakteristik osobnosti„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interpersonální diagnózy IC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Eysenck DOPEN, EOD, EPQ, IV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impulzivi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6 P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sobnostní inventář KU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IHAVEZ, SPIDO, SPAR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Hand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Freiburský osobnostní dotazní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Dotazník 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ové funkc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eriferní vidě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izuální orient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akční čas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enzomotorická koordina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zorno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ligence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aměť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monotonii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Symbol"/>
                <a:ea typeface="Symbol"/>
              </a:rPr>
              <a:t>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olnost vůči stres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strojové met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ysy osobnost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riskovat/ připravenost k rizikovému chování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vyhledávat vzrušení (sensation seeking)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ndence agresivního jedná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jezděte brzy ráno, za šera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ejte si přestávky, větrejte, protáhněte 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rasu vždy pečlivě naplánujte, včetně odpočin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rážejte na dlouhé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senio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po známé t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raději se spolujezdc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usedejte za volant, pokud se necítíte dobř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k sobě kritičtí, nepřeceňujte své sí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echte se vyprovokovat k riskantní jízdě ostatními řidič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Jezděte opatrně, přiměřenou rychlostí, nespěchejte, nevystavujte se zbytečnému riziku pro pár minut časového zis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o platí zvláště za zhoršených provozních podmín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 jízdy absolvujte po méně frekventovaných silnicí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nažte se předvídat, přemýšlet o dopravní situa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bodovaní řidiči - při žádosti o vrácení řidičského průkazu po 12 měsících od vybod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se zákazem činnosti (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 jakémkoliv zákazu řízení motorových vozidel v rámci trestního řízení(minimálně 6 měsíců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i "v podmínce"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vních 6m nejezděte s dalšími pasažé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( kromě zkušených řidičů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učte se požádat o ticho na soustředě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jezděte vpodvečer a v no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ředpisy vás mají chránit, dodržujte je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uďte ohleduplní k chodcům a pomalejším řidičům, taky jimi jednou bud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oporučení pro nezralé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držujte bezpečnou vzdále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nažte se o odvetu, pokud jiný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řidič udělá chybu, nebo vás našt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jste v dobré kondici,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sedejte za vol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místěte na vozidlo značku „Z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Svoboda, M. 2010: Psychologická diagnostika dospělých. Praha. Portá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, K.: Psychologické zvláštnosti dopravního charakteru vybodovaných řidič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avlíková, M. Výstupy z dopravně psychologického vyšetření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Kvintová, J.: psychická způsobilost a dopravně psychologické vyšetře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12bodu.cz/dopravni_psycholog.ph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www.psychodiagnostika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psychologie.getacentrum.cz/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 -psychologické vyšetření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pecifika řidičů účastnících se na dopravně  - psychologickém vyšetření dle Havlíka (2013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ěk 25 – 35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řidičská praxe 4 – 8 l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ůměrný počet bodovaných přestupků za rok:  6 - 8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pakovaní stejných přestup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minulosti soudně trestaní (20%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émy v sociálních vztazích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usí absolvova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ro účely výkonu zaměstnání a získání kvalifik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C1E, C, CE, pokud řídí nákladní nebo speciální automobil o největší povolené hmotnosti nad 7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ržitelé řidičského oprávnění skupin D1E, D nebo 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učitelé autoško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Dispečeř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Osoby ve vyšším vě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enioři nad 65 let (po lékařské prohlídce, následně 68 a pak každé 2 rok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Kdy musí absolvovat dopravně – psychologické vyšetření - profesionálové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 zahájením čin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6 měsíců před dovršením 50 let vě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ě pravidelně jednou za 5 l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usí byt předloženo při pravidelné lékařské prohlí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kyny pro řidič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Občanský průka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Výpis z evidenční karty řidič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slouchadlo či brýle, pokud je užívá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  <a:ea typeface="Calibri"/>
              </a:rPr>
              <a:t>Na vyšetření byste se měli dostavit včas, odpočatí, přiměřeně vyspalí a v dobrém fyzickém a psychickém rozpoložení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do může provádět dopravně – psychologické vyšetř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Zákon č. 133/2011 Sb. mění zákon č. 361/2000 Sb., o provozu na pozemních komunikacích a o změnách některých zákonů (zákon o silničním provozu), ve znění pozdějších předpisů, a některé další zákony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(4) Dopravně psychologické vyšetření provádí psycholog, kterému ministerstvo udělilo akreditaci.“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100" spc="-1" strike="noStrike">
                <a:solidFill>
                  <a:srgbClr val="000000"/>
                </a:solidFill>
                <a:latin typeface="Calibri"/>
              </a:rPr>
              <a:t>Platné od 1.8.2012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 současné době neexistuje povinnost provádět vyšetření dle schválené metod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ttp://www.ff.upol.cz/fileadmin/user_upload/FF-katedry/psychologie/Sborniky_a_monografie/seitl/Manul_final_v6_19_1_2011-1.pd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1T12:39:05Z</dcterms:modified>
  <cp:revision>314</cp:revision>
  <dc:subject/>
  <dc:title>Prezentace aplikace PowerPoint</dc:title>
</cp:coreProperties>
</file>