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04D-7DBF-4BBA-86EC-41E56771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B0A-7F12-44F1-AF5A-88CF38CC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C7C-4CC2-44B8-8B0B-0FC489D3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B66-B21E-4086-97C1-3B75972E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CBF-E07C-4D7E-9FC5-73ABA66B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C1C-E3A8-4D78-9321-151CCDE4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7EF-1604-4254-9BD5-C940E94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59A-F70B-445A-9418-40EA97CA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F08-2674-44F2-85F3-3063F653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D80-9E5F-41D2-85D1-072D2D57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AE7-D0A2-48CA-AE06-4F80887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59A-1030-44B7-8E5A-CC5A4618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E2D0-8DE4-44BE-87FE-7B4AED2703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kodahrou.cz/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besip.cz/cache/img/01/--data--web--images--dopravni-vychova--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scb.cz/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ihlava.idnes.cz/foto.aspx?r=jihlava-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ntonland.cz/?cat_id=SU5842-2&amp;aid=D1D4G7F5S6G7H8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dK8hTw45-0" TargetMode="External"/><Relationship Id="rId2" Type="http://schemas.openxmlformats.org/officeDocument/2006/relationships/hyperlink" Target="http://www.youtube.com/watch?v=odK8hTw45-0" TargetMode="External"/><Relationship Id="rId3" Type="http://schemas.openxmlformats.org/officeDocument/2006/relationships/hyperlink" Target="http://www.youtube.com/watch?v=2KjAerRde3g" TargetMode="External"/><Relationship Id="rId4" Type="http://schemas.openxmlformats.org/officeDocument/2006/relationships/hyperlink" Target="http://www.youtube.com/watch?v=2KjAerRde3g" TargetMode="External"/><Relationship Id="rId5" Type="http://schemas.openxmlformats.org/officeDocument/2006/relationships/hyperlink" Target="http://www.youtube.com/watch?v=9zWRWh7RTiw" TargetMode="External"/><Relationship Id="rId6" Type="http://schemas.openxmlformats.org/officeDocument/2006/relationships/hyperlink" Target="http://www.youtube.com/watch?v=9zWRWh7RTiw" TargetMode="External"/><Relationship Id="rId7" Type="http://schemas.openxmlformats.org/officeDocument/2006/relationships/hyperlink" Target="http://www.youtube.com/watch?v=2TcC6BcO-LE" TargetMode="External"/><Relationship Id="rId8" Type="http://schemas.openxmlformats.org/officeDocument/2006/relationships/hyperlink" Target="http://www.youtube.com/watch?v=2TcC6BcO-LE" TargetMode="External"/><Relationship Id="rId9" Type="http://schemas.openxmlformats.org/officeDocument/2006/relationships/hyperlink" Target="http://www.youtube.com/watch?v=tOtYVYYiF18" TargetMode="External"/><Relationship Id="rId10" Type="http://schemas.openxmlformats.org/officeDocument/2006/relationships/hyperlink" Target="http://www.youtube.com/watch?v=tOtYVYYiF18" TargetMode="External"/><Relationship Id="rId11" Type="http://schemas.openxmlformats.org/officeDocument/2006/relationships/hyperlink" Target="http://www.youtube.com/watch?v=9ww1E7FXe4E" TargetMode="External"/><Relationship Id="rId12" Type="http://schemas.openxmlformats.org/officeDocument/2006/relationships/hyperlink" Target="http://www.youtube.com/watch?v=9ww1E7FXe4E" TargetMode="External"/><Relationship Id="rId13" Type="http://schemas.openxmlformats.org/officeDocument/2006/relationships/hyperlink" Target="http://www.youtube.com/watch?v=S2cDml9n-jY" TargetMode="External"/><Relationship Id="rId14" Type="http://schemas.openxmlformats.org/officeDocument/2006/relationships/hyperlink" Target="http://www.youtube.com/watch?v=S2cDml9n-jY" TargetMode="External"/><Relationship Id="rId15" Type="http://schemas.openxmlformats.org/officeDocument/2006/relationships/hyperlink" Target="http://www.youtube.com/watch?v=SQ0VX_2L5Tc" TargetMode="External"/><Relationship Id="rId16" Type="http://schemas.openxmlformats.org/officeDocument/2006/relationships/hyperlink" Target="http://www.youtube.com/watch?v=SQ0VX_2L5Tc" TargetMode="External"/><Relationship Id="rId17" Type="http://schemas.openxmlformats.org/officeDocument/2006/relationships/hyperlink" Target="http://www.youtube.com/watch?v=PZh44M9OTDk" TargetMode="External"/><Relationship Id="rId18" Type="http://schemas.openxmlformats.org/officeDocument/2006/relationships/hyperlink" Target="http://www.youtube.com/watch?v=PZh44M9OTDk" TargetMode="External"/><Relationship Id="rId19" Type="http://schemas.openxmlformats.org/officeDocument/2006/relationships/hyperlink" Target="mailto:barbora.sulikova@cdv.cz" TargetMode="Externa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ří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ý vstup dopravní výchovy do výuky na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aktivní průběh, teoretická i praktická čá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evším BESIP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Teoretická (a interaktivní ) čá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acovní sešity, pracovní listy pro žáky, metodické listy pro pedag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bsahová náplň přizpůsobena věku dítěte, např. 3. ročník – chodec, 4. ročník – cyklista, znalost dopravních značek, druhý stupeň ZŠ i legislativa, ekonomické dopady dopravních nehod apo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edškolní děti – omalovánky, pexeso, pohád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9. roční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1. Pravidla silničního provozu stanov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yhláška ministerstva vnit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kon č. 361/2000 S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ařízení vlády č. 100/1999 S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. K řízení mopedů a malých motocyklů s maximální konstrukční rychlostí 45 km/h. opravňuje řidičské oprávnění skupin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4. Cykl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řidič užitkového vozid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řidič nemotorového vozid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ní řidi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tál Škoda hrou: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kodahrou.cz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892160" y="2205000"/>
            <a:ext cx="5127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ětská dopravní hřiš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 ročník ZŠ – získávaní průkazu Mladý cyk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lostátní soutě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 dopravních hřišť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ní dostatečn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ravou nepřešl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ca 20% žá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besip.cz/cache/img/01/--data--web--images--dopravni-vychova--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riste--prukaz%20cyklisty.fitbox.x500.y1000.r0.q90.nr0.me2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42926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lší subjekty zaujímající se o dopravní výchovu a osvětovou činno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ŠMT (zavedení DV so osnov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V (informační brožury, besedy s dopravním policistou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Z (školení první pomoc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iskové organizace (Červený kříž, BESIP, Pražské matky,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cb.cz/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oravian science centre B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 M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 MELA – Metoda Larp v dopravní výchov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ve Action Role Pla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uLARP – jasně daný příběh, každý hráč má určenou r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První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de si hrá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místa vhodná a nevhodná ke hř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ozlišuje a využívá bezpečná a nebezpečná místa pro h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nevyužívá pro hraní silnici či chodní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Jak si hraje Vendulka a Davíd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Druhý roční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Já - chode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líčové kompetence v dopravní výchově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správně používá pravidla chování na stezkách pro chod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zná a respektuje vztahy mezi účastníky na stezkác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bezpečně přechází silnici bez přechodu, po přechodu i po přechodu se světelnými signá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bájnou krajin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Dopravní výcho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MEtoda LArp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Třetí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do šk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eaguje v roli chodce na ostatní účastníky silničního provoz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bezpečně překonává silni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dodržuje pravidla chůze po chodní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avba bezpečného mě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Čtvrtý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izové situace – ohrož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zná a dokáže využívat zásady správného chování v krizových situací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pozná nebezpečné situace a navrhuje způsoby jejich řeš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uperhrdinové zachraňující svě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Calibri"/>
              </a:rPr>
              <a:t>Pátý roční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Já - chodec a cyklis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využívá zásady správného chování na stezkách pro chodce a při přechodu silnic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zná vztahy mezi účastníky silničního provozu a respektuje j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odhadne dopravní situaci, její nebezpečí a vyvodí správné řešení, snaží se zachovat adekvátně situaci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vnímá dopravní situaci všemi smysly, vyhodnotí ji a vyvodí správné závě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Cesta kolem světa za jediný 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Šestý roční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esta dopravní mi prostředky - pravidla při cestování dopravní mi prostředky (vztahy mezi cestujícími a účastníky hromadné doprav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se chová ohleduplně v prostředcích hromadné dopravy a svým chováním neohrožuje ostatní cestující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uvolní své sedadlo v prostředcích hromadné dopravy seniorům, invalidům, těhotným ženám či matkám s dítět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se chová v prostředcích hromadné dopravy bezpečně a chápe nutnost držet se během jízd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esta vesmírnou lodí ke Slunc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edmý roč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á - cykl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zná a ovládá pravidla bezpečného a ohleduplného chování cyklisty v silničním provozu a uplatňuje je v praktických situací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chápe odpovědnost cyklisty a vztahy mezi účastníky silničního provo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zná možné krizové situace spojené s jízdou na kole a dokáže navrhnout jejich řeš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e službách tajných agen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Osmý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Etika v silničním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ozumí souvislosti celkového chování člověka, sounáležitosti a spolupráce v dopravních situacích pro uchování zdraví a života svojí osoby i druhý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chápe odpovědnost chodce v silničním provoz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bájného Odyss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Devátý roční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Já – chodec, cyklista a řidi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používá své znalosti a dovednosti v prax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analyzuje konkrétní situaci a vyvozuje bezpečné chován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se chová tak, aby v silničním provozu chránil zdraví a život svůj i jiných osob – uvědomuje si dopad svého chování a koriguje jej podle situa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těž o zlatého „deváťáka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nadová, Z. (2012): Odborná zpráva o postupu prací a dosažených výsledků za rok 2012, projekt TAČR, M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nadová, Z. (2013): projekt M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ttp://www.ibesip.cz/cz/dopravni-vych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3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. A. Elstner  - hodinky bezpečnosti v rámci „Výstavy dopravní bezpečnosti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mé kurzy i školní rozh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60. ro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avba dopravní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řišť (dobrovolníci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VAZ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jihlava.idnes.cz/foto.aspx?r=jihlava-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pravy&amp;c=A120417_1765028_jihlava-zpravy_k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jmenší Spelbj a Hurvínek (autor F. Nepil) – cena Unic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481640" y="1754280"/>
            <a:ext cx="4483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70. ro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969 – 1970 -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Zavedení dopravní výchovy do osnov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těž zlatá zebra –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MV a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interaktivní rozhlasové vysíl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10 minut na začátku vyuč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- Vyplňování sešitů se zeb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i="1" lang="cs-CZ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ontonland.cz/?cat_id=SU5842-2&amp;aid=D1D4G7F5S6G7H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odK8hTw45-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2KjAerRde3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9zWRWh7RTi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youtube.com/watch?v=2TcC6BcO-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youtube.com/watch?v=tOtYVYYiF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youtube.com/watch?v=9ww1E7FXe4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youtube.com/watch?v=S2cDml9n-j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youtube.com/watch?v=SQ0VX_2L5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youtube.com/watch?v=PZh44M9OTD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www.youtube.com/watch?v=Mn2KO58_h8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9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uben – měsíc bezpečnosti silničního provoz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tvarní soutěž – Děti, pozor červen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:   http://zsckalovova.rajce.idnes.cz/Vytvarna_soutez_Deti_pozor_cervena_-_2012/#DSC00032.jpg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ámcový vzdělávací plán – téma Dopravní výchovy se zde nenacház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vyučovacího předmětu „Člověk a jeho svě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ŠMT + MD – tvorba metodických podkladů pro znovuzavedenou výuku dopravní výchovy do Ž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10-24T15:31:19Z</dcterms:modified>
  <cp:revision>430</cp:revision>
  <dc:subject/>
  <dc:title>Prezentace aplikace PowerPoint</dc:title>
</cp:coreProperties>
</file>