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65F-BC4E-4A43-BA61-62BEECCB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239-E41C-4097-913A-9C472C43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06C-2EDD-40AB-B2C7-0DD03CC8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6C3-1D2C-4DD0-86D6-34A3366C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E32-ED3B-4BE2-A213-4720ACA4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A27-6619-47EF-A246-A70E9F70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0FB-5739-4330-A838-500EAFE0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7AF-59A2-428C-8AAA-460CF4A3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D67-C0F3-45DD-91CA-5C108749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392-FE80-45AE-8DC6-F13CACDF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4ED-BC9E-403C-9111-D7F7BC06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A5D-8420-418C-B9BE-383D7FB7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2A2D-66AA-40E2-9BCF-064704B734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ora kompetence řešit problé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apování zdroj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ušenosti z překonávání překážek v minu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íle: malé, blízké, reál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ilování kompe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ktivní naslouch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vzbuze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vyjádření zájmu (Jak jste to dokázal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bjasně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ískat inform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rcadle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připojit se, verbálně i neverbál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ceně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povzb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afráz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ověřit, zda jsem porozumě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ekapitulac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shrnout, vyzdvihnout podstat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dersenovy otáz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se stalo, že jste tady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ž už jste tady, jak toho času využijeme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láme to, pro co jste přišel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co jiného potřebujete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áce s emocemi v 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á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ně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neděl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ěch (šíření panik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vyžádané r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neschopnění klie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těš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ané sli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nát vlastní hra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neděl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esvědč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agateliz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odnot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nabízet to, co nemůžu spl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flek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enta/ pacienta/ účastní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be s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ex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hov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ažský výt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. patro: pracovníkovo bezpeč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 patro: klient má vždycky prav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. patro: práce na společném tém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I v teré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bezpečit sebe i pros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lba rol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třebné informace: kdo, kde, co, kdy, kolik lidí, ča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Users\Turosikova\Desktop\fotky\Upravene.jpg"/>
          <p:cNvPicPr/>
          <p:nvPr/>
        </p:nvPicPr>
        <p:blipFill>
          <a:blip r:embed="rId1"/>
          <a:stretch/>
        </p:blipFill>
        <p:spPr>
          <a:xfrm>
            <a:off x="1177920" y="14130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 Katarína Polá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Krizová intervence účastníkům dopravních nehod a jejich blízkým osobá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I v teré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ecifik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storové  a časové zvlášt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rizový intervent přichází za účastníkem (úmysl získat da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možné psychické dekompen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zor nad bezpečností, bezpečnostní doporuč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akt s účastníkem neh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o jsem, proč tam js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hodnocení aktuálního psychického sta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bídka pomoci + co můžu nabídn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vedení základních protišokových opat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bezpeč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kytování inform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akt s účastníkem neh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erbální signály, práce s dotek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votní odmítnutí pomo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utenticita krizového pracovníka – znát vlastní lim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formace, co se bude dít dál – eliminace úzk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ukturace situace, další plány (krátkodobé) oso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smyslné“ požadavky – selekce důležitého od méně podstatné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žitečné konta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astová, V. (2000)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rize a tvořivý přístup k 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Praha: Portál, edice Spektrum. ISBN 80- 7178-365-X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ořán, M. a kol. (2006)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České sdružení obětí dopravních nehod, Přehled systému péče o oběti dopravních nehod v Evropských zemí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www.pohrebiste.cz/stranky/archiv/dokument/45/peceev.pd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odáčková, D. a kol. (2007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). Krizová interven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Praha: Portál. ISBN 978–80–7367–342–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hzscr.cz/clanek/psychologicka-sluzba-materialy-ke-stazeni-a-odkazy.asp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csodn.cz/uv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pit-cr.info/index.php?section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bkb.cz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gaudia.cz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  <a:ea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ovéPole 4"/>
          <p:cNvSpPr/>
          <p:nvPr/>
        </p:nvSpPr>
        <p:spPr>
          <a:xfrm>
            <a:off x="546120" y="2085840"/>
            <a:ext cx="507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+420 </a:t>
            </a: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601 322 1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rizová interv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počátku nebyla definována jako pracovní nápl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ychle se dostala do popředí práce psychologa při dopravních nehod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ie k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ubjektivně ohrožují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lký dynamický náb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avadní regulační mechanismy selhávaj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tenciál zm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Typy kriz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e průběhu: akutní – chronick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e manifestace: latentní – zjevn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říčiny kr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nější  - vnitř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k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vépomocn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ájemnou pomo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anné mechanis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ranné ch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gr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tě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gr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nická reak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real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nebo kontrol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ontro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osoba není vnímána jako dostatečně kompetentní, aby konala s ohledem na vlastní dob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ransparentní, nevyhnutelná, etick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šší zodpovědnost krizového inter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osoba je partne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incipy 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přehlednit a struktur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n ty oblasti, které se týkají krizové situ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ovat klientovy kompetence řešit problé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: stabilizace stavu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straňujeme příčiny, hledáme možnosti zvládnu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první řadě je potřeba snížit úzkost, následně řešit problé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ktické rady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incipy 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ecné principy krizové pomoc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dostup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individuality k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komplexnosti služeb: bio – psycho – sociálně – spirituál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vnitřní bezbariérov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návaz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Turosikova</cp:lastModifiedBy>
  <cp:lastPrinted>2011-09-06T07:59:48Z</cp:lastPrinted>
  <dcterms:modified xsi:type="dcterms:W3CDTF">2013-09-30T14:49:07Z</dcterms:modified>
  <cp:revision>212</cp:revision>
  <dc:subject/>
  <dc:title>Prezentace aplikace PowerPoint</dc:title>
</cp:coreProperties>
</file>