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1AB-F4B2-499B-B699-5E540D27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E65-8CC1-4A61-A8F4-063CC7EA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C39-F127-4952-A9FD-A28F8F49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C27-7F8C-45D2-90FE-841292D1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125-29E4-4135-8326-87D1EEE2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2FF-86BF-454E-9395-7A83D292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51E-7142-49C0-922F-6CF6FF88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CBE-CE5F-4431-BB55-96623575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8A9-3041-4B7F-9EAF-8A472DFD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D8F-9C68-45C0-9901-9AA0DBBD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91B-91F3-428C-8608-047FADAE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3D9-D72A-4AA6-AB9B-8D6D5783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4F40-B58E-4D61-9C10-D56C12B0CD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666800" y="34920"/>
            <a:ext cx="53532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ravně – psychologické vy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mnestický dotazní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hov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onové testy (kognitivní schopnos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ostní dotazníky (osobnostní vlastnos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onové tes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onové tes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mě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akční č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olnost vůči monoto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iferní vid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ourdonova metod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rincip diskriminace tvarů, zjišťování změn pracovního výkonu v č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st koncentrace pozornost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sklon k chybovosti, PM tempo, impulzi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st pozornosti d2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dodržování pravidel, selektivní pozornost, rychlost zpra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amě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Wechslerova škála pamět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sluchová i zraková, krátkodobá i dlouhodobá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izuálně  retenční test Bentonův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izuální pozornost a retence pamě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měťový test uče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erbální paměť, poruchy vybavování, demence, poruchy učení,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lig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loučení MR, dem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avenovy progresivní mat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WAIS – R, WAIS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st struktury inte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akční č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Disjunktivní reakční čas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trénink rychlé orientace, rychlost rozhodování, psychické tempo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Číselný obdélník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selektivita a distribuce pozornosti v podmínkách vyžadujících vysoké tempo činnosti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Determinační test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senzomotorické reakce mnohonásobnými vizuálními a akustickými podněty, i barvocit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dolnost vůči monoto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ourdonov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 Katarína Polá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Dopravně – psychologické vyšetřen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ysové charakteristiky osobnos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minance, potřeba prosazení se, egocentrism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oční stabilita × labilita (neuroticism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ypersenzitivita, úzkost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úroveň sebejistoty, sebepoje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xtroverze × introver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bekontrola, sebedisciplína, poslušnost k pravidlům silničního provoz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vědomit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ízká frustrační tolerance a odolnost vůči stresu, psychická odo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ún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) další koncepty osobnosti ovlivňující 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hování typu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hledávání situačního vzrušení, dobrodružství, sensation-see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tisociální postoje × prosociální postoje, altrui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OC – vnější, vnitřní kontrola se sníženou anticip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trib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) agresivní ten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resiv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r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ně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stil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O – FF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OCE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ochumský osobnostní dotazník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odtitul "inventář profesních charakteristik osobnosti„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tazník interpersonální diagnózy I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ysenck DOPEN, EOD, EPQ, IV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impulziv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6 P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sobnostní inventář K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HAVEZ, SPIDO, SPA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and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reiburský osobnostní dotazní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tazník agr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strojové met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ové funk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riferní viděn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uální orient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kční č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nzomotorická koordin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orn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ligen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ěť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olnost vůči monotoni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olnost vůči stres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strojové met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ysy osobnos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dence riskovat/ připravenost k rizikovému chován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dence vyhledávat vzrušení (sensation seeking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dence agresivního jedná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seni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ezděte brzy ráno, za šera a v no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lejte si přestávky, větrejte, protáhněte 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su vždy pečlivě naplánujte, včetně odpočin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vyrážejte na dlouhé tra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seni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zděte po známé t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zděte raději se spolujezdc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usedejte za volant, pokud se necítíte dob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ďte k sobě kritičtí, nepřeceňujte své sí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nechte se vyprovokovat k riskantní jízdě ostatními řidič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nezralé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zděte opatrně, přiměřenou rychlostí, nespěchejte, nevystavujte se zbytečnému riziku pro pár minut časového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 platí zvláště za zhoršených provozních podmín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ní jízdy absolvujte po méně frekventovaných silnicí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nažte se předvídat, přemýšlet o dopravní situ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usí absolvovat dopravně  -psychologické vyšetření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odovaní řidiči - při žádosti o vrácení řidičského průkazu po 12 měsících od vybod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idiči se zákazem činnosti (říz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 jakémkoliv zákazu řízení motorových vozidel v rámci trestního řízení(minimálně 6 měsíců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idiči "v podmínce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nezralé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ních 6m nejezděte s dalšími pasažé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kromě zkušených řidičů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učte se požádat o ticho na soustřed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počátku nejezděte vpodvečer a v no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předpisy vás mají chránit, dodržujte j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ďte ohleduplní k chodcům a pomalejším řidičům, taky jimi jednou bud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nezralé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ujte bezpečnou vzdále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snažte se o odvetu, pokud jiný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idič udělá chybu, nebo vás našt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jste v dobré kondici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sedejte za vo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ístěte na vozidlo značku „Z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voboda, M. 2010: Psychologická diagnostika dospělých. Praha. Portá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avlík, K.: Psychologické zvláštnosti dopravního charakteru vybodovaných řidič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avlíková, M. Výstupy z dopravně psychologického vyšetření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vintová, J.: psychická způsobilost a dopravně psychologické vyšet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www.12bodu.cz/dopravni_psycholog.p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www.psychodiagnostika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www.psychologie.getacentrum.cz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www.ff.upol.cz/fileadmin/user_upload/FF-katedry/psychologie/Sborniky_a_monografie/seitl/Manul_final_v6_19_1_2011-1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  <a:ea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ovéPole 4"/>
          <p:cNvSpPr/>
          <p:nvPr/>
        </p:nvSpPr>
        <p:spPr>
          <a:xfrm>
            <a:off x="546120" y="2085840"/>
            <a:ext cx="507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+420 </a:t>
            </a: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601 322 1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usí absolvovat dopravně  -psychologické vyšetření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pecifika řidičů účastnících se na dopravně  - psychologickém vyšetření dle Havlíka (201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k 25 – 35 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řidičská praxe 4 – 8 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ůměrný počet bodovaných přestupků za rok:  6 - 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í stejných přestup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minulosti soudně trestaní (20%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blémy v sociálních vztazí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usí absolvovat dopravně – psychologické vy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účely výkonu zaměstnání a získání kvalif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žitelé řidičského oprávnění skupin C1E, C, CE, pokud řídí nákladní nebo speciální automobil o největší povolené hmotnosti nad 7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žitelé řidičského oprávnění skupin D1E, D nebo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čitelé autošk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ispečeř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soby ve vyšším vě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enioři nad 65 let (po lékařské prohlídce, následně 68 a pak každé 2 ro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Kdy musí absolvovat dopravně – psychologické vyšetření - profesionálov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 zahájením čin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 měsíců před dovršením 50 let vě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sledně pravidelně jednou za 5 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yt předloženo při pravidelné lékařské prohlíd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kyny pro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Občanský průka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Výpis z evidenční karty řidič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Naslouchadlo či brýle, pokud je užívá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Na vyšetření byste se měli dostavit včas, odpočatí, přiměřeně vyspalí a v dobrém fyzickém a psychickém rozpolož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ůže provádět dopravně – psychologické vy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Zákon č. 133/2011 Sb. mění zákon č. 361/2000 Sb., o provozu na pozemních komunikacích a o změnách některých zákonů (zákon o silničním provozu), ve znění pozdějších předpisů, a některé další zákon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4) Dopravně psychologické vyšetření provádí psycholog, kterému ministerstvo udělilo akreditaci.“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Platné od 1.8.2012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současné době neexistuje povinnost provádět vyšetření dle schválené metod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ttp://www.ff.upol.cz/fileadmin/user_upload/FF-katedry/psychologie/Sborniky_a_monografie/seitl/Manul_final_v6_19_1_2011-1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Turosikova</cp:lastModifiedBy>
  <cp:lastPrinted>2011-09-06T07:59:48Z</cp:lastPrinted>
  <dcterms:modified xsi:type="dcterms:W3CDTF">2013-10-21T12:39:05Z</dcterms:modified>
  <cp:revision>314</cp:revision>
  <dc:subject/>
  <dc:title>Prezentace aplikace PowerPoint</dc:title>
</cp:coreProperties>
</file>