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DAA-39E4-44C0-9D87-3A9F3367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128-332E-4A47-8120-94F97EC7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824-98E9-4D99-93AF-0FA6701E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DC3-12AD-4033-ADBE-4BCDD351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3E7-0B6C-4E9D-8E11-0AFCE1ED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128-AA68-4558-9E3E-C4D3453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DBD-C0BD-4A2C-AB05-0739ED00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0B7-6B5F-41D5-973D-9A04470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F3F-ADE1-4649-93D3-FE5831C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5E0-0EC5-4A23-ABC9-30AC254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A03-5A1A-4618-8BBB-DEA1948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5C9-FEC3-4BFC-A8A8-D8FD637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8E8D-2E60-4F32-9513-8C75CD36B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B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A</a:t>
            </a: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arkéta Vejmělková, 371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ůvodně se jednalo o starý pavlačový bytový dům v zanedbaném a nevzhledném dvo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estice, rekonstrukce, pronájem bytových jednotek student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revné řešení je neotřelé, originální, přitahuje zrak – „nejlepší reklama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ytový dům „rozzářil“ jinak nevzhledný dvů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člověk se cítí velmi příjemně obklopen zářivými barv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ympatické prostředí pro stud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ísto. kde má člověk chuť být, by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taily (barevně ohraničená okna, lampičk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1220_14170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131220_141740" descr=""/>
          <p:cNvPicPr/>
          <p:nvPr/>
        </p:nvPicPr>
        <p:blipFill>
          <a:blip r:embed="rId2"/>
          <a:stretch/>
        </p:blipFill>
        <p:spPr>
          <a:xfrm flipH="1" rot="10800000">
            <a:off x="411480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31220_14191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31220_14181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1220_14183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4:45:08Z</dcterms:created>
  <dc:creator>Marketa</dc:creator>
  <dc:description/>
  <dc:language>en-US</dc:language>
  <cp:lastModifiedBy>Marketa</cp:lastModifiedBy>
  <dcterms:modified xsi:type="dcterms:W3CDTF">2013-12-20T14:45:20Z</dcterms:modified>
  <cp:revision>1</cp:revision>
  <dc:subject/>
  <dc:title>BARVY</dc:title>
</cp:coreProperties>
</file>