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7E3-C108-4A9E-9F89-504D49FAD6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fancy.com/things/202282676961411395/" TargetMode="External"/><Relationship Id="rId2" Type="http://schemas.openxmlformats.org/officeDocument/2006/relationships/hyperlink" Target="http://fancy.com/things/202282676961411395/" TargetMode="External"/><Relationship Id="rId3" Type="http://schemas.openxmlformats.org/officeDocument/2006/relationships/hyperlink" Target="http://fancy.com/things/202282676961411395/" TargetMode="External"/><Relationship Id="rId4" Type="http://schemas.openxmlformats.org/officeDocument/2006/relationships/hyperlink" Target="http://fancy.com/things/202282676961411395/" TargetMode="External"/><Relationship Id="rId5" Type="http://schemas.openxmlformats.org/officeDocument/2006/relationships/hyperlink" Target="http://fancy.com/things/202282676961411395/" TargetMode="External"/><Relationship Id="rId6" Type="http://schemas.openxmlformats.org/officeDocument/2006/relationships/hyperlink" Target="http://fancy.com/things/202282676961411395/" TargetMode="External"/><Relationship Id="rId7" Type="http://schemas.openxmlformats.org/officeDocument/2006/relationships/hyperlink" Target="http://fancy.com/things/202282676961411395/" TargetMode="External"/><Relationship Id="rId8" Type="http://schemas.openxmlformats.org/officeDocument/2006/relationships/slide" Target="../slides/slide1.xml"/><Relationship Id="rId9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lolalina.com/wp-content/uploads/2011/05/3_1303304207_Acevedo_71.jpg" TargetMode="External"/><Relationship Id="rId2" Type="http://schemas.openxmlformats.org/officeDocument/2006/relationships/hyperlink" Target="http://www.lolalina.com/wp-content/uploads/2011/05/3_1303304207_Acevedo_71.jpg" TargetMode="External"/><Relationship Id="rId3" Type="http://schemas.openxmlformats.org/officeDocument/2006/relationships/hyperlink" Target="http://www.lolalina.com/wp-content/uploads/2011/05/3_1303304207_Acevedo_71.jpg" TargetMode="External"/><Relationship Id="rId4" Type="http://schemas.openxmlformats.org/officeDocument/2006/relationships/hyperlink" Target="http://www.lolalina.com/wp-content/uploads/2011/05/3_1303304207_Acevedo_71.jpg" TargetMode="External"/><Relationship Id="rId5" Type="http://schemas.openxmlformats.org/officeDocument/2006/relationships/hyperlink" Target="http://www.lolalina.com/wp-content/uploads/2011/05/3_1303304207_Acevedo_71.jpg" TargetMode="External"/><Relationship Id="rId6" Type="http://schemas.openxmlformats.org/officeDocument/2006/relationships/hyperlink" Target="http://www.lolalina.com/wp-content/uploads/2011/05/3_1303304207_Acevedo_71.jpg" TargetMode="External"/><Relationship Id="rId7" Type="http://schemas.openxmlformats.org/officeDocument/2006/relationships/hyperlink" Target="http://www.lolalina.com/wp-content/uploads/2011/05/3_1303304207_Acevedo_71.jpg" TargetMode="External"/><Relationship Id="rId8" Type="http://schemas.openxmlformats.org/officeDocument/2006/relationships/hyperlink" Target="http://www.lolalina.com/wp-content/uploads/2011/05/3_1303304207_Acevedo_71.jpg" TargetMode="External"/><Relationship Id="rId9" Type="http://schemas.openxmlformats.org/officeDocument/2006/relationships/hyperlink" Target="http://www.lolalina.com/wp-content/uploads/2011/05/3_1303304207_Acevedo_71.jpg" TargetMode="External"/><Relationship Id="rId10" Type="http://schemas.openxmlformats.org/officeDocument/2006/relationships/hyperlink" Target="http://www.lolalina.com/wp-content/uploads/2011/05/3_1303304207_Acevedo_71.jpg" TargetMode="External"/><Relationship Id="rId11" Type="http://schemas.openxmlformats.org/officeDocument/2006/relationships/hyperlink" Target="http://www.lolalina.com/wp-content/uploads/2011/05/3_1303304207_Acevedo_71.jpg" TargetMode="External"/><Relationship Id="rId12" Type="http://schemas.openxmlformats.org/officeDocument/2006/relationships/hyperlink" Target="http://www.lolalina.com/wp-content/uploads/2011/05/3_1303304207_Acevedo_71.jpg" TargetMode="External"/><Relationship Id="rId13" Type="http://schemas.openxmlformats.org/officeDocument/2006/relationships/hyperlink" Target="http://www.lolalina.com/wp-content/uploads/2011/05/3_1303304207_Acevedo_71.jpg" TargetMode="External"/><Relationship Id="rId14" Type="http://schemas.openxmlformats.org/officeDocument/2006/relationships/hyperlink" Target="http://www.lolalina.com/wp-content/uploads/2011/05/3_1303304207_Acevedo_71.jpg" TargetMode="External"/><Relationship Id="rId15" Type="http://schemas.openxmlformats.org/officeDocument/2006/relationships/slide" Target="../slides/slide11.xml"/><Relationship Id="rId16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coist.com/2012-03-09/modern-cool-fancy-functional-32-attic-bedroom-design-ideas/" TargetMode="External"/><Relationship Id="rId2" Type="http://schemas.openxmlformats.org/officeDocument/2006/relationships/hyperlink" Target="http://www.decoist.com/2012-03-09/modern-cool-fancy-functional-32-attic-bedroom-design-ideas/" TargetMode="External"/><Relationship Id="rId3" Type="http://schemas.openxmlformats.org/officeDocument/2006/relationships/hyperlink" Target="http://www.decoist.com/2012-03-09/modern-cool-fancy-functional-32-attic-bedroom-design-ideas/" TargetMode="External"/><Relationship Id="rId4" Type="http://schemas.openxmlformats.org/officeDocument/2006/relationships/hyperlink" Target="http://www.decoist.com/2012-03-09/modern-cool-fancy-functional-32-attic-bedroom-design-ideas/" TargetMode="External"/><Relationship Id="rId5" Type="http://schemas.openxmlformats.org/officeDocument/2006/relationships/hyperlink" Target="http://www.decoist.com/2012-03-09/modern-cool-fancy-functional-32-attic-bedroom-design-ideas/" TargetMode="External"/><Relationship Id="rId6" Type="http://schemas.openxmlformats.org/officeDocument/2006/relationships/hyperlink" Target="http://www.decoist.com/2012-03-09/modern-cool-fancy-functional-32-attic-bedroom-design-ideas/" TargetMode="External"/><Relationship Id="rId7" Type="http://schemas.openxmlformats.org/officeDocument/2006/relationships/hyperlink" Target="http://www.decoist.com/2012-03-09/modern-cool-fancy-functional-32-attic-bedroom-design-ideas/" TargetMode="External"/><Relationship Id="rId8" Type="http://schemas.openxmlformats.org/officeDocument/2006/relationships/hyperlink" Target="http://www.decoist.com/2012-03-09/modern-cool-fancy-functional-32-attic-bedroom-design-ideas/" TargetMode="External"/><Relationship Id="rId9" Type="http://schemas.openxmlformats.org/officeDocument/2006/relationships/hyperlink" Target="http://www.decoist.com/2012-03-09/modern-cool-fancy-functional-32-attic-bedroom-design-ideas/" TargetMode="External"/><Relationship Id="rId10" Type="http://schemas.openxmlformats.org/officeDocument/2006/relationships/hyperlink" Target="http://www.decoist.com/2012-03-09/modern-cool-fancy-functional-32-attic-bedroom-design-ideas/" TargetMode="External"/><Relationship Id="rId11" Type="http://schemas.openxmlformats.org/officeDocument/2006/relationships/hyperlink" Target="http://www.decoist.com/2012-03-09/modern-cool-fancy-functional-32-attic-bedroom-design-ideas/" TargetMode="External"/><Relationship Id="rId12" Type="http://schemas.openxmlformats.org/officeDocument/2006/relationships/hyperlink" Target="http://www.decoist.com/2012-03-09/modern-cool-fancy-functional-32-attic-bedroom-design-ideas/" TargetMode="External"/><Relationship Id="rId13" Type="http://schemas.openxmlformats.org/officeDocument/2006/relationships/hyperlink" Target="http://www.decoist.com/2012-03-09/modern-cool-fancy-functional-32-attic-bedroom-design-ideas/" TargetMode="External"/><Relationship Id="rId14" Type="http://schemas.openxmlformats.org/officeDocument/2006/relationships/hyperlink" Target="http://www.decoist.com/2012-03-09/modern-cool-fancy-functional-32-attic-bedroom-design-ideas/" TargetMode="External"/><Relationship Id="rId15" Type="http://schemas.openxmlformats.org/officeDocument/2006/relationships/hyperlink" Target="http://www.decoist.com/2012-03-09/modern-cool-fancy-functional-32-attic-bedroom-design-ideas/" TargetMode="External"/><Relationship Id="rId16" Type="http://schemas.openxmlformats.org/officeDocument/2006/relationships/hyperlink" Target="http://www.decoist.com/2012-03-09/modern-cool-fancy-functional-32-attic-bedroom-design-ideas/" TargetMode="External"/><Relationship Id="rId17" Type="http://schemas.openxmlformats.org/officeDocument/2006/relationships/hyperlink" Target="http://www.decoist.com/2012-03-09/modern-cool-fancy-functional-32-attic-bedroom-design-ideas/" TargetMode="External"/><Relationship Id="rId18" Type="http://schemas.openxmlformats.org/officeDocument/2006/relationships/hyperlink" Target="http://www.decoist.com/2012-03-09/modern-cool-fancy-functional-32-attic-bedroom-design-ideas/" TargetMode="External"/><Relationship Id="rId19" Type="http://schemas.openxmlformats.org/officeDocument/2006/relationships/hyperlink" Target="http://www.decoist.com/2012-03-09/modern-cool-fancy-functional-32-attic-bedroom-design-ideas/" TargetMode="External"/><Relationship Id="rId20" Type="http://schemas.openxmlformats.org/officeDocument/2006/relationships/slide" Target="../slides/slide12.xml"/><Relationship Id="rId21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twistedsifter.files.wordpress.com/2013/05/adult-treehouse-camp-wandawega-lake-resort-wisconsin-12.jpg?w=500&amp;h=750" TargetMode="External"/><Relationship Id="rId2" Type="http://schemas.openxmlformats.org/officeDocument/2006/relationships/hyperlink" Target="http://twistedsifter.files.wordpress.com/2013/05/adult-treehouse-camp-wandawega-lake-resort-wisconsin-12.jpg?w=500&amp;h=750" TargetMode="External"/><Relationship Id="rId3" Type="http://schemas.openxmlformats.org/officeDocument/2006/relationships/hyperlink" Target="http://twistedsifter.files.wordpress.com/2013/05/adult-treehouse-camp-wandawega-lake-resort-wisconsin-12.jpg?w=500&amp;h=750" TargetMode="External"/><Relationship Id="rId4" Type="http://schemas.openxmlformats.org/officeDocument/2006/relationships/hyperlink" Target="http://twistedsifter.files.wordpress.com/2013/05/adult-treehouse-camp-wandawega-lake-resort-wisconsin-12.jpg?w=500&amp;h=750" TargetMode="External"/><Relationship Id="rId5" Type="http://schemas.openxmlformats.org/officeDocument/2006/relationships/hyperlink" Target="http://twistedsifter.files.wordpress.com/2013/05/adult-treehouse-camp-wandawega-lake-resort-wisconsin-12.jpg?w=500&amp;h=750" TargetMode="External"/><Relationship Id="rId6" Type="http://schemas.openxmlformats.org/officeDocument/2006/relationships/hyperlink" Target="http://twistedsifter.files.wordpress.com/2013/05/adult-treehouse-camp-wandawega-lake-resort-wisconsin-12.jpg?w=500&amp;h=750" TargetMode="External"/><Relationship Id="rId7" Type="http://schemas.openxmlformats.org/officeDocument/2006/relationships/hyperlink" Target="http://twistedsifter.files.wordpress.com/2013/05/adult-treehouse-camp-wandawega-lake-resort-wisconsin-12.jpg?w=500&amp;h=750" TargetMode="External"/><Relationship Id="rId8" Type="http://schemas.openxmlformats.org/officeDocument/2006/relationships/hyperlink" Target="http://twistedsifter.files.wordpress.com/2013/05/adult-treehouse-camp-wandawega-lake-resort-wisconsin-12.jpg?w=500&amp;h=750" TargetMode="External"/><Relationship Id="rId9" Type="http://schemas.openxmlformats.org/officeDocument/2006/relationships/hyperlink" Target="http://twistedsifter.files.wordpress.com/2013/05/adult-treehouse-camp-wandawega-lake-resort-wisconsin-12.jpg?w=500&amp;h=750" TargetMode="External"/><Relationship Id="rId10" Type="http://schemas.openxmlformats.org/officeDocument/2006/relationships/hyperlink" Target="http://twistedsifter.files.wordpress.com/2013/05/adult-treehouse-camp-wandawega-lake-resort-wisconsin-12.jpg?w=500&amp;h=750" TargetMode="External"/><Relationship Id="rId11" Type="http://schemas.openxmlformats.org/officeDocument/2006/relationships/hyperlink" Target="http://twistedsifter.files.wordpress.com/2013/05/adult-treehouse-camp-wandawega-lake-resort-wisconsin-12.jpg?w=500&amp;h=750" TargetMode="External"/><Relationship Id="rId12" Type="http://schemas.openxmlformats.org/officeDocument/2006/relationships/hyperlink" Target="http://twistedsifter.files.wordpress.com/2013/05/adult-treehouse-camp-wandawega-lake-resort-wisconsin-12.jpg?w=500&amp;h=750" TargetMode="External"/><Relationship Id="rId13" Type="http://schemas.openxmlformats.org/officeDocument/2006/relationships/hyperlink" Target="http://twistedsifter.files.wordpress.com/2013/05/adult-treehouse-camp-wandawega-lake-resort-wisconsin-12.jpg?w=500&amp;h=750" TargetMode="External"/><Relationship Id="rId14" Type="http://schemas.openxmlformats.org/officeDocument/2006/relationships/hyperlink" Target="http://twistedsifter.files.wordpress.com/2013/05/adult-treehouse-camp-wandawega-lake-resort-wisconsin-12.jpg?w=500&amp;h=750" TargetMode="External"/><Relationship Id="rId15" Type="http://schemas.openxmlformats.org/officeDocument/2006/relationships/hyperlink" Target="http://twistedsifter.files.wordpress.com/2013/05/adult-treehouse-camp-wandawega-lake-resort-wisconsin-12.jpg?w=500&amp;h=750" TargetMode="External"/><Relationship Id="rId16" Type="http://schemas.openxmlformats.org/officeDocument/2006/relationships/hyperlink" Target="http://twistedsifter.files.wordpress.com/2013/05/adult-treehouse-camp-wandawega-lake-resort-wisconsin-12.jpg?w=500&amp;h=750" TargetMode="External"/><Relationship Id="rId17" Type="http://schemas.openxmlformats.org/officeDocument/2006/relationships/hyperlink" Target="http://twistedsifter.files.wordpress.com/2013/05/adult-treehouse-camp-wandawega-lake-resort-wisconsin-12.jpg?w=500&amp;h=750" TargetMode="External"/><Relationship Id="rId18" Type="http://schemas.openxmlformats.org/officeDocument/2006/relationships/hyperlink" Target="http://twistedsifter.files.wordpress.com/2013/05/adult-treehouse-camp-wandawega-lake-resort-wisconsin-12.jpg?w=500&amp;h=750" TargetMode="External"/><Relationship Id="rId19" Type="http://schemas.openxmlformats.org/officeDocument/2006/relationships/hyperlink" Target="http://twistedsifter.files.wordpress.com/2013/05/adult-treehouse-camp-wandawega-lake-resort-wisconsin-12.jpg?w=500&amp;h=750" TargetMode="External"/><Relationship Id="rId20" Type="http://schemas.openxmlformats.org/officeDocument/2006/relationships/hyperlink" Target="http://twistedsifter.files.wordpress.com/2013/05/adult-treehouse-camp-wandawega-lake-resort-wisconsin-12.jpg?w=500&amp;h=750" TargetMode="External"/><Relationship Id="rId21" Type="http://schemas.openxmlformats.org/officeDocument/2006/relationships/hyperlink" Target="http://twistedsifter.files.wordpress.com/2013/05/adult-treehouse-camp-wandawega-lake-resort-wisconsin-12.jpg?w=500&amp;h=750" TargetMode="External"/><Relationship Id="rId22" Type="http://schemas.openxmlformats.org/officeDocument/2006/relationships/slide" Target="../slides/slide3.xml"/><Relationship Id="rId2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mojdom.zoznam.sk/gl/182328/1228418/Svojpomocne-postaveny-dom-na-strome-laka-dovolenkarov#infopanel" TargetMode="External"/><Relationship Id="rId2" Type="http://schemas.openxmlformats.org/officeDocument/2006/relationships/hyperlink" Target="http://mojdom.zoznam.sk/gl/182328/1228418/Svojpomocne-postaveny-dom-na-strome-laka-dovolenkarov#infopanel" TargetMode="External"/><Relationship Id="rId3" Type="http://schemas.openxmlformats.org/officeDocument/2006/relationships/hyperlink" Target="http://mojdom.zoznam.sk/gl/182328/1228418/Svojpomocne-postaveny-dom-na-strome-laka-dovolenkarov#infopanel" TargetMode="External"/><Relationship Id="rId4" Type="http://schemas.openxmlformats.org/officeDocument/2006/relationships/hyperlink" Target="http://mojdom.zoznam.sk/gl/182328/1228418/Svojpomocne-postaveny-dom-na-strome-laka-dovolenkarov#infopanel" TargetMode="External"/><Relationship Id="rId5" Type="http://schemas.openxmlformats.org/officeDocument/2006/relationships/hyperlink" Target="http://mojdom.zoznam.sk/gl/182328/1228418/Svojpomocne-postaveny-dom-na-strome-laka-dovolenkarov#infopanel" TargetMode="External"/><Relationship Id="rId6" Type="http://schemas.openxmlformats.org/officeDocument/2006/relationships/hyperlink" Target="http://mojdom.zoznam.sk/gl/182328/1228418/Svojpomocne-postaveny-dom-na-strome-laka-dovolenkarov#infopanel" TargetMode="External"/><Relationship Id="rId7" Type="http://schemas.openxmlformats.org/officeDocument/2006/relationships/hyperlink" Target="http://mojdom.zoznam.sk/gl/182328/1228418/Svojpomocne-postaveny-dom-na-strome-laka-dovolenkarov#infopanel" TargetMode="External"/><Relationship Id="rId8" Type="http://schemas.openxmlformats.org/officeDocument/2006/relationships/hyperlink" Target="http://mojdom.zoznam.sk/gl/182328/1228418/Svojpomocne-postaveny-dom-na-strome-laka-dovolenkarov#infopanel" TargetMode="External"/><Relationship Id="rId9" Type="http://schemas.openxmlformats.org/officeDocument/2006/relationships/hyperlink" Target="http://mojdom.zoznam.sk/gl/182328/1228418/Svojpomocne-postaveny-dom-na-strome-laka-dovolenkarov#infopanel" TargetMode="External"/><Relationship Id="rId10" Type="http://schemas.openxmlformats.org/officeDocument/2006/relationships/hyperlink" Target="http://mojdom.zoznam.sk/gl/182328/1228418/Svojpomocne-postaveny-dom-na-strome-laka-dovolenkarov#infopanel" TargetMode="External"/><Relationship Id="rId11" Type="http://schemas.openxmlformats.org/officeDocument/2006/relationships/hyperlink" Target="http://mojdom.zoznam.sk/gl/182328/1228418/Svojpomocne-postaveny-dom-na-strome-laka-dovolenkarov#infopanel" TargetMode="External"/><Relationship Id="rId12" Type="http://schemas.openxmlformats.org/officeDocument/2006/relationships/hyperlink" Target="http://mojdom.zoznam.sk/gl/182328/1228418/Svojpomocne-postaveny-dom-na-strome-laka-dovolenkarov#infopanel" TargetMode="External"/><Relationship Id="rId13" Type="http://schemas.openxmlformats.org/officeDocument/2006/relationships/hyperlink" Target="http://mojdom.zoznam.sk/gl/182328/1228418/Svojpomocne-postaveny-dom-na-strome-laka-dovolenkarov#infopanel" TargetMode="External"/><Relationship Id="rId14" Type="http://schemas.openxmlformats.org/officeDocument/2006/relationships/hyperlink" Target="http://mojdom.zoznam.sk/gl/182328/1228418/Svojpomocne-postaveny-dom-na-strome-laka-dovolenkarov#infopanel" TargetMode="External"/><Relationship Id="rId15" Type="http://schemas.openxmlformats.org/officeDocument/2006/relationships/hyperlink" Target="http://mojdom.zoznam.sk/gl/182328/1228418/Svojpomocne-postaveny-dom-na-strome-laka-dovolenkarov#infopanel" TargetMode="External"/><Relationship Id="rId16" Type="http://schemas.openxmlformats.org/officeDocument/2006/relationships/hyperlink" Target="http://mojdom.zoznam.sk/gl/182328/1228418/Svojpomocne-postaveny-dom-na-strome-laka-dovolenkarov#infopanel" TargetMode="External"/><Relationship Id="rId17" Type="http://schemas.openxmlformats.org/officeDocument/2006/relationships/hyperlink" Target="http://mojdom.zoznam.sk/gl/182328/1228418/Svojpomocne-postaveny-dom-na-strome-laka-dovolenkarov#infopanel" TargetMode="External"/><Relationship Id="rId18" Type="http://schemas.openxmlformats.org/officeDocument/2006/relationships/hyperlink" Target="http://mojdom.zoznam.sk/gl/182328/1228418/Svojpomocne-postaveny-dom-na-strome-laka-dovolenkarov#infopanel" TargetMode="External"/><Relationship Id="rId19" Type="http://schemas.openxmlformats.org/officeDocument/2006/relationships/slide" Target="../slides/slide4.xml"/><Relationship Id="rId20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s://www.loyalloot.com/shop/log-bowls" TargetMode="External"/><Relationship Id="rId2" Type="http://schemas.openxmlformats.org/officeDocument/2006/relationships/hyperlink" Target="https://www.loyalloot.com/shop/log-bowls" TargetMode="External"/><Relationship Id="rId3" Type="http://schemas.openxmlformats.org/officeDocument/2006/relationships/hyperlink" Target="https://www.loyalloot.com/shop/log-bowls" TargetMode="External"/><Relationship Id="rId4" Type="http://schemas.openxmlformats.org/officeDocument/2006/relationships/hyperlink" Target="https://www.loyalloot.com/shop/log-bowls" TargetMode="External"/><Relationship Id="rId5" Type="http://schemas.openxmlformats.org/officeDocument/2006/relationships/hyperlink" Target="https://www.loyalloot.com/shop/log-bowls" TargetMode="External"/><Relationship Id="rId6" Type="http://schemas.openxmlformats.org/officeDocument/2006/relationships/hyperlink" Target="https://www.loyalloot.com/shop/log-bowls" TargetMode="External"/><Relationship Id="rId7" Type="http://schemas.openxmlformats.org/officeDocument/2006/relationships/hyperlink" Target="https://www.loyalloot.com/shop/log-bowls" TargetMode="External"/><Relationship Id="rId8" Type="http://schemas.openxmlformats.org/officeDocument/2006/relationships/hyperlink" Target="https://www.loyalloot.com/shop/log-bowls" TargetMode="External"/><Relationship Id="rId9" Type="http://schemas.openxmlformats.org/officeDocument/2006/relationships/hyperlink" Target="https://www.loyalloot.com/shop/log-bowls" TargetMode="External"/><Relationship Id="rId10" Type="http://schemas.openxmlformats.org/officeDocument/2006/relationships/hyperlink" Target="http://www.pinterest.com/pin/4362930860371547/" TargetMode="External"/><Relationship Id="rId11" Type="http://schemas.openxmlformats.org/officeDocument/2006/relationships/hyperlink" Target="http://www.pinterest.com/pin/4362930860371547/" TargetMode="External"/><Relationship Id="rId12" Type="http://schemas.openxmlformats.org/officeDocument/2006/relationships/hyperlink" Target="http://www.pinterest.com/pin/4362930860371547/" TargetMode="External"/><Relationship Id="rId13" Type="http://schemas.openxmlformats.org/officeDocument/2006/relationships/hyperlink" Target="http://www.pinterest.com/pin/4362930860371547/" TargetMode="External"/><Relationship Id="rId14" Type="http://schemas.openxmlformats.org/officeDocument/2006/relationships/hyperlink" Target="http://www.pinterest.com/pin/4362930860371547/" TargetMode="External"/><Relationship Id="rId15" Type="http://schemas.openxmlformats.org/officeDocument/2006/relationships/hyperlink" Target="http://www.pinterest.com/pin/4362930860371547/" TargetMode="External"/><Relationship Id="rId16" Type="http://schemas.openxmlformats.org/officeDocument/2006/relationships/hyperlink" Target="http://www.pinterest.com/pin/4362930860371547/" TargetMode="External"/><Relationship Id="rId17" Type="http://schemas.openxmlformats.org/officeDocument/2006/relationships/slide" Target="../slides/slide5.xml"/><Relationship Id="rId18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ohua88.com/build-the-perfect-home-by-installing-kitchen-island/beautiful-kitchen-island/" TargetMode="External"/><Relationship Id="rId2" Type="http://schemas.openxmlformats.org/officeDocument/2006/relationships/hyperlink" Target="http://ohua88.com/build-the-perfect-home-by-installing-kitchen-island/beautiful-kitchen-island/" TargetMode="External"/><Relationship Id="rId3" Type="http://schemas.openxmlformats.org/officeDocument/2006/relationships/hyperlink" Target="http://ohua88.com/build-the-perfect-home-by-installing-kitchen-island/beautiful-kitchen-island/" TargetMode="External"/><Relationship Id="rId4" Type="http://schemas.openxmlformats.org/officeDocument/2006/relationships/hyperlink" Target="http://ohua88.com/build-the-perfect-home-by-installing-kitchen-island/beautiful-kitchen-island/" TargetMode="External"/><Relationship Id="rId5" Type="http://schemas.openxmlformats.org/officeDocument/2006/relationships/hyperlink" Target="http://ohua88.com/build-the-perfect-home-by-installing-kitchen-island/beautiful-kitchen-island/" TargetMode="External"/><Relationship Id="rId6" Type="http://schemas.openxmlformats.org/officeDocument/2006/relationships/hyperlink" Target="http://ohua88.com/build-the-perfect-home-by-installing-kitchen-island/beautiful-kitchen-island/" TargetMode="External"/><Relationship Id="rId7" Type="http://schemas.openxmlformats.org/officeDocument/2006/relationships/hyperlink" Target="http://ohua88.com/build-the-perfect-home-by-installing-kitchen-island/beautiful-kitchen-island/" TargetMode="External"/><Relationship Id="rId8" Type="http://schemas.openxmlformats.org/officeDocument/2006/relationships/hyperlink" Target="http://ohua88.com/build-the-perfect-home-by-installing-kitchen-island/beautiful-kitchen-island/" TargetMode="External"/><Relationship Id="rId9" Type="http://schemas.openxmlformats.org/officeDocument/2006/relationships/hyperlink" Target="http://ohua88.com/build-the-perfect-home-by-installing-kitchen-island/beautiful-kitchen-island/" TargetMode="External"/><Relationship Id="rId10" Type="http://schemas.openxmlformats.org/officeDocument/2006/relationships/hyperlink" Target="http://ohua88.com/build-the-perfect-home-by-installing-kitchen-island/beautiful-kitchen-island/" TargetMode="External"/><Relationship Id="rId11" Type="http://schemas.openxmlformats.org/officeDocument/2006/relationships/hyperlink" Target="http://ohua88.com/build-the-perfect-home-by-installing-kitchen-island/beautiful-kitchen-island/" TargetMode="External"/><Relationship Id="rId12" Type="http://schemas.openxmlformats.org/officeDocument/2006/relationships/hyperlink" Target="http://ohua88.com/build-the-perfect-home-by-installing-kitchen-island/beautiful-kitchen-island/" TargetMode="External"/><Relationship Id="rId13" Type="http://schemas.openxmlformats.org/officeDocument/2006/relationships/hyperlink" Target="http://ohua88.com/build-the-perfect-home-by-installing-kitchen-island/beautiful-kitchen-island/" TargetMode="External"/><Relationship Id="rId14" Type="http://schemas.openxmlformats.org/officeDocument/2006/relationships/hyperlink" Target="http://ohua88.com/build-the-perfect-home-by-installing-kitchen-island/beautiful-kitchen-island/" TargetMode="External"/><Relationship Id="rId15" Type="http://schemas.openxmlformats.org/officeDocument/2006/relationships/hyperlink" Target="http://ohua88.com/build-the-perfect-home-by-installing-kitchen-island/beautiful-kitchen-island/" TargetMode="External"/><Relationship Id="rId16" Type="http://schemas.openxmlformats.org/officeDocument/2006/relationships/hyperlink" Target="http://ohua88.com/build-the-perfect-home-by-installing-kitchen-island/beautiful-kitchen-island/" TargetMode="External"/><Relationship Id="rId17" Type="http://schemas.openxmlformats.org/officeDocument/2006/relationships/hyperlink" Target="http://ohua88.com/build-the-perfect-home-by-installing-kitchen-island/beautiful-kitchen-island/" TargetMode="External"/><Relationship Id="rId18" Type="http://schemas.openxmlformats.org/officeDocument/2006/relationships/hyperlink" Target="http://ohua88.com/build-the-perfect-home-by-installing-kitchen-island/beautiful-kitchen-island/" TargetMode="External"/><Relationship Id="rId19" Type="http://schemas.openxmlformats.org/officeDocument/2006/relationships/hyperlink" Target="http://ohua88.com/build-the-perfect-home-by-installing-kitchen-island/beautiful-kitchen-island/" TargetMode="External"/><Relationship Id="rId20" Type="http://schemas.openxmlformats.org/officeDocument/2006/relationships/slide" Target="../slides/slide7.xml"/><Relationship Id="rId21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ing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202282676961411395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indulgy.com/post/ZNwUpCsG71/bright-white-walls-and-warm-wood-floors-he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olalin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nten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upload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2011/05/3_1303304207_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cevedo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_71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jp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coi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2012-03-09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oder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o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unctiona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32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attic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dro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design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dea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3.bp.blogspot.com/-hQspkZOwyiM/TjLE8-rL3rI/AAAAAAAAB64/KeyyprOvXkc/s1600/905img96l.1300796816.jp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http://www.templeilluminatus.com/photo/tree-house-1?context=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stedsifter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le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ordpres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2013/05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dul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treehous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camp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andaweg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lak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resort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iscons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12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jp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?w=500&amp;h=75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j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ozna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k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g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182328/1228418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Svojpomocn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postaven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na-strome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lak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dovolenkarov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#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nfopan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e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oyalloo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ho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log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owl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intere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/4362930860371547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fancy.com/things/202282676961411395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hua88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uild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erfec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om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b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installin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island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autifu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island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www.houzz.com/photos/1547993/Southampton-Conservatory-traditional-porch-new-y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mojdom.zoznam.sk/gl/182328/1228418/Svojpomocne-postaveny-dom-na-strome-laka-dovolenkarov#infopa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26A-2E70-45C3-A9F5-32A44DB6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6EC-8F8F-4349-9AE6-57E9CC4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B57-6B47-438F-A220-BEF353A5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3B9-9413-4B76-943B-D8F48A35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4C8-5170-4C2F-83B3-8622B6D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B81-EABD-4CD2-984C-5DCA5CD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97A-813F-419C-8E2D-AC2723C6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88F-6604-44D6-8CE1-FE0311B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D18-3F58-4D7A-9EBF-C80073A6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7DF-5CB3-4605-A584-36B7E5D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02F-F409-431E-8770-AD88568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493-05A7-4603-A508-D36C3AE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4EE-CF3F-4DF0-83EA-7361D93A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885_446661888751936_1456403330_n" descr="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220000">
            <a:off x="686160" y="1294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cript"/>
              </a:rPr>
              <a:t>Ideální byd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2ca28347e24cfcf1600cbe0fb3267db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3743a30494f82e3cd359e8719b08ca4" descr=""/>
          <p:cNvPicPr/>
          <p:nvPr/>
        </p:nvPicPr>
        <p:blipFill>
          <a:blip r:embed="rId1"/>
          <a:stretch/>
        </p:blipFill>
        <p:spPr>
          <a:xfrm>
            <a:off x="22096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ttic-bedroom-wood" descr=""/>
          <p:cNvPicPr/>
          <p:nvPr/>
        </p:nvPicPr>
        <p:blipFill>
          <a:blip r:embed="rId1"/>
          <a:stretch/>
        </p:blipFill>
        <p:spPr>
          <a:xfrm>
            <a:off x="1857240" y="154080"/>
            <a:ext cx="54295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43801_494538563964268_1388789972_n" descr=""/>
          <p:cNvPicPr/>
          <p:nvPr/>
        </p:nvPicPr>
        <p:blipFill>
          <a:blip r:embed="rId1"/>
          <a:stretch/>
        </p:blipFill>
        <p:spPr>
          <a:xfrm>
            <a:off x="914400" y="84240"/>
            <a:ext cx="75438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7f499480197ba7bd79078e86b9c4f63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7248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32448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0992212582e6079aedc5e9775cd2b4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7772_370714259680033_1554011017_n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45788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942393_488699787881479_863948955_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267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0885_446661888751936_1456403330_n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autiful-kitchen-island-915x707" descr=""/>
          <p:cNvPicPr/>
          <p:nvPr/>
        </p:nvPicPr>
        <p:blipFill>
          <a:blip r:embed="rId1"/>
          <a:stretch/>
        </p:blipFill>
        <p:spPr>
          <a:xfrm>
            <a:off x="214200" y="61920"/>
            <a:ext cx="8715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c7cb5e67151ffd6bbe86aa46624f0fb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6:35:37Z</dcterms:created>
  <dc:creator>Marketa</dc:creator>
  <dc:description/>
  <dc:language>en-US</dc:language>
  <cp:lastModifiedBy>Marketa</cp:lastModifiedBy>
  <dcterms:modified xsi:type="dcterms:W3CDTF">2013-11-03T21:58:46Z</dcterms:modified>
  <cp:revision>6</cp:revision>
  <dc:subject/>
  <dc:title>Prezentace aplikace PowerPoint</dc:title>
</cp:coreProperties>
</file>