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787-E887-4FEE-A3F4-E8AEF749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6C8-A7B4-4BCF-9014-B80F56DB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ED4-E89E-4750-B6F2-63CEA946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6EE-E499-4728-96CE-97DE9FE2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0916-DCDA-441F-9F4F-E884A066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BD7F-C72C-4E34-B182-3101AD34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6BD0-23A9-47FA-ACC6-2B09C4BC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A6C9-9661-4E23-B676-B2A93CAA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5D9C-AFC3-4E4E-AE13-BFE98141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1E68-166A-4555-84DC-663C824A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ACE0-3A25-42BE-BD70-7BED4769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E64-6F7C-4A7C-9AFB-366DAC91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C8A8-D0CC-4935-8965-5E51694F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A394-4B46-4C1B-A86A-F442FE77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AC41-7188-4F56-AA4F-E9A83038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FD62-F56D-4F81-9F8B-D73F1A10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C022-2420-4402-81D6-A6177D64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CF3-CACF-4D7B-9D9A-1F8E00D6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21D-8BB5-4EB7-ABE5-372B1EE6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CB5-2BA8-41F0-AA71-EB0EEE48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B12-648D-4E00-A881-03B7D4FD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436-5F5F-409A-B98B-D7A61884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5F3-B81E-42AF-A4A2-98848AC9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1BC-F1C2-4A4F-81A6-E48ED6C2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29DA-6424-4877-B3D1-0FB8250058D8}" type="slidenum">
              <a:rPr b="0" lang="cs-CZ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14A7-591A-41C6-9FAA-B148A4518C00}" type="slidenum">
              <a:rPr b="0" lang="cs-CZ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ilemwalter.cz/dsa/jundrov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519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-12952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dddddd"/>
                </a:solidFill>
                <a:latin typeface="Leelawadee"/>
                <a:ea typeface="SimSun"/>
              </a:rPr>
              <a:t>JUNDROV</a:t>
            </a:r>
            <a:r>
              <a:rPr b="1" lang="cs-CZ" sz="4000" spc="-1" strike="noStrike">
                <a:solidFill>
                  <a:srgbClr val="009999"/>
                </a:solidFill>
                <a:latin typeface="Dotum"/>
                <a:ea typeface="SimSun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0" y="3546360"/>
            <a:ext cx="4495680" cy="3311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3181320" y="0"/>
            <a:ext cx="59626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413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http://www.portalymest.cz/obrazky/bytovy-projekt--novy-jundrov-2.jpg"/>
          <p:cNvPicPr/>
          <p:nvPr/>
        </p:nvPicPr>
        <p:blipFill>
          <a:blip r:embed="rId2"/>
          <a:stretch/>
        </p:blipFill>
        <p:spPr>
          <a:xfrm>
            <a:off x="3772080" y="3371760"/>
            <a:ext cx="53719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konec 19.stol – révokaz a perenospora zničily vinice =&gt; vykopány a spále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848 – zrušeno poddanství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zavedena občanská rovnoprávno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ro selský stav – z vděčnosti při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vchodu do dědiny u statku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č.1 kamenný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268596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7" name="Picture 4" descr="mšička révokaz - hálky na spodní straně listu (foto Jaroslav Rod)"/>
          <p:cNvPicPr/>
          <p:nvPr/>
        </p:nvPicPr>
        <p:blipFill>
          <a:blip r:embed="rId1"/>
          <a:stretch/>
        </p:blipFill>
        <p:spPr>
          <a:xfrm>
            <a:off x="0" y="0"/>
            <a:ext cx="2933640" cy="22003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7"/>
          <p:cNvSpPr/>
          <p:nvPr/>
        </p:nvSpPr>
        <p:spPr>
          <a:xfrm>
            <a:off x="34290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9" name="Picture 6" descr="http://vilemwalter.cz/dsa/jun/velke/1a.jpg"/>
          <p:cNvPicPr/>
          <p:nvPr/>
        </p:nvPicPr>
        <p:blipFill>
          <a:blip r:embed="rId2"/>
          <a:stretch/>
        </p:blipFill>
        <p:spPr>
          <a:xfrm>
            <a:off x="6305400" y="3352680"/>
            <a:ext cx="24861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řezová, Dubová, Jasanová, Jedlová, Kopretinová, Modřínová, Olšová, Osiková, Rozmarýnová, Smrčková, Sosnová, Stromovka, Šeříková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304920"/>
            <a:ext cx="9220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211464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4" name="Picture 6" descr="File:Brno, Jundrov, počátek Jundrova u svratk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8"/>
          <p:cNvSpPr/>
          <p:nvPr/>
        </p:nvSpPr>
        <p:spPr>
          <a:xfrm>
            <a:off x="228600" y="548640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000000"/>
                </a:solidFill>
                <a:latin typeface="AR CARTER"/>
              </a:rPr>
              <a:t>Díky za pozornost :)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FOTKY – ZDROJE: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mapy.cz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s://maps.google.cz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brno.majestat.cz/menu/mestske-casti/jundrov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fotohistorie.cz/Jihomoravsky/Brno-mesto/Jundrov/Default.aspx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cs.wikipedia.org/wiki/Soubor:Brno,_%C5%BDabov%C5%99esky,_Vesla%C5%99sk%C3%A1,_kaple_P%C3%A1na_Je%C5%BE%C3%AD%C5%A1e_v_Getsemanech_(01).jp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commons.wikimedia.org/wiki/File:Brno,_Jundrov_-_radnice.JP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ibrno.cz/brno/59420-predstavujeme-mestske-casti-jundrov.htm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jundrov.info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kalendarakci.atlasceska.cz/slovacke-hody-brno-jundrov-48723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fotohistorie.cz/Jihomoravsky/Brno-mesto/Jundrov/Default.aspx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portalbrno.cz/developerske-projekty/?stranka=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agromanual.cz/cz/atlas/skudci/skudce/msicka-revokaz.htm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vilemwalter.cz/dsa/jundrov.ht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277 – Sulostov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300 – v listině Václava II. zmínka o obci Judendorf („Židovská ves“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oč. 17. stol – ve starých listinách česky psaný Jundrov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ajitelé: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4.stol – řád augustiniánek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6.stol – řád jezuitů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919 – připojen k Brn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990 – městská část Brn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4527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876920" y="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7146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9" name="Picture 4" descr="Soubor:Brno náves v Jundrově konec 19 stol.gif"/>
          <p:cNvPicPr/>
          <p:nvPr/>
        </p:nvPicPr>
        <p:blipFill>
          <a:blip r:embed="rId1"/>
          <a:stretch/>
        </p:blipFill>
        <p:spPr>
          <a:xfrm>
            <a:off x="762120" y="609480"/>
            <a:ext cx="815328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2" name="Picture 5" descr="Soubor:Brno, Žabovřesky, Veslařská, kaple Pána Ježíše v Getsemanech (01).jpg"/>
          <p:cNvPicPr/>
          <p:nvPr/>
        </p:nvPicPr>
        <p:blipFill>
          <a:blip r:embed="rId1"/>
          <a:stretch/>
        </p:blipFill>
        <p:spPr>
          <a:xfrm>
            <a:off x="914400" y="68580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415 ha, 4 132 obyv. </a:t>
            </a: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(2011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autobus 67, 44, 4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ísto setkávání – Optátov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pošta, obchod, knihovna, lékárna, řeznictv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školy: MŠ Dubová, ZŠ Jasanová, soukromá MŠ a ZŠ Rozmarýnová a soukromá VŠ S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Kulturní centrum (kino Svratk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5" name="Picture 5" descr="File:Brno, Jundrov - radnice.JPG"/>
          <p:cNvPicPr/>
          <p:nvPr/>
        </p:nvPicPr>
        <p:blipFill>
          <a:blip r:embed="rId1"/>
          <a:stretch/>
        </p:blipFill>
        <p:spPr>
          <a:xfrm>
            <a:off x="5410080" y="228600"/>
            <a:ext cx="335304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3429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eslaři od 1869 – veslařský klub Bruna, Český veslařský klu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Times New Roman"/>
              </a:rPr>
              <a:t>Podle loděnic veslařského klubu na břehu řeky Svratky – ulice Veslařská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okol, Or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rtovní klub - fotbal, cyklistika, ten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bor dobrovolných hasič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8" name="Picture 5" descr="http://www.ibrno.cz/images/stories/clanky/2013/09/MC_Jundrov02.jpg"/>
          <p:cNvPicPr/>
          <p:nvPr/>
        </p:nvPicPr>
        <p:blipFill>
          <a:blip r:embed="rId1"/>
          <a:stretch/>
        </p:blipFill>
        <p:spPr>
          <a:xfrm>
            <a:off x="838080" y="304920"/>
            <a:ext cx="403884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77240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94336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5" name="Picture 4" descr="http://www.images.atlasceska.cz/images/kalendarakci/velka/48723/v117385_slovackehody.jpg"/>
          <p:cNvPicPr/>
          <p:nvPr/>
        </p:nvPicPr>
        <p:blipFill>
          <a:blip r:embed="rId1"/>
          <a:stretch/>
        </p:blipFill>
        <p:spPr>
          <a:xfrm>
            <a:off x="2514600" y="304920"/>
            <a:ext cx="4459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38862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4. – 17. stol – 24 stat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900 – 167 dom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70. léta 20. stol intenzivní sídlištní výstavb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ovostavb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85768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9" name="Picture 4" descr="http://www.fotohistorie.cz/image.jpg.ashx?photoID=2188&amp;photoType=0"/>
          <p:cNvPicPr/>
          <p:nvPr/>
        </p:nvPicPr>
        <p:blipFill>
          <a:blip r:embed="rId1"/>
          <a:stretch/>
        </p:blipFill>
        <p:spPr>
          <a:xfrm>
            <a:off x="1828800" y="304920"/>
            <a:ext cx="56386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19:58:38Z</dcterms:created>
  <dc:creator>Marketa</dc:creator>
  <dc:description/>
  <dc:language>en-US</dc:language>
  <cp:lastModifiedBy>Markéta Vejmělková</cp:lastModifiedBy>
  <dcterms:modified xsi:type="dcterms:W3CDTF">2013-12-02T09:45:01Z</dcterms:modified>
  <cp:revision>12</cp:revision>
  <dc:subject/>
  <dc:title>JUNDROV</dc:title>
</cp:coreProperties>
</file>