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284-0020-4850-B281-ECA2BF7B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660-A7A2-45BE-B8A2-74E30C7A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DAD-146F-4390-BBBB-353444A6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8F8-3C35-4F7B-A044-86A79CD3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FB2-AA57-4364-B966-20C28A6F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1E7-0ED8-4CF2-890D-367D41F6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2FD-8C82-4690-9426-2E0F531A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3CE-78ED-406F-A43A-CA748DF4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5D3-329A-406A-A7E8-2FF698F8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5FD-2869-4319-BA8A-4E7605F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6DC-3E18-49A5-A740-CC15123D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2E9-B9D4-4008-9DBA-CBC97D41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D7B5-E117-467D-B07A-5166C54F8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ff"/>
                </a:solidFill>
                <a:latin typeface="Times New Roman"/>
              </a:rPr>
              <a:t>B</a:t>
            </a:r>
            <a:r>
              <a:rPr b="1" lang="en-US" sz="6600" spc="-1" strike="noStrike">
                <a:solidFill>
                  <a:srgbClr val="65f602"/>
                </a:solidFill>
                <a:latin typeface="Times New Roman"/>
              </a:rPr>
              <a:t>A</a:t>
            </a:r>
            <a:r>
              <a:rPr b="1" lang="en-US" sz="66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n-US" sz="6600" spc="-1" strike="noStrike">
                <a:solidFill>
                  <a:srgbClr val="65f602"/>
                </a:solidFill>
                <a:latin typeface="Times New Roman"/>
              </a:rPr>
              <a:t>V</a:t>
            </a:r>
            <a:r>
              <a:rPr b="1" lang="en-US" sz="6600" spc="-1" strike="noStrike">
                <a:solidFill>
                  <a:srgbClr val="cc00ff"/>
                </a:solidFill>
                <a:latin typeface="Times New Roman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Markéta Vejmělková, 37127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Times New Roman"/>
              </a:rPr>
              <a:t>Koleje OLTEC (Václavská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ůvodně se jednalo o starý pavlačový bytový dům v zanedbaném a nevzhledném dvo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investice, rekonstrukce, pronájem bytových jednotek student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arevné řešení je neotřelé, originální, přitahuje zrak – „nejlepší reklama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Times New Roman"/>
              </a:rPr>
              <a:t>Koleje OLTEC (Václavská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ytový dům „rozzářil“ jinak nevzhledný dvů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člověk se cítí velmi příjemně obklopen zářivými barva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ympatické prostředí pro stude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ísto. kde má člověk chuť být, bydl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etaily (barevně ohraničená okna, lampičk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31220_141705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48" name="131220_141740" descr=""/>
          <p:cNvPicPr/>
          <p:nvPr/>
        </p:nvPicPr>
        <p:blipFill>
          <a:blip r:embed="rId2"/>
          <a:stretch/>
        </p:blipFill>
        <p:spPr>
          <a:xfrm flipH="1" rot="10800000">
            <a:off x="4114800" y="30481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31220_14191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31220_141817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5f6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31220_14183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0T14:45:08Z</dcterms:created>
  <dc:creator>Marketa</dc:creator>
  <dc:description/>
  <dc:language>en-US</dc:language>
  <cp:lastModifiedBy>Marketa</cp:lastModifiedBy>
  <dcterms:modified xsi:type="dcterms:W3CDTF">2013-12-20T14:45:20Z</dcterms:modified>
  <cp:revision>1</cp:revision>
  <dc:subject/>
  <dc:title>BARVY</dc:title>
</cp:coreProperties>
</file>