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28E-718A-415E-B979-312311D2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30D-4406-4F65-B318-CD8734B8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A9E2-A105-4F0F-9CF9-5511D5AB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31F-B0F8-4FD8-902D-D3E33AD8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011E-0B3B-4AA3-8B56-BCC4EF62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8A6E-8616-4A01-8C7C-562E471B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FDA8-DEE7-42DE-881C-DC0212AB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791-7008-4B31-A25C-4E386EA2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72CA-C7FB-41E6-9EAC-EB5EF098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0527-5B8D-4468-B6AF-4FFA280D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86CC-222F-4F92-83C0-04E30A9B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DA9-870C-4CB0-B26D-89041111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60FF-3FE7-4F39-92F4-092A9C72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255F-9702-4F4D-B3A3-52A5ABD1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55A5-CF13-42BF-8B8F-8063326A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938C-596A-4135-894D-29E52F2D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BF8E-1280-4341-BB5C-CB590A82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36F-7C43-4DCE-983F-E65A6040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660-B65B-40BB-ACAF-570EACAD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09A1-2D14-4CD5-B6E4-1F87C651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A97-C6D3-4289-938A-1BF696B3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0AE-669D-4068-ABB3-91E14AFF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A2C-0512-483C-A039-54CE93DC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0EA-7B59-43A8-A96E-372BC08E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6F77-6E42-4441-806B-CCA180244EB9}" type="slidenum">
              <a:rPr b="0" lang="cs-CZ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5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6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0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1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9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35DF-B627-4A88-A8F0-C2BE0EBF0925}" type="slidenum">
              <a:rPr b="0" lang="cs-CZ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ilemwalter.cz/dsa/jundrov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351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-129528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dddddd"/>
                </a:solidFill>
                <a:latin typeface="Leelawadee"/>
                <a:ea typeface="SimSun"/>
              </a:rPr>
              <a:t>JUNDROV</a:t>
            </a:r>
            <a:r>
              <a:rPr b="1" lang="cs-CZ" sz="4000" spc="-1" strike="noStrike">
                <a:solidFill>
                  <a:srgbClr val="009999"/>
                </a:solidFill>
                <a:latin typeface="Dotum"/>
                <a:ea typeface="SimSun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0" y="3546360"/>
            <a:ext cx="4495680" cy="3311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3181320" y="0"/>
            <a:ext cx="59626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3413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http://www.portalymest.cz/obrazky/bytovy-projekt--novy-jundrov-2.jpg"/>
          <p:cNvPicPr/>
          <p:nvPr/>
        </p:nvPicPr>
        <p:blipFill>
          <a:blip r:embed="rId2"/>
          <a:stretch/>
        </p:blipFill>
        <p:spPr>
          <a:xfrm>
            <a:off x="3772080" y="3371760"/>
            <a:ext cx="53719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onec 19.stol – révokaz a perenospora zničily vinice =&gt; vykopány a spále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848 – zrušeno poddanství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zavedena občanská rovnoprávno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ro selský stav – z vděčnosti při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vchodu do dědiny u statku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č.1 kamenný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268596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7" name="Picture 4" descr="mšička révokaz - hálky na spodní straně listu (foto Jaroslav Rod)"/>
          <p:cNvPicPr/>
          <p:nvPr/>
        </p:nvPicPr>
        <p:blipFill>
          <a:blip r:embed="rId1"/>
          <a:stretch/>
        </p:blipFill>
        <p:spPr>
          <a:xfrm>
            <a:off x="0" y="0"/>
            <a:ext cx="2933640" cy="22003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7"/>
          <p:cNvSpPr/>
          <p:nvPr/>
        </p:nvSpPr>
        <p:spPr>
          <a:xfrm>
            <a:off x="34290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9" name="Picture 6" descr="http://vilemwalter.cz/dsa/jun/velke/1a.jpg"/>
          <p:cNvPicPr/>
          <p:nvPr/>
        </p:nvPicPr>
        <p:blipFill>
          <a:blip r:embed="rId2"/>
          <a:stretch/>
        </p:blipFill>
        <p:spPr>
          <a:xfrm>
            <a:off x="6305400" y="3352680"/>
            <a:ext cx="24861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řezová, Dubová, Jasanová, Jedlová, Kopretinová, Modřínová, Olšová, Osiková, Rozmarýnová, Smrčková, Sosnová, Stromovka, Šeříková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304920"/>
            <a:ext cx="922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211464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34" name="Picture 6" descr="File:Brno, Jundrov, počátek Jundrova u svratk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8"/>
          <p:cNvSpPr/>
          <p:nvPr/>
        </p:nvSpPr>
        <p:spPr>
          <a:xfrm>
            <a:off x="228600" y="548640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000000"/>
                </a:solidFill>
                <a:latin typeface="AR CARTER"/>
              </a:rPr>
              <a:t>Díky za pozornost :)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FOTKY – ZDROJE: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mapy.cz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s://maps.google.cz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brno.majestat.cz/menu/mestske-casti/jundrov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fotohistorie.cz/Jihomoravsky/Brno-mesto/Jundrov/Default.aspx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cs.wikipedia.org/wiki/Soubor:Brno,_%C5%BDabov%C5%99esky,_Vesla%C5%99sk%C3%A1,_kaple_P%C3%A1na_Je%C5%BE%C3%AD%C5%A1e_v_Getsemanech_(01).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commons.wikimedia.org/wiki/File:Brno,_Jundrov_-_radnice.JP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ibrno.cz/brno/59420-predstavujeme-mestske-casti-jundrov.htm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jundrov.info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kalendarakci.atlasceska.cz/slovacke-hody-brno-jundrov-48723/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fotohistorie.cz/Jihomoravsky/Brno-mesto/Jundrov/Default.aspx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portalbrno.cz/developerske-projekty/?stranka=1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http://www.agromanual.cz/cz/atlas/skudci/skudce/msicka-revokaz.html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vilemwalter.cz/dsa/jundrov.ht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277 – Sulosto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300 – v listině Václava II. zmínka o obci Judendorf („Židovská ves“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poč. 17. stol – ve starých listinách česky psaný Jundrov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ajitelé: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4.stol – řád augustiniánek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6.stol – řád jezuitů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919 – připojen k Brn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1990 – městská část Br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45276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876920" y="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7146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9" name="Picture 4" descr="Soubor:Brno náves v Jundrově konec 19 stol.gif"/>
          <p:cNvPicPr/>
          <p:nvPr/>
        </p:nvPicPr>
        <p:blipFill>
          <a:blip r:embed="rId1"/>
          <a:stretch/>
        </p:blipFill>
        <p:spPr>
          <a:xfrm>
            <a:off x="762120" y="609480"/>
            <a:ext cx="8153280" cy="57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2" name="Picture 5" descr="Soubor:Brno, Žabovřesky, Veslařská, kaple Pána Ježíše v Getsemanech (01).jpg"/>
          <p:cNvPicPr/>
          <p:nvPr/>
        </p:nvPicPr>
        <p:blipFill>
          <a:blip r:embed="rId1"/>
          <a:stretch/>
        </p:blipFill>
        <p:spPr>
          <a:xfrm>
            <a:off x="914400" y="68580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415 ha, 4 132 obyv. </a:t>
            </a:r>
            <a:r>
              <a:rPr b="0" lang="cs-CZ" sz="2000" spc="-1" strike="noStrike">
                <a:solidFill>
                  <a:srgbClr val="ffffcc"/>
                </a:solidFill>
                <a:latin typeface="Times New Roman"/>
              </a:rPr>
              <a:t>(2011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autobus 67, 44, 4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ísto setkávání – Optátov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pošta, obchod, knihovna, lékárna, řeznictv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školy: MŠ Dubová, ZŠ Jasanová, soukromá MŠ a ZŠ Rozmarýnová a soukromá VŠ S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ulturní centrum (kino Svratka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5" name="Picture 5" descr="File:Brno, Jundrov - radnice.JPG"/>
          <p:cNvPicPr/>
          <p:nvPr/>
        </p:nvPicPr>
        <p:blipFill>
          <a:blip r:embed="rId1"/>
          <a:stretch/>
        </p:blipFill>
        <p:spPr>
          <a:xfrm>
            <a:off x="5410080" y="228600"/>
            <a:ext cx="335304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3429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eslaři od 1869 – veslařský klub Bruna, Český veslařský klu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cc"/>
                </a:solidFill>
                <a:latin typeface="Times New Roman"/>
              </a:rPr>
              <a:t>Podle loděnic veslařského klubu na břehu řeky Svratky – ulice Veslařská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okol, Or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rtovní klub - fotbal, cyklistika, ten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bor dobrovolných hasič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08" name="Picture 5" descr="http://www.ibrno.cz/images/stories/clanky/2013/09/MC_Jundrov02.jpg"/>
          <p:cNvPicPr/>
          <p:nvPr/>
        </p:nvPicPr>
        <p:blipFill>
          <a:blip r:embed="rId1"/>
          <a:stretch/>
        </p:blipFill>
        <p:spPr>
          <a:xfrm>
            <a:off x="838080" y="304920"/>
            <a:ext cx="403884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77240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943360" y="11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5" name="Picture 4" descr="http://www.images.atlasceska.cz/images/kalendarakci/velka/48723/v117385_slovackehody.jpg"/>
          <p:cNvPicPr/>
          <p:nvPr/>
        </p:nvPicPr>
        <p:blipFill>
          <a:blip r:embed="rId1"/>
          <a:stretch/>
        </p:blipFill>
        <p:spPr>
          <a:xfrm>
            <a:off x="2514600" y="304920"/>
            <a:ext cx="4459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38862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4. – 17. stol – 24 stat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900 – 167 dom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70. léta 20. stol intenzivní sídlištní výstavb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vostavb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85768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9" name="Picture 4" descr="http://www.fotohistorie.cz/image.jpg.ashx?photoID=2188&amp;photoType=0"/>
          <p:cNvPicPr/>
          <p:nvPr/>
        </p:nvPicPr>
        <p:blipFill>
          <a:blip r:embed="rId1"/>
          <a:stretch/>
        </p:blipFill>
        <p:spPr>
          <a:xfrm>
            <a:off x="1828800" y="304920"/>
            <a:ext cx="56386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9:58:38Z</dcterms:created>
  <dc:creator>Marketa</dc:creator>
  <dc:description/>
  <dc:language>en-US</dc:language>
  <cp:lastModifiedBy>Markéta Vejmělková</cp:lastModifiedBy>
  <dcterms:modified xsi:type="dcterms:W3CDTF">2013-12-02T09:45:01Z</dcterms:modified>
  <cp:revision>12</cp:revision>
  <dc:subject/>
  <dc:title>JUNDROV</dc:title>
</cp:coreProperties>
</file>