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380F-EC2C-4F4D-8015-5A6A99EF037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fancy.com/things/202282676961411395/" TargetMode="External"/><Relationship Id="rId2" Type="http://schemas.openxmlformats.org/officeDocument/2006/relationships/hyperlink" Target="http://fancy.com/things/202282676961411395/" TargetMode="External"/><Relationship Id="rId3" Type="http://schemas.openxmlformats.org/officeDocument/2006/relationships/hyperlink" Target="http://fancy.com/things/202282676961411395/" TargetMode="External"/><Relationship Id="rId4" Type="http://schemas.openxmlformats.org/officeDocument/2006/relationships/hyperlink" Target="http://fancy.com/things/202282676961411395/" TargetMode="External"/><Relationship Id="rId5" Type="http://schemas.openxmlformats.org/officeDocument/2006/relationships/hyperlink" Target="http://fancy.com/things/202282676961411395/" TargetMode="External"/><Relationship Id="rId6" Type="http://schemas.openxmlformats.org/officeDocument/2006/relationships/hyperlink" Target="http://fancy.com/things/202282676961411395/" TargetMode="External"/><Relationship Id="rId7" Type="http://schemas.openxmlformats.org/officeDocument/2006/relationships/hyperlink" Target="http://fancy.com/things/202282676961411395/" TargetMode="External"/><Relationship Id="rId8" Type="http://schemas.openxmlformats.org/officeDocument/2006/relationships/slide" Target="../slides/slide1.xml"/><Relationship Id="rId9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lolalina.com/wp-content/uploads/2011/05/3_1303304207_Acevedo_71.jpg" TargetMode="External"/><Relationship Id="rId2" Type="http://schemas.openxmlformats.org/officeDocument/2006/relationships/hyperlink" Target="http://www.lolalina.com/wp-content/uploads/2011/05/3_1303304207_Acevedo_71.jpg" TargetMode="External"/><Relationship Id="rId3" Type="http://schemas.openxmlformats.org/officeDocument/2006/relationships/hyperlink" Target="http://www.lolalina.com/wp-content/uploads/2011/05/3_1303304207_Acevedo_71.jpg" TargetMode="External"/><Relationship Id="rId4" Type="http://schemas.openxmlformats.org/officeDocument/2006/relationships/hyperlink" Target="http://www.lolalina.com/wp-content/uploads/2011/05/3_1303304207_Acevedo_71.jpg" TargetMode="External"/><Relationship Id="rId5" Type="http://schemas.openxmlformats.org/officeDocument/2006/relationships/hyperlink" Target="http://www.lolalina.com/wp-content/uploads/2011/05/3_1303304207_Acevedo_71.jpg" TargetMode="External"/><Relationship Id="rId6" Type="http://schemas.openxmlformats.org/officeDocument/2006/relationships/hyperlink" Target="http://www.lolalina.com/wp-content/uploads/2011/05/3_1303304207_Acevedo_71.jpg" TargetMode="External"/><Relationship Id="rId7" Type="http://schemas.openxmlformats.org/officeDocument/2006/relationships/hyperlink" Target="http://www.lolalina.com/wp-content/uploads/2011/05/3_1303304207_Acevedo_71.jpg" TargetMode="External"/><Relationship Id="rId8" Type="http://schemas.openxmlformats.org/officeDocument/2006/relationships/hyperlink" Target="http://www.lolalina.com/wp-content/uploads/2011/05/3_1303304207_Acevedo_71.jpg" TargetMode="External"/><Relationship Id="rId9" Type="http://schemas.openxmlformats.org/officeDocument/2006/relationships/hyperlink" Target="http://www.lolalina.com/wp-content/uploads/2011/05/3_1303304207_Acevedo_71.jpg" TargetMode="External"/><Relationship Id="rId10" Type="http://schemas.openxmlformats.org/officeDocument/2006/relationships/hyperlink" Target="http://www.lolalina.com/wp-content/uploads/2011/05/3_1303304207_Acevedo_71.jpg" TargetMode="External"/><Relationship Id="rId11" Type="http://schemas.openxmlformats.org/officeDocument/2006/relationships/hyperlink" Target="http://www.lolalina.com/wp-content/uploads/2011/05/3_1303304207_Acevedo_71.jpg" TargetMode="External"/><Relationship Id="rId12" Type="http://schemas.openxmlformats.org/officeDocument/2006/relationships/hyperlink" Target="http://www.lolalina.com/wp-content/uploads/2011/05/3_1303304207_Acevedo_71.jpg" TargetMode="External"/><Relationship Id="rId13" Type="http://schemas.openxmlformats.org/officeDocument/2006/relationships/hyperlink" Target="http://www.lolalina.com/wp-content/uploads/2011/05/3_1303304207_Acevedo_71.jpg" TargetMode="External"/><Relationship Id="rId14" Type="http://schemas.openxmlformats.org/officeDocument/2006/relationships/hyperlink" Target="http://www.lolalina.com/wp-content/uploads/2011/05/3_1303304207_Acevedo_71.jpg" TargetMode="External"/><Relationship Id="rId15" Type="http://schemas.openxmlformats.org/officeDocument/2006/relationships/slide" Target="../slides/slide11.xml"/><Relationship Id="rId16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decoist.com/2012-03-09/modern-cool-fancy-functional-32-attic-bedroom-design-ideas/" TargetMode="External"/><Relationship Id="rId2" Type="http://schemas.openxmlformats.org/officeDocument/2006/relationships/hyperlink" Target="http://www.decoist.com/2012-03-09/modern-cool-fancy-functional-32-attic-bedroom-design-ideas/" TargetMode="External"/><Relationship Id="rId3" Type="http://schemas.openxmlformats.org/officeDocument/2006/relationships/hyperlink" Target="http://www.decoist.com/2012-03-09/modern-cool-fancy-functional-32-attic-bedroom-design-ideas/" TargetMode="External"/><Relationship Id="rId4" Type="http://schemas.openxmlformats.org/officeDocument/2006/relationships/hyperlink" Target="http://www.decoist.com/2012-03-09/modern-cool-fancy-functional-32-attic-bedroom-design-ideas/" TargetMode="External"/><Relationship Id="rId5" Type="http://schemas.openxmlformats.org/officeDocument/2006/relationships/hyperlink" Target="http://www.decoist.com/2012-03-09/modern-cool-fancy-functional-32-attic-bedroom-design-ideas/" TargetMode="External"/><Relationship Id="rId6" Type="http://schemas.openxmlformats.org/officeDocument/2006/relationships/hyperlink" Target="http://www.decoist.com/2012-03-09/modern-cool-fancy-functional-32-attic-bedroom-design-ideas/" TargetMode="External"/><Relationship Id="rId7" Type="http://schemas.openxmlformats.org/officeDocument/2006/relationships/hyperlink" Target="http://www.decoist.com/2012-03-09/modern-cool-fancy-functional-32-attic-bedroom-design-ideas/" TargetMode="External"/><Relationship Id="rId8" Type="http://schemas.openxmlformats.org/officeDocument/2006/relationships/hyperlink" Target="http://www.decoist.com/2012-03-09/modern-cool-fancy-functional-32-attic-bedroom-design-ideas/" TargetMode="External"/><Relationship Id="rId9" Type="http://schemas.openxmlformats.org/officeDocument/2006/relationships/hyperlink" Target="http://www.decoist.com/2012-03-09/modern-cool-fancy-functional-32-attic-bedroom-design-ideas/" TargetMode="External"/><Relationship Id="rId10" Type="http://schemas.openxmlformats.org/officeDocument/2006/relationships/hyperlink" Target="http://www.decoist.com/2012-03-09/modern-cool-fancy-functional-32-attic-bedroom-design-ideas/" TargetMode="External"/><Relationship Id="rId11" Type="http://schemas.openxmlformats.org/officeDocument/2006/relationships/hyperlink" Target="http://www.decoist.com/2012-03-09/modern-cool-fancy-functional-32-attic-bedroom-design-ideas/" TargetMode="External"/><Relationship Id="rId12" Type="http://schemas.openxmlformats.org/officeDocument/2006/relationships/hyperlink" Target="http://www.decoist.com/2012-03-09/modern-cool-fancy-functional-32-attic-bedroom-design-ideas/" TargetMode="External"/><Relationship Id="rId13" Type="http://schemas.openxmlformats.org/officeDocument/2006/relationships/hyperlink" Target="http://www.decoist.com/2012-03-09/modern-cool-fancy-functional-32-attic-bedroom-design-ideas/" TargetMode="External"/><Relationship Id="rId14" Type="http://schemas.openxmlformats.org/officeDocument/2006/relationships/hyperlink" Target="http://www.decoist.com/2012-03-09/modern-cool-fancy-functional-32-attic-bedroom-design-ideas/" TargetMode="External"/><Relationship Id="rId15" Type="http://schemas.openxmlformats.org/officeDocument/2006/relationships/hyperlink" Target="http://www.decoist.com/2012-03-09/modern-cool-fancy-functional-32-attic-bedroom-design-ideas/" TargetMode="External"/><Relationship Id="rId16" Type="http://schemas.openxmlformats.org/officeDocument/2006/relationships/hyperlink" Target="http://www.decoist.com/2012-03-09/modern-cool-fancy-functional-32-attic-bedroom-design-ideas/" TargetMode="External"/><Relationship Id="rId17" Type="http://schemas.openxmlformats.org/officeDocument/2006/relationships/hyperlink" Target="http://www.decoist.com/2012-03-09/modern-cool-fancy-functional-32-attic-bedroom-design-ideas/" TargetMode="External"/><Relationship Id="rId18" Type="http://schemas.openxmlformats.org/officeDocument/2006/relationships/hyperlink" Target="http://www.decoist.com/2012-03-09/modern-cool-fancy-functional-32-attic-bedroom-design-ideas/" TargetMode="External"/><Relationship Id="rId19" Type="http://schemas.openxmlformats.org/officeDocument/2006/relationships/hyperlink" Target="http://www.decoist.com/2012-03-09/modern-cool-fancy-functional-32-attic-bedroom-design-ideas/" TargetMode="External"/><Relationship Id="rId20" Type="http://schemas.openxmlformats.org/officeDocument/2006/relationships/slide" Target="../slides/slide12.xml"/><Relationship Id="rId21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twistedsifter.files.wordpress.com/2013/05/adult-treehouse-camp-wandawega-lake-resort-wisconsin-12.jpg?w=500&amp;h=750" TargetMode="External"/><Relationship Id="rId2" Type="http://schemas.openxmlformats.org/officeDocument/2006/relationships/hyperlink" Target="http://twistedsifter.files.wordpress.com/2013/05/adult-treehouse-camp-wandawega-lake-resort-wisconsin-12.jpg?w=500&amp;h=750" TargetMode="External"/><Relationship Id="rId3" Type="http://schemas.openxmlformats.org/officeDocument/2006/relationships/hyperlink" Target="http://twistedsifter.files.wordpress.com/2013/05/adult-treehouse-camp-wandawega-lake-resort-wisconsin-12.jpg?w=500&amp;h=750" TargetMode="External"/><Relationship Id="rId4" Type="http://schemas.openxmlformats.org/officeDocument/2006/relationships/hyperlink" Target="http://twistedsifter.files.wordpress.com/2013/05/adult-treehouse-camp-wandawega-lake-resort-wisconsin-12.jpg?w=500&amp;h=750" TargetMode="External"/><Relationship Id="rId5" Type="http://schemas.openxmlformats.org/officeDocument/2006/relationships/hyperlink" Target="http://twistedsifter.files.wordpress.com/2013/05/adult-treehouse-camp-wandawega-lake-resort-wisconsin-12.jpg?w=500&amp;h=750" TargetMode="External"/><Relationship Id="rId6" Type="http://schemas.openxmlformats.org/officeDocument/2006/relationships/hyperlink" Target="http://twistedsifter.files.wordpress.com/2013/05/adult-treehouse-camp-wandawega-lake-resort-wisconsin-12.jpg?w=500&amp;h=750" TargetMode="External"/><Relationship Id="rId7" Type="http://schemas.openxmlformats.org/officeDocument/2006/relationships/hyperlink" Target="http://twistedsifter.files.wordpress.com/2013/05/adult-treehouse-camp-wandawega-lake-resort-wisconsin-12.jpg?w=500&amp;h=750" TargetMode="External"/><Relationship Id="rId8" Type="http://schemas.openxmlformats.org/officeDocument/2006/relationships/hyperlink" Target="http://twistedsifter.files.wordpress.com/2013/05/adult-treehouse-camp-wandawega-lake-resort-wisconsin-12.jpg?w=500&amp;h=750" TargetMode="External"/><Relationship Id="rId9" Type="http://schemas.openxmlformats.org/officeDocument/2006/relationships/hyperlink" Target="http://twistedsifter.files.wordpress.com/2013/05/adult-treehouse-camp-wandawega-lake-resort-wisconsin-12.jpg?w=500&amp;h=750" TargetMode="External"/><Relationship Id="rId10" Type="http://schemas.openxmlformats.org/officeDocument/2006/relationships/hyperlink" Target="http://twistedsifter.files.wordpress.com/2013/05/adult-treehouse-camp-wandawega-lake-resort-wisconsin-12.jpg?w=500&amp;h=750" TargetMode="External"/><Relationship Id="rId11" Type="http://schemas.openxmlformats.org/officeDocument/2006/relationships/hyperlink" Target="http://twistedsifter.files.wordpress.com/2013/05/adult-treehouse-camp-wandawega-lake-resort-wisconsin-12.jpg?w=500&amp;h=750" TargetMode="External"/><Relationship Id="rId12" Type="http://schemas.openxmlformats.org/officeDocument/2006/relationships/hyperlink" Target="http://twistedsifter.files.wordpress.com/2013/05/adult-treehouse-camp-wandawega-lake-resort-wisconsin-12.jpg?w=500&amp;h=750" TargetMode="External"/><Relationship Id="rId13" Type="http://schemas.openxmlformats.org/officeDocument/2006/relationships/hyperlink" Target="http://twistedsifter.files.wordpress.com/2013/05/adult-treehouse-camp-wandawega-lake-resort-wisconsin-12.jpg?w=500&amp;h=750" TargetMode="External"/><Relationship Id="rId14" Type="http://schemas.openxmlformats.org/officeDocument/2006/relationships/hyperlink" Target="http://twistedsifter.files.wordpress.com/2013/05/adult-treehouse-camp-wandawega-lake-resort-wisconsin-12.jpg?w=500&amp;h=750" TargetMode="External"/><Relationship Id="rId15" Type="http://schemas.openxmlformats.org/officeDocument/2006/relationships/hyperlink" Target="http://twistedsifter.files.wordpress.com/2013/05/adult-treehouse-camp-wandawega-lake-resort-wisconsin-12.jpg?w=500&amp;h=750" TargetMode="External"/><Relationship Id="rId16" Type="http://schemas.openxmlformats.org/officeDocument/2006/relationships/hyperlink" Target="http://twistedsifter.files.wordpress.com/2013/05/adult-treehouse-camp-wandawega-lake-resort-wisconsin-12.jpg?w=500&amp;h=750" TargetMode="External"/><Relationship Id="rId17" Type="http://schemas.openxmlformats.org/officeDocument/2006/relationships/hyperlink" Target="http://twistedsifter.files.wordpress.com/2013/05/adult-treehouse-camp-wandawega-lake-resort-wisconsin-12.jpg?w=500&amp;h=750" TargetMode="External"/><Relationship Id="rId18" Type="http://schemas.openxmlformats.org/officeDocument/2006/relationships/hyperlink" Target="http://twistedsifter.files.wordpress.com/2013/05/adult-treehouse-camp-wandawega-lake-resort-wisconsin-12.jpg?w=500&amp;h=750" TargetMode="External"/><Relationship Id="rId19" Type="http://schemas.openxmlformats.org/officeDocument/2006/relationships/hyperlink" Target="http://twistedsifter.files.wordpress.com/2013/05/adult-treehouse-camp-wandawega-lake-resort-wisconsin-12.jpg?w=500&amp;h=750" TargetMode="External"/><Relationship Id="rId20" Type="http://schemas.openxmlformats.org/officeDocument/2006/relationships/hyperlink" Target="http://twistedsifter.files.wordpress.com/2013/05/adult-treehouse-camp-wandawega-lake-resort-wisconsin-12.jpg?w=500&amp;h=750" TargetMode="External"/><Relationship Id="rId21" Type="http://schemas.openxmlformats.org/officeDocument/2006/relationships/hyperlink" Target="http://twistedsifter.files.wordpress.com/2013/05/adult-treehouse-camp-wandawega-lake-resort-wisconsin-12.jpg?w=500&amp;h=750" TargetMode="External"/><Relationship Id="rId22" Type="http://schemas.openxmlformats.org/officeDocument/2006/relationships/slide" Target="../slides/slide3.xml"/><Relationship Id="rId2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mojdom.zoznam.sk/gl/182328/1228418/Svojpomocne-postaveny-dom-na-strome-laka-dovolenkarov#infopanel" TargetMode="External"/><Relationship Id="rId2" Type="http://schemas.openxmlformats.org/officeDocument/2006/relationships/hyperlink" Target="http://mojdom.zoznam.sk/gl/182328/1228418/Svojpomocne-postaveny-dom-na-strome-laka-dovolenkarov#infopanel" TargetMode="External"/><Relationship Id="rId3" Type="http://schemas.openxmlformats.org/officeDocument/2006/relationships/hyperlink" Target="http://mojdom.zoznam.sk/gl/182328/1228418/Svojpomocne-postaveny-dom-na-strome-laka-dovolenkarov#infopanel" TargetMode="External"/><Relationship Id="rId4" Type="http://schemas.openxmlformats.org/officeDocument/2006/relationships/hyperlink" Target="http://mojdom.zoznam.sk/gl/182328/1228418/Svojpomocne-postaveny-dom-na-strome-laka-dovolenkarov#infopanel" TargetMode="External"/><Relationship Id="rId5" Type="http://schemas.openxmlformats.org/officeDocument/2006/relationships/hyperlink" Target="http://mojdom.zoznam.sk/gl/182328/1228418/Svojpomocne-postaveny-dom-na-strome-laka-dovolenkarov#infopanel" TargetMode="External"/><Relationship Id="rId6" Type="http://schemas.openxmlformats.org/officeDocument/2006/relationships/hyperlink" Target="http://mojdom.zoznam.sk/gl/182328/1228418/Svojpomocne-postaveny-dom-na-strome-laka-dovolenkarov#infopanel" TargetMode="External"/><Relationship Id="rId7" Type="http://schemas.openxmlformats.org/officeDocument/2006/relationships/hyperlink" Target="http://mojdom.zoznam.sk/gl/182328/1228418/Svojpomocne-postaveny-dom-na-strome-laka-dovolenkarov#infopanel" TargetMode="External"/><Relationship Id="rId8" Type="http://schemas.openxmlformats.org/officeDocument/2006/relationships/hyperlink" Target="http://mojdom.zoznam.sk/gl/182328/1228418/Svojpomocne-postaveny-dom-na-strome-laka-dovolenkarov#infopanel" TargetMode="External"/><Relationship Id="rId9" Type="http://schemas.openxmlformats.org/officeDocument/2006/relationships/hyperlink" Target="http://mojdom.zoznam.sk/gl/182328/1228418/Svojpomocne-postaveny-dom-na-strome-laka-dovolenkarov#infopanel" TargetMode="External"/><Relationship Id="rId10" Type="http://schemas.openxmlformats.org/officeDocument/2006/relationships/hyperlink" Target="http://mojdom.zoznam.sk/gl/182328/1228418/Svojpomocne-postaveny-dom-na-strome-laka-dovolenkarov#infopanel" TargetMode="External"/><Relationship Id="rId11" Type="http://schemas.openxmlformats.org/officeDocument/2006/relationships/hyperlink" Target="http://mojdom.zoznam.sk/gl/182328/1228418/Svojpomocne-postaveny-dom-na-strome-laka-dovolenkarov#infopanel" TargetMode="External"/><Relationship Id="rId12" Type="http://schemas.openxmlformats.org/officeDocument/2006/relationships/hyperlink" Target="http://mojdom.zoznam.sk/gl/182328/1228418/Svojpomocne-postaveny-dom-na-strome-laka-dovolenkarov#infopanel" TargetMode="External"/><Relationship Id="rId13" Type="http://schemas.openxmlformats.org/officeDocument/2006/relationships/hyperlink" Target="http://mojdom.zoznam.sk/gl/182328/1228418/Svojpomocne-postaveny-dom-na-strome-laka-dovolenkarov#infopanel" TargetMode="External"/><Relationship Id="rId14" Type="http://schemas.openxmlformats.org/officeDocument/2006/relationships/hyperlink" Target="http://mojdom.zoznam.sk/gl/182328/1228418/Svojpomocne-postaveny-dom-na-strome-laka-dovolenkarov#infopanel" TargetMode="External"/><Relationship Id="rId15" Type="http://schemas.openxmlformats.org/officeDocument/2006/relationships/hyperlink" Target="http://mojdom.zoznam.sk/gl/182328/1228418/Svojpomocne-postaveny-dom-na-strome-laka-dovolenkarov#infopanel" TargetMode="External"/><Relationship Id="rId16" Type="http://schemas.openxmlformats.org/officeDocument/2006/relationships/hyperlink" Target="http://mojdom.zoznam.sk/gl/182328/1228418/Svojpomocne-postaveny-dom-na-strome-laka-dovolenkarov#infopanel" TargetMode="External"/><Relationship Id="rId17" Type="http://schemas.openxmlformats.org/officeDocument/2006/relationships/hyperlink" Target="http://mojdom.zoznam.sk/gl/182328/1228418/Svojpomocne-postaveny-dom-na-strome-laka-dovolenkarov#infopanel" TargetMode="External"/><Relationship Id="rId18" Type="http://schemas.openxmlformats.org/officeDocument/2006/relationships/hyperlink" Target="http://mojdom.zoznam.sk/gl/182328/1228418/Svojpomocne-postaveny-dom-na-strome-laka-dovolenkarov#infopanel" TargetMode="External"/><Relationship Id="rId19" Type="http://schemas.openxmlformats.org/officeDocument/2006/relationships/slide" Target="../slides/slide4.xml"/><Relationship Id="rId20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s://www.loyalloot.com/shop/log-bowls" TargetMode="External"/><Relationship Id="rId2" Type="http://schemas.openxmlformats.org/officeDocument/2006/relationships/hyperlink" Target="https://www.loyalloot.com/shop/log-bowls" TargetMode="External"/><Relationship Id="rId3" Type="http://schemas.openxmlformats.org/officeDocument/2006/relationships/hyperlink" Target="https://www.loyalloot.com/shop/log-bowls" TargetMode="External"/><Relationship Id="rId4" Type="http://schemas.openxmlformats.org/officeDocument/2006/relationships/hyperlink" Target="https://www.loyalloot.com/shop/log-bowls" TargetMode="External"/><Relationship Id="rId5" Type="http://schemas.openxmlformats.org/officeDocument/2006/relationships/hyperlink" Target="https://www.loyalloot.com/shop/log-bowls" TargetMode="External"/><Relationship Id="rId6" Type="http://schemas.openxmlformats.org/officeDocument/2006/relationships/hyperlink" Target="https://www.loyalloot.com/shop/log-bowls" TargetMode="External"/><Relationship Id="rId7" Type="http://schemas.openxmlformats.org/officeDocument/2006/relationships/hyperlink" Target="https://www.loyalloot.com/shop/log-bowls" TargetMode="External"/><Relationship Id="rId8" Type="http://schemas.openxmlformats.org/officeDocument/2006/relationships/hyperlink" Target="https://www.loyalloot.com/shop/log-bowls" TargetMode="External"/><Relationship Id="rId9" Type="http://schemas.openxmlformats.org/officeDocument/2006/relationships/hyperlink" Target="https://www.loyalloot.com/shop/log-bowls" TargetMode="External"/><Relationship Id="rId10" Type="http://schemas.openxmlformats.org/officeDocument/2006/relationships/hyperlink" Target="http://www.pinterest.com/pin/4362930860371547/" TargetMode="External"/><Relationship Id="rId11" Type="http://schemas.openxmlformats.org/officeDocument/2006/relationships/hyperlink" Target="http://www.pinterest.com/pin/4362930860371547/" TargetMode="External"/><Relationship Id="rId12" Type="http://schemas.openxmlformats.org/officeDocument/2006/relationships/hyperlink" Target="http://www.pinterest.com/pin/4362930860371547/" TargetMode="External"/><Relationship Id="rId13" Type="http://schemas.openxmlformats.org/officeDocument/2006/relationships/hyperlink" Target="http://www.pinterest.com/pin/4362930860371547/" TargetMode="External"/><Relationship Id="rId14" Type="http://schemas.openxmlformats.org/officeDocument/2006/relationships/hyperlink" Target="http://www.pinterest.com/pin/4362930860371547/" TargetMode="External"/><Relationship Id="rId15" Type="http://schemas.openxmlformats.org/officeDocument/2006/relationships/hyperlink" Target="http://www.pinterest.com/pin/4362930860371547/" TargetMode="External"/><Relationship Id="rId16" Type="http://schemas.openxmlformats.org/officeDocument/2006/relationships/hyperlink" Target="http://www.pinterest.com/pin/4362930860371547/" TargetMode="External"/><Relationship Id="rId17" Type="http://schemas.openxmlformats.org/officeDocument/2006/relationships/slide" Target="../slides/slide5.xml"/><Relationship Id="rId18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ohua88.com/build-the-perfect-home-by-installing-kitchen-island/beautiful-kitchen-island/" TargetMode="External"/><Relationship Id="rId2" Type="http://schemas.openxmlformats.org/officeDocument/2006/relationships/hyperlink" Target="http://ohua88.com/build-the-perfect-home-by-installing-kitchen-island/beautiful-kitchen-island/" TargetMode="External"/><Relationship Id="rId3" Type="http://schemas.openxmlformats.org/officeDocument/2006/relationships/hyperlink" Target="http://ohua88.com/build-the-perfect-home-by-installing-kitchen-island/beautiful-kitchen-island/" TargetMode="External"/><Relationship Id="rId4" Type="http://schemas.openxmlformats.org/officeDocument/2006/relationships/hyperlink" Target="http://ohua88.com/build-the-perfect-home-by-installing-kitchen-island/beautiful-kitchen-island/" TargetMode="External"/><Relationship Id="rId5" Type="http://schemas.openxmlformats.org/officeDocument/2006/relationships/hyperlink" Target="http://ohua88.com/build-the-perfect-home-by-installing-kitchen-island/beautiful-kitchen-island/" TargetMode="External"/><Relationship Id="rId6" Type="http://schemas.openxmlformats.org/officeDocument/2006/relationships/hyperlink" Target="http://ohua88.com/build-the-perfect-home-by-installing-kitchen-island/beautiful-kitchen-island/" TargetMode="External"/><Relationship Id="rId7" Type="http://schemas.openxmlformats.org/officeDocument/2006/relationships/hyperlink" Target="http://ohua88.com/build-the-perfect-home-by-installing-kitchen-island/beautiful-kitchen-island/" TargetMode="External"/><Relationship Id="rId8" Type="http://schemas.openxmlformats.org/officeDocument/2006/relationships/hyperlink" Target="http://ohua88.com/build-the-perfect-home-by-installing-kitchen-island/beautiful-kitchen-island/" TargetMode="External"/><Relationship Id="rId9" Type="http://schemas.openxmlformats.org/officeDocument/2006/relationships/hyperlink" Target="http://ohua88.com/build-the-perfect-home-by-installing-kitchen-island/beautiful-kitchen-island/" TargetMode="External"/><Relationship Id="rId10" Type="http://schemas.openxmlformats.org/officeDocument/2006/relationships/hyperlink" Target="http://ohua88.com/build-the-perfect-home-by-installing-kitchen-island/beautiful-kitchen-island/" TargetMode="External"/><Relationship Id="rId11" Type="http://schemas.openxmlformats.org/officeDocument/2006/relationships/hyperlink" Target="http://ohua88.com/build-the-perfect-home-by-installing-kitchen-island/beautiful-kitchen-island/" TargetMode="External"/><Relationship Id="rId12" Type="http://schemas.openxmlformats.org/officeDocument/2006/relationships/hyperlink" Target="http://ohua88.com/build-the-perfect-home-by-installing-kitchen-island/beautiful-kitchen-island/" TargetMode="External"/><Relationship Id="rId13" Type="http://schemas.openxmlformats.org/officeDocument/2006/relationships/hyperlink" Target="http://ohua88.com/build-the-perfect-home-by-installing-kitchen-island/beautiful-kitchen-island/" TargetMode="External"/><Relationship Id="rId14" Type="http://schemas.openxmlformats.org/officeDocument/2006/relationships/hyperlink" Target="http://ohua88.com/build-the-perfect-home-by-installing-kitchen-island/beautiful-kitchen-island/" TargetMode="External"/><Relationship Id="rId15" Type="http://schemas.openxmlformats.org/officeDocument/2006/relationships/hyperlink" Target="http://ohua88.com/build-the-perfect-home-by-installing-kitchen-island/beautiful-kitchen-island/" TargetMode="External"/><Relationship Id="rId16" Type="http://schemas.openxmlformats.org/officeDocument/2006/relationships/hyperlink" Target="http://ohua88.com/build-the-perfect-home-by-installing-kitchen-island/beautiful-kitchen-island/" TargetMode="External"/><Relationship Id="rId17" Type="http://schemas.openxmlformats.org/officeDocument/2006/relationships/hyperlink" Target="http://ohua88.com/build-the-perfect-home-by-installing-kitchen-island/beautiful-kitchen-island/" TargetMode="External"/><Relationship Id="rId18" Type="http://schemas.openxmlformats.org/officeDocument/2006/relationships/hyperlink" Target="http://ohua88.com/build-the-perfect-home-by-installing-kitchen-island/beautiful-kitchen-island/" TargetMode="External"/><Relationship Id="rId19" Type="http://schemas.openxmlformats.org/officeDocument/2006/relationships/hyperlink" Target="http://ohua88.com/build-the-perfect-home-by-installing-kitchen-island/beautiful-kitchen-island/" TargetMode="External"/><Relationship Id="rId20" Type="http://schemas.openxmlformats.org/officeDocument/2006/relationships/slide" Target="../slides/slide7.xml"/><Relationship Id="rId21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ing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202282676961411395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indulgy.com/post/ZNwUpCsG71/bright-white-walls-and-warm-wood-floors-he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olalin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nten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upload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2011/05/3_1303304207_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Acevedo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_71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jp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decoi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/2012-03-09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moder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o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fancy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functiona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32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attic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dro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design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dea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3.bp.blogspot.com/-hQspkZOwyiM/TjLE8-rL3rI/AAAAAAAAB64/KeyyprOvXkc/s1600/905img96l.1300796816.jp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droj: http://www.templeilluminatus.com/photo/tree-house-1?context=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wistedsifter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le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ordpres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2013/05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adul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treehous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camp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wandaweg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lak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resort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wiscons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12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jp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?w=500&amp;h=750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j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zozna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sk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g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182328/1228418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Svojpomocn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postaven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d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na-strome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laka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dovolenkarov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#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infopan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e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loyalloo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hop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log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bowl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ttp://www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interes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i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/4362930860371547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fancy.com/things/202282676961411395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ohua88.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build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erfect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home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-by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installing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-island/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beautiful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kitchen</a:t>
            </a:r>
            <a:r>
              <a:rPr b="0" lang="cs-CZ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-island/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www.houzz.com/photos/1547993/Southampton-Conservatory-traditional-porch-new-y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droj: http://mojdom.zoznam.sk/gl/182328/1228418/Svojpomocne-postaveny-dom-na-strome-laka-dovolenkarov#infopa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EB7-08CC-422F-A66A-7AEDF2E2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FBA-B929-40EE-9BF5-F4FE387C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77A-6066-4E73-9BA8-3433C7CF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13BE-658E-4BDA-BCF2-2B89B394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36C-E53B-42AE-8BD6-E6A1391E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A5F1-1169-4064-B177-90F6BF1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BC0-C8B7-4E95-A9E8-ABE0BAB7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69E-8478-43BC-9245-62A04DC8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B68-9E8A-4304-BD9B-238B85B5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1450-28FF-4FC4-8A95-211C921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95D-3D9C-4B41-8F38-DE5A781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F55-B8C8-4868-84C1-AB092C5D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45CA-3996-41D8-B027-4CAD0FEC0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0885_446661888751936_1456403330_n" descr=""/>
          <p:cNvPicPr/>
          <p:nvPr/>
        </p:nvPicPr>
        <p:blipFill>
          <a:blip r:embed="rId1"/>
          <a:stretch/>
        </p:blipFill>
        <p:spPr>
          <a:xfrm>
            <a:off x="0" y="-152388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220000">
            <a:off x="686160" y="12949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egoe Script"/>
              </a:rPr>
              <a:t>Ideální bydle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2ca28347e24cfcf1600cbe0fb3267db" descr=""/>
          <p:cNvPicPr/>
          <p:nvPr/>
        </p:nvPicPr>
        <p:blipFill>
          <a:blip r:embed="rId1"/>
          <a:stretch/>
        </p:blipFill>
        <p:spPr>
          <a:xfrm>
            <a:off x="2133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c3743a30494f82e3cd359e8719b08ca4" descr=""/>
          <p:cNvPicPr/>
          <p:nvPr/>
        </p:nvPicPr>
        <p:blipFill>
          <a:blip r:embed="rId1"/>
          <a:stretch/>
        </p:blipFill>
        <p:spPr>
          <a:xfrm>
            <a:off x="2209680" y="0"/>
            <a:ext cx="49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ttic-bedroom-wood" descr=""/>
          <p:cNvPicPr/>
          <p:nvPr/>
        </p:nvPicPr>
        <p:blipFill>
          <a:blip r:embed="rId1"/>
          <a:stretch/>
        </p:blipFill>
        <p:spPr>
          <a:xfrm>
            <a:off x="1857240" y="154080"/>
            <a:ext cx="542952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543801_494538563964268_1388789972_n" descr=""/>
          <p:cNvPicPr/>
          <p:nvPr/>
        </p:nvPicPr>
        <p:blipFill>
          <a:blip r:embed="rId1"/>
          <a:stretch/>
        </p:blipFill>
        <p:spPr>
          <a:xfrm>
            <a:off x="914400" y="84240"/>
            <a:ext cx="754380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7f499480197ba7bd79078e86b9c4f63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07248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6324480"/>
            <a:ext cx="8382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40992212582e6079aedc5e9775cd2b4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47772_370714259680033_1554011017_n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457880" cy="5715000"/>
          </a:xfrm>
          <a:prstGeom prst="rect">
            <a:avLst/>
          </a:prstGeom>
          <a:ln w="0">
            <a:noFill/>
          </a:ln>
        </p:spPr>
      </p:pic>
      <p:pic>
        <p:nvPicPr>
          <p:cNvPr id="56" name="942393_488699787881479_863948955_n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26744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0885_446661888751936_1456403330_n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7920" y="1066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beautiful-kitchen-island-915x707" descr=""/>
          <p:cNvPicPr/>
          <p:nvPr/>
        </p:nvPicPr>
        <p:blipFill>
          <a:blip r:embed="rId1"/>
          <a:stretch/>
        </p:blipFill>
        <p:spPr>
          <a:xfrm>
            <a:off x="214200" y="61920"/>
            <a:ext cx="8715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5c7cb5e67151ffd6bbe86aa46624f0fb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627921909c5f629e286d045137cc026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6:35:37Z</dcterms:created>
  <dc:creator>Marketa</dc:creator>
  <dc:description/>
  <dc:language>en-US</dc:language>
  <cp:lastModifiedBy>Marketa</cp:lastModifiedBy>
  <dcterms:modified xsi:type="dcterms:W3CDTF">2013-11-03T21:58:46Z</dcterms:modified>
  <cp:revision>6</cp:revision>
  <dc:subject/>
  <dc:title>Prezentace aplikace PowerPoint</dc:title>
</cp:coreProperties>
</file>