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C0E91-F0FB-4D4D-951D-72652DAF0F3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fancy.com/things/202282676961411395/" TargetMode="External"/><Relationship Id="rId2" Type="http://schemas.openxmlformats.org/officeDocument/2006/relationships/hyperlink" Target="http://fancy.com/things/202282676961411395/" TargetMode="External"/><Relationship Id="rId3" Type="http://schemas.openxmlformats.org/officeDocument/2006/relationships/hyperlink" Target="http://fancy.com/things/202282676961411395/" TargetMode="External"/><Relationship Id="rId4" Type="http://schemas.openxmlformats.org/officeDocument/2006/relationships/hyperlink" Target="http://fancy.com/things/202282676961411395/" TargetMode="External"/><Relationship Id="rId5" Type="http://schemas.openxmlformats.org/officeDocument/2006/relationships/hyperlink" Target="http://fancy.com/things/202282676961411395/" TargetMode="External"/><Relationship Id="rId6" Type="http://schemas.openxmlformats.org/officeDocument/2006/relationships/hyperlink" Target="http://fancy.com/things/202282676961411395/" TargetMode="External"/><Relationship Id="rId7" Type="http://schemas.openxmlformats.org/officeDocument/2006/relationships/hyperlink" Target="http://fancy.com/things/202282676961411395/" TargetMode="External"/><Relationship Id="rId8" Type="http://schemas.openxmlformats.org/officeDocument/2006/relationships/slide" Target="../slides/slide1.xml"/><Relationship Id="rId9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hyperlink" Target="http://www.lolalina.com/wp-content/uploads/2011/05/3_1303304207_Acevedo_71.jpg" TargetMode="External"/><Relationship Id="rId2" Type="http://schemas.openxmlformats.org/officeDocument/2006/relationships/hyperlink" Target="http://www.lolalina.com/wp-content/uploads/2011/05/3_1303304207_Acevedo_71.jpg" TargetMode="External"/><Relationship Id="rId3" Type="http://schemas.openxmlformats.org/officeDocument/2006/relationships/hyperlink" Target="http://www.lolalina.com/wp-content/uploads/2011/05/3_1303304207_Acevedo_71.jpg" TargetMode="External"/><Relationship Id="rId4" Type="http://schemas.openxmlformats.org/officeDocument/2006/relationships/hyperlink" Target="http://www.lolalina.com/wp-content/uploads/2011/05/3_1303304207_Acevedo_71.jpg" TargetMode="External"/><Relationship Id="rId5" Type="http://schemas.openxmlformats.org/officeDocument/2006/relationships/hyperlink" Target="http://www.lolalina.com/wp-content/uploads/2011/05/3_1303304207_Acevedo_71.jpg" TargetMode="External"/><Relationship Id="rId6" Type="http://schemas.openxmlformats.org/officeDocument/2006/relationships/hyperlink" Target="http://www.lolalina.com/wp-content/uploads/2011/05/3_1303304207_Acevedo_71.jpg" TargetMode="External"/><Relationship Id="rId7" Type="http://schemas.openxmlformats.org/officeDocument/2006/relationships/hyperlink" Target="http://www.lolalina.com/wp-content/uploads/2011/05/3_1303304207_Acevedo_71.jpg" TargetMode="External"/><Relationship Id="rId8" Type="http://schemas.openxmlformats.org/officeDocument/2006/relationships/hyperlink" Target="http://www.lolalina.com/wp-content/uploads/2011/05/3_1303304207_Acevedo_71.jpg" TargetMode="External"/><Relationship Id="rId9" Type="http://schemas.openxmlformats.org/officeDocument/2006/relationships/hyperlink" Target="http://www.lolalina.com/wp-content/uploads/2011/05/3_1303304207_Acevedo_71.jpg" TargetMode="External"/><Relationship Id="rId10" Type="http://schemas.openxmlformats.org/officeDocument/2006/relationships/hyperlink" Target="http://www.lolalina.com/wp-content/uploads/2011/05/3_1303304207_Acevedo_71.jpg" TargetMode="External"/><Relationship Id="rId11" Type="http://schemas.openxmlformats.org/officeDocument/2006/relationships/hyperlink" Target="http://www.lolalina.com/wp-content/uploads/2011/05/3_1303304207_Acevedo_71.jpg" TargetMode="External"/><Relationship Id="rId12" Type="http://schemas.openxmlformats.org/officeDocument/2006/relationships/hyperlink" Target="http://www.lolalina.com/wp-content/uploads/2011/05/3_1303304207_Acevedo_71.jpg" TargetMode="External"/><Relationship Id="rId13" Type="http://schemas.openxmlformats.org/officeDocument/2006/relationships/hyperlink" Target="http://www.lolalina.com/wp-content/uploads/2011/05/3_1303304207_Acevedo_71.jpg" TargetMode="External"/><Relationship Id="rId14" Type="http://schemas.openxmlformats.org/officeDocument/2006/relationships/hyperlink" Target="http://www.lolalina.com/wp-content/uploads/2011/05/3_1303304207_Acevedo_71.jpg" TargetMode="External"/><Relationship Id="rId15" Type="http://schemas.openxmlformats.org/officeDocument/2006/relationships/slide" Target="../slides/slide11.xml"/><Relationship Id="rId16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hyperlink" Target="http://www.decoist.com/2012-03-09/modern-cool-fancy-functional-32-attic-bedroom-design-ideas/" TargetMode="External"/><Relationship Id="rId2" Type="http://schemas.openxmlformats.org/officeDocument/2006/relationships/hyperlink" Target="http://www.decoist.com/2012-03-09/modern-cool-fancy-functional-32-attic-bedroom-design-ideas/" TargetMode="External"/><Relationship Id="rId3" Type="http://schemas.openxmlformats.org/officeDocument/2006/relationships/hyperlink" Target="http://www.decoist.com/2012-03-09/modern-cool-fancy-functional-32-attic-bedroom-design-ideas/" TargetMode="External"/><Relationship Id="rId4" Type="http://schemas.openxmlformats.org/officeDocument/2006/relationships/hyperlink" Target="http://www.decoist.com/2012-03-09/modern-cool-fancy-functional-32-attic-bedroom-design-ideas/" TargetMode="External"/><Relationship Id="rId5" Type="http://schemas.openxmlformats.org/officeDocument/2006/relationships/hyperlink" Target="http://www.decoist.com/2012-03-09/modern-cool-fancy-functional-32-attic-bedroom-design-ideas/" TargetMode="External"/><Relationship Id="rId6" Type="http://schemas.openxmlformats.org/officeDocument/2006/relationships/hyperlink" Target="http://www.decoist.com/2012-03-09/modern-cool-fancy-functional-32-attic-bedroom-design-ideas/" TargetMode="External"/><Relationship Id="rId7" Type="http://schemas.openxmlformats.org/officeDocument/2006/relationships/hyperlink" Target="http://www.decoist.com/2012-03-09/modern-cool-fancy-functional-32-attic-bedroom-design-ideas/" TargetMode="External"/><Relationship Id="rId8" Type="http://schemas.openxmlformats.org/officeDocument/2006/relationships/hyperlink" Target="http://www.decoist.com/2012-03-09/modern-cool-fancy-functional-32-attic-bedroom-design-ideas/" TargetMode="External"/><Relationship Id="rId9" Type="http://schemas.openxmlformats.org/officeDocument/2006/relationships/hyperlink" Target="http://www.decoist.com/2012-03-09/modern-cool-fancy-functional-32-attic-bedroom-design-ideas/" TargetMode="External"/><Relationship Id="rId10" Type="http://schemas.openxmlformats.org/officeDocument/2006/relationships/hyperlink" Target="http://www.decoist.com/2012-03-09/modern-cool-fancy-functional-32-attic-bedroom-design-ideas/" TargetMode="External"/><Relationship Id="rId11" Type="http://schemas.openxmlformats.org/officeDocument/2006/relationships/hyperlink" Target="http://www.decoist.com/2012-03-09/modern-cool-fancy-functional-32-attic-bedroom-design-ideas/" TargetMode="External"/><Relationship Id="rId12" Type="http://schemas.openxmlformats.org/officeDocument/2006/relationships/hyperlink" Target="http://www.decoist.com/2012-03-09/modern-cool-fancy-functional-32-attic-bedroom-design-ideas/" TargetMode="External"/><Relationship Id="rId13" Type="http://schemas.openxmlformats.org/officeDocument/2006/relationships/hyperlink" Target="http://www.decoist.com/2012-03-09/modern-cool-fancy-functional-32-attic-bedroom-design-ideas/" TargetMode="External"/><Relationship Id="rId14" Type="http://schemas.openxmlformats.org/officeDocument/2006/relationships/hyperlink" Target="http://www.decoist.com/2012-03-09/modern-cool-fancy-functional-32-attic-bedroom-design-ideas/" TargetMode="External"/><Relationship Id="rId15" Type="http://schemas.openxmlformats.org/officeDocument/2006/relationships/hyperlink" Target="http://www.decoist.com/2012-03-09/modern-cool-fancy-functional-32-attic-bedroom-design-ideas/" TargetMode="External"/><Relationship Id="rId16" Type="http://schemas.openxmlformats.org/officeDocument/2006/relationships/hyperlink" Target="http://www.decoist.com/2012-03-09/modern-cool-fancy-functional-32-attic-bedroom-design-ideas/" TargetMode="External"/><Relationship Id="rId17" Type="http://schemas.openxmlformats.org/officeDocument/2006/relationships/hyperlink" Target="http://www.decoist.com/2012-03-09/modern-cool-fancy-functional-32-attic-bedroom-design-ideas/" TargetMode="External"/><Relationship Id="rId18" Type="http://schemas.openxmlformats.org/officeDocument/2006/relationships/hyperlink" Target="http://www.decoist.com/2012-03-09/modern-cool-fancy-functional-32-attic-bedroom-design-ideas/" TargetMode="External"/><Relationship Id="rId19" Type="http://schemas.openxmlformats.org/officeDocument/2006/relationships/hyperlink" Target="http://www.decoist.com/2012-03-09/modern-cool-fancy-functional-32-attic-bedroom-design-ideas/" TargetMode="External"/><Relationship Id="rId20" Type="http://schemas.openxmlformats.org/officeDocument/2006/relationships/slide" Target="../slides/slide12.xml"/><Relationship Id="rId21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hyperlink" Target="http://twistedsifter.files.wordpress.com/2013/05/adult-treehouse-camp-wandawega-lake-resort-wisconsin-12.jpg?w=500&amp;h=750" TargetMode="External"/><Relationship Id="rId2" Type="http://schemas.openxmlformats.org/officeDocument/2006/relationships/hyperlink" Target="http://twistedsifter.files.wordpress.com/2013/05/adult-treehouse-camp-wandawega-lake-resort-wisconsin-12.jpg?w=500&amp;h=750" TargetMode="External"/><Relationship Id="rId3" Type="http://schemas.openxmlformats.org/officeDocument/2006/relationships/hyperlink" Target="http://twistedsifter.files.wordpress.com/2013/05/adult-treehouse-camp-wandawega-lake-resort-wisconsin-12.jpg?w=500&amp;h=750" TargetMode="External"/><Relationship Id="rId4" Type="http://schemas.openxmlformats.org/officeDocument/2006/relationships/hyperlink" Target="http://twistedsifter.files.wordpress.com/2013/05/adult-treehouse-camp-wandawega-lake-resort-wisconsin-12.jpg?w=500&amp;h=750" TargetMode="External"/><Relationship Id="rId5" Type="http://schemas.openxmlformats.org/officeDocument/2006/relationships/hyperlink" Target="http://twistedsifter.files.wordpress.com/2013/05/adult-treehouse-camp-wandawega-lake-resort-wisconsin-12.jpg?w=500&amp;h=750" TargetMode="External"/><Relationship Id="rId6" Type="http://schemas.openxmlformats.org/officeDocument/2006/relationships/hyperlink" Target="http://twistedsifter.files.wordpress.com/2013/05/adult-treehouse-camp-wandawega-lake-resort-wisconsin-12.jpg?w=500&amp;h=750" TargetMode="External"/><Relationship Id="rId7" Type="http://schemas.openxmlformats.org/officeDocument/2006/relationships/hyperlink" Target="http://twistedsifter.files.wordpress.com/2013/05/adult-treehouse-camp-wandawega-lake-resort-wisconsin-12.jpg?w=500&amp;h=750" TargetMode="External"/><Relationship Id="rId8" Type="http://schemas.openxmlformats.org/officeDocument/2006/relationships/hyperlink" Target="http://twistedsifter.files.wordpress.com/2013/05/adult-treehouse-camp-wandawega-lake-resort-wisconsin-12.jpg?w=500&amp;h=750" TargetMode="External"/><Relationship Id="rId9" Type="http://schemas.openxmlformats.org/officeDocument/2006/relationships/hyperlink" Target="http://twistedsifter.files.wordpress.com/2013/05/adult-treehouse-camp-wandawega-lake-resort-wisconsin-12.jpg?w=500&amp;h=750" TargetMode="External"/><Relationship Id="rId10" Type="http://schemas.openxmlformats.org/officeDocument/2006/relationships/hyperlink" Target="http://twistedsifter.files.wordpress.com/2013/05/adult-treehouse-camp-wandawega-lake-resort-wisconsin-12.jpg?w=500&amp;h=750" TargetMode="External"/><Relationship Id="rId11" Type="http://schemas.openxmlformats.org/officeDocument/2006/relationships/hyperlink" Target="http://twistedsifter.files.wordpress.com/2013/05/adult-treehouse-camp-wandawega-lake-resort-wisconsin-12.jpg?w=500&amp;h=750" TargetMode="External"/><Relationship Id="rId12" Type="http://schemas.openxmlformats.org/officeDocument/2006/relationships/hyperlink" Target="http://twistedsifter.files.wordpress.com/2013/05/adult-treehouse-camp-wandawega-lake-resort-wisconsin-12.jpg?w=500&amp;h=750" TargetMode="External"/><Relationship Id="rId13" Type="http://schemas.openxmlformats.org/officeDocument/2006/relationships/hyperlink" Target="http://twistedsifter.files.wordpress.com/2013/05/adult-treehouse-camp-wandawega-lake-resort-wisconsin-12.jpg?w=500&amp;h=750" TargetMode="External"/><Relationship Id="rId14" Type="http://schemas.openxmlformats.org/officeDocument/2006/relationships/hyperlink" Target="http://twistedsifter.files.wordpress.com/2013/05/adult-treehouse-camp-wandawega-lake-resort-wisconsin-12.jpg?w=500&amp;h=750" TargetMode="External"/><Relationship Id="rId15" Type="http://schemas.openxmlformats.org/officeDocument/2006/relationships/hyperlink" Target="http://twistedsifter.files.wordpress.com/2013/05/adult-treehouse-camp-wandawega-lake-resort-wisconsin-12.jpg?w=500&amp;h=750" TargetMode="External"/><Relationship Id="rId16" Type="http://schemas.openxmlformats.org/officeDocument/2006/relationships/hyperlink" Target="http://twistedsifter.files.wordpress.com/2013/05/adult-treehouse-camp-wandawega-lake-resort-wisconsin-12.jpg?w=500&amp;h=750" TargetMode="External"/><Relationship Id="rId17" Type="http://schemas.openxmlformats.org/officeDocument/2006/relationships/hyperlink" Target="http://twistedsifter.files.wordpress.com/2013/05/adult-treehouse-camp-wandawega-lake-resort-wisconsin-12.jpg?w=500&amp;h=750" TargetMode="External"/><Relationship Id="rId18" Type="http://schemas.openxmlformats.org/officeDocument/2006/relationships/hyperlink" Target="http://twistedsifter.files.wordpress.com/2013/05/adult-treehouse-camp-wandawega-lake-resort-wisconsin-12.jpg?w=500&amp;h=750" TargetMode="External"/><Relationship Id="rId19" Type="http://schemas.openxmlformats.org/officeDocument/2006/relationships/hyperlink" Target="http://twistedsifter.files.wordpress.com/2013/05/adult-treehouse-camp-wandawega-lake-resort-wisconsin-12.jpg?w=500&amp;h=750" TargetMode="External"/><Relationship Id="rId20" Type="http://schemas.openxmlformats.org/officeDocument/2006/relationships/hyperlink" Target="http://twistedsifter.files.wordpress.com/2013/05/adult-treehouse-camp-wandawega-lake-resort-wisconsin-12.jpg?w=500&amp;h=750" TargetMode="External"/><Relationship Id="rId21" Type="http://schemas.openxmlformats.org/officeDocument/2006/relationships/hyperlink" Target="http://twistedsifter.files.wordpress.com/2013/05/adult-treehouse-camp-wandawega-lake-resort-wisconsin-12.jpg?w=500&amp;h=750" TargetMode="External"/><Relationship Id="rId22" Type="http://schemas.openxmlformats.org/officeDocument/2006/relationships/slide" Target="../slides/slide3.xml"/><Relationship Id="rId23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mojdom.zoznam.sk/gl/182328/1228418/Svojpomocne-postaveny-dom-na-strome-laka-dovolenkarov#infopanel" TargetMode="External"/><Relationship Id="rId2" Type="http://schemas.openxmlformats.org/officeDocument/2006/relationships/hyperlink" Target="http://mojdom.zoznam.sk/gl/182328/1228418/Svojpomocne-postaveny-dom-na-strome-laka-dovolenkarov#infopanel" TargetMode="External"/><Relationship Id="rId3" Type="http://schemas.openxmlformats.org/officeDocument/2006/relationships/hyperlink" Target="http://mojdom.zoznam.sk/gl/182328/1228418/Svojpomocne-postaveny-dom-na-strome-laka-dovolenkarov#infopanel" TargetMode="External"/><Relationship Id="rId4" Type="http://schemas.openxmlformats.org/officeDocument/2006/relationships/hyperlink" Target="http://mojdom.zoznam.sk/gl/182328/1228418/Svojpomocne-postaveny-dom-na-strome-laka-dovolenkarov#infopanel" TargetMode="External"/><Relationship Id="rId5" Type="http://schemas.openxmlformats.org/officeDocument/2006/relationships/hyperlink" Target="http://mojdom.zoznam.sk/gl/182328/1228418/Svojpomocne-postaveny-dom-na-strome-laka-dovolenkarov#infopanel" TargetMode="External"/><Relationship Id="rId6" Type="http://schemas.openxmlformats.org/officeDocument/2006/relationships/hyperlink" Target="http://mojdom.zoznam.sk/gl/182328/1228418/Svojpomocne-postaveny-dom-na-strome-laka-dovolenkarov#infopanel" TargetMode="External"/><Relationship Id="rId7" Type="http://schemas.openxmlformats.org/officeDocument/2006/relationships/hyperlink" Target="http://mojdom.zoznam.sk/gl/182328/1228418/Svojpomocne-postaveny-dom-na-strome-laka-dovolenkarov#infopanel" TargetMode="External"/><Relationship Id="rId8" Type="http://schemas.openxmlformats.org/officeDocument/2006/relationships/hyperlink" Target="http://mojdom.zoznam.sk/gl/182328/1228418/Svojpomocne-postaveny-dom-na-strome-laka-dovolenkarov#infopanel" TargetMode="External"/><Relationship Id="rId9" Type="http://schemas.openxmlformats.org/officeDocument/2006/relationships/hyperlink" Target="http://mojdom.zoznam.sk/gl/182328/1228418/Svojpomocne-postaveny-dom-na-strome-laka-dovolenkarov#infopanel" TargetMode="External"/><Relationship Id="rId10" Type="http://schemas.openxmlformats.org/officeDocument/2006/relationships/hyperlink" Target="http://mojdom.zoznam.sk/gl/182328/1228418/Svojpomocne-postaveny-dom-na-strome-laka-dovolenkarov#infopanel" TargetMode="External"/><Relationship Id="rId11" Type="http://schemas.openxmlformats.org/officeDocument/2006/relationships/hyperlink" Target="http://mojdom.zoznam.sk/gl/182328/1228418/Svojpomocne-postaveny-dom-na-strome-laka-dovolenkarov#infopanel" TargetMode="External"/><Relationship Id="rId12" Type="http://schemas.openxmlformats.org/officeDocument/2006/relationships/hyperlink" Target="http://mojdom.zoznam.sk/gl/182328/1228418/Svojpomocne-postaveny-dom-na-strome-laka-dovolenkarov#infopanel" TargetMode="External"/><Relationship Id="rId13" Type="http://schemas.openxmlformats.org/officeDocument/2006/relationships/hyperlink" Target="http://mojdom.zoznam.sk/gl/182328/1228418/Svojpomocne-postaveny-dom-na-strome-laka-dovolenkarov#infopanel" TargetMode="External"/><Relationship Id="rId14" Type="http://schemas.openxmlformats.org/officeDocument/2006/relationships/hyperlink" Target="http://mojdom.zoznam.sk/gl/182328/1228418/Svojpomocne-postaveny-dom-na-strome-laka-dovolenkarov#infopanel" TargetMode="External"/><Relationship Id="rId15" Type="http://schemas.openxmlformats.org/officeDocument/2006/relationships/hyperlink" Target="http://mojdom.zoznam.sk/gl/182328/1228418/Svojpomocne-postaveny-dom-na-strome-laka-dovolenkarov#infopanel" TargetMode="External"/><Relationship Id="rId16" Type="http://schemas.openxmlformats.org/officeDocument/2006/relationships/hyperlink" Target="http://mojdom.zoznam.sk/gl/182328/1228418/Svojpomocne-postaveny-dom-na-strome-laka-dovolenkarov#infopanel" TargetMode="External"/><Relationship Id="rId17" Type="http://schemas.openxmlformats.org/officeDocument/2006/relationships/hyperlink" Target="http://mojdom.zoznam.sk/gl/182328/1228418/Svojpomocne-postaveny-dom-na-strome-laka-dovolenkarov#infopanel" TargetMode="External"/><Relationship Id="rId18" Type="http://schemas.openxmlformats.org/officeDocument/2006/relationships/hyperlink" Target="http://mojdom.zoznam.sk/gl/182328/1228418/Svojpomocne-postaveny-dom-na-strome-laka-dovolenkarov#infopanel" TargetMode="External"/><Relationship Id="rId19" Type="http://schemas.openxmlformats.org/officeDocument/2006/relationships/slide" Target="../slides/slide4.xml"/><Relationship Id="rId20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s://www.loyalloot.com/shop/log-bowls" TargetMode="External"/><Relationship Id="rId2" Type="http://schemas.openxmlformats.org/officeDocument/2006/relationships/hyperlink" Target="https://www.loyalloot.com/shop/log-bowls" TargetMode="External"/><Relationship Id="rId3" Type="http://schemas.openxmlformats.org/officeDocument/2006/relationships/hyperlink" Target="https://www.loyalloot.com/shop/log-bowls" TargetMode="External"/><Relationship Id="rId4" Type="http://schemas.openxmlformats.org/officeDocument/2006/relationships/hyperlink" Target="https://www.loyalloot.com/shop/log-bowls" TargetMode="External"/><Relationship Id="rId5" Type="http://schemas.openxmlformats.org/officeDocument/2006/relationships/hyperlink" Target="https://www.loyalloot.com/shop/log-bowls" TargetMode="External"/><Relationship Id="rId6" Type="http://schemas.openxmlformats.org/officeDocument/2006/relationships/hyperlink" Target="https://www.loyalloot.com/shop/log-bowls" TargetMode="External"/><Relationship Id="rId7" Type="http://schemas.openxmlformats.org/officeDocument/2006/relationships/hyperlink" Target="https://www.loyalloot.com/shop/log-bowls" TargetMode="External"/><Relationship Id="rId8" Type="http://schemas.openxmlformats.org/officeDocument/2006/relationships/hyperlink" Target="https://www.loyalloot.com/shop/log-bowls" TargetMode="External"/><Relationship Id="rId9" Type="http://schemas.openxmlformats.org/officeDocument/2006/relationships/hyperlink" Target="https://www.loyalloot.com/shop/log-bowls" TargetMode="External"/><Relationship Id="rId10" Type="http://schemas.openxmlformats.org/officeDocument/2006/relationships/hyperlink" Target="http://www.pinterest.com/pin/4362930860371547/" TargetMode="External"/><Relationship Id="rId11" Type="http://schemas.openxmlformats.org/officeDocument/2006/relationships/hyperlink" Target="http://www.pinterest.com/pin/4362930860371547/" TargetMode="External"/><Relationship Id="rId12" Type="http://schemas.openxmlformats.org/officeDocument/2006/relationships/hyperlink" Target="http://www.pinterest.com/pin/4362930860371547/" TargetMode="External"/><Relationship Id="rId13" Type="http://schemas.openxmlformats.org/officeDocument/2006/relationships/hyperlink" Target="http://www.pinterest.com/pin/4362930860371547/" TargetMode="External"/><Relationship Id="rId14" Type="http://schemas.openxmlformats.org/officeDocument/2006/relationships/hyperlink" Target="http://www.pinterest.com/pin/4362930860371547/" TargetMode="External"/><Relationship Id="rId15" Type="http://schemas.openxmlformats.org/officeDocument/2006/relationships/hyperlink" Target="http://www.pinterest.com/pin/4362930860371547/" TargetMode="External"/><Relationship Id="rId16" Type="http://schemas.openxmlformats.org/officeDocument/2006/relationships/hyperlink" Target="http://www.pinterest.com/pin/4362930860371547/" TargetMode="External"/><Relationship Id="rId17" Type="http://schemas.openxmlformats.org/officeDocument/2006/relationships/slide" Target="../slides/slide5.xml"/><Relationship Id="rId18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hyperlink" Target="http://ohua88.com/build-the-perfect-home-by-installing-kitchen-island/beautiful-kitchen-island/" TargetMode="External"/><Relationship Id="rId2" Type="http://schemas.openxmlformats.org/officeDocument/2006/relationships/hyperlink" Target="http://ohua88.com/build-the-perfect-home-by-installing-kitchen-island/beautiful-kitchen-island/" TargetMode="External"/><Relationship Id="rId3" Type="http://schemas.openxmlformats.org/officeDocument/2006/relationships/hyperlink" Target="http://ohua88.com/build-the-perfect-home-by-installing-kitchen-island/beautiful-kitchen-island/" TargetMode="External"/><Relationship Id="rId4" Type="http://schemas.openxmlformats.org/officeDocument/2006/relationships/hyperlink" Target="http://ohua88.com/build-the-perfect-home-by-installing-kitchen-island/beautiful-kitchen-island/" TargetMode="External"/><Relationship Id="rId5" Type="http://schemas.openxmlformats.org/officeDocument/2006/relationships/hyperlink" Target="http://ohua88.com/build-the-perfect-home-by-installing-kitchen-island/beautiful-kitchen-island/" TargetMode="External"/><Relationship Id="rId6" Type="http://schemas.openxmlformats.org/officeDocument/2006/relationships/hyperlink" Target="http://ohua88.com/build-the-perfect-home-by-installing-kitchen-island/beautiful-kitchen-island/" TargetMode="External"/><Relationship Id="rId7" Type="http://schemas.openxmlformats.org/officeDocument/2006/relationships/hyperlink" Target="http://ohua88.com/build-the-perfect-home-by-installing-kitchen-island/beautiful-kitchen-island/" TargetMode="External"/><Relationship Id="rId8" Type="http://schemas.openxmlformats.org/officeDocument/2006/relationships/hyperlink" Target="http://ohua88.com/build-the-perfect-home-by-installing-kitchen-island/beautiful-kitchen-island/" TargetMode="External"/><Relationship Id="rId9" Type="http://schemas.openxmlformats.org/officeDocument/2006/relationships/hyperlink" Target="http://ohua88.com/build-the-perfect-home-by-installing-kitchen-island/beautiful-kitchen-island/" TargetMode="External"/><Relationship Id="rId10" Type="http://schemas.openxmlformats.org/officeDocument/2006/relationships/hyperlink" Target="http://ohua88.com/build-the-perfect-home-by-installing-kitchen-island/beautiful-kitchen-island/" TargetMode="External"/><Relationship Id="rId11" Type="http://schemas.openxmlformats.org/officeDocument/2006/relationships/hyperlink" Target="http://ohua88.com/build-the-perfect-home-by-installing-kitchen-island/beautiful-kitchen-island/" TargetMode="External"/><Relationship Id="rId12" Type="http://schemas.openxmlformats.org/officeDocument/2006/relationships/hyperlink" Target="http://ohua88.com/build-the-perfect-home-by-installing-kitchen-island/beautiful-kitchen-island/" TargetMode="External"/><Relationship Id="rId13" Type="http://schemas.openxmlformats.org/officeDocument/2006/relationships/hyperlink" Target="http://ohua88.com/build-the-perfect-home-by-installing-kitchen-island/beautiful-kitchen-island/" TargetMode="External"/><Relationship Id="rId14" Type="http://schemas.openxmlformats.org/officeDocument/2006/relationships/hyperlink" Target="http://ohua88.com/build-the-perfect-home-by-installing-kitchen-island/beautiful-kitchen-island/" TargetMode="External"/><Relationship Id="rId15" Type="http://schemas.openxmlformats.org/officeDocument/2006/relationships/hyperlink" Target="http://ohua88.com/build-the-perfect-home-by-installing-kitchen-island/beautiful-kitchen-island/" TargetMode="External"/><Relationship Id="rId16" Type="http://schemas.openxmlformats.org/officeDocument/2006/relationships/hyperlink" Target="http://ohua88.com/build-the-perfect-home-by-installing-kitchen-island/beautiful-kitchen-island/" TargetMode="External"/><Relationship Id="rId17" Type="http://schemas.openxmlformats.org/officeDocument/2006/relationships/hyperlink" Target="http://ohua88.com/build-the-perfect-home-by-installing-kitchen-island/beautiful-kitchen-island/" TargetMode="External"/><Relationship Id="rId18" Type="http://schemas.openxmlformats.org/officeDocument/2006/relationships/hyperlink" Target="http://ohua88.com/build-the-perfect-home-by-installing-kitchen-island/beautiful-kitchen-island/" TargetMode="External"/><Relationship Id="rId19" Type="http://schemas.openxmlformats.org/officeDocument/2006/relationships/hyperlink" Target="http://ohua88.com/build-the-perfect-home-by-installing-kitchen-island/beautiful-kitchen-island/" TargetMode="External"/><Relationship Id="rId20" Type="http://schemas.openxmlformats.org/officeDocument/2006/relationships/slide" Target="../slides/slide7.xml"/><Relationship Id="rId21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zdroj: 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fancy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com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/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things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/202282676961411395/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zdroj: http://indulgy.com/post/ZNwUpCsG71/bright-white-walls-and-warm-wood-floors-heav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zdroj: 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lolalina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com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/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wp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-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content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/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uploads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/2011/05/3_1303304207_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Acevedo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_71.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jpg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zdroj: 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decoist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com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/2012-03-09/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modern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-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cool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-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fancy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-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functional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-32-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attic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-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bedroom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7"/>
              </a:rPr>
              <a:t>-design-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8"/>
              </a:rPr>
              <a:t>ideas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9"/>
              </a:rPr>
              <a:t>/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zdroj: http://3.bp.blogspot.com/-hQspkZOwyiM/TjLE8-rL3rI/AAAAAAAAB64/KeyyprOvXkc/s1600/905img96l.1300796816.jp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droj: http://www.templeilluminatus.com/photo/tree-house-1?context=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zdroj: 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twistedsifter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files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.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wordpress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.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com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/2013/05/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adult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-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treehouse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-camp-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wandawega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-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lake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7"/>
              </a:rPr>
              <a:t>-resort-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8"/>
              </a:rPr>
              <a:t>wisconsin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9"/>
              </a:rPr>
              <a:t>-12.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20"/>
              </a:rPr>
              <a:t>jpg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21"/>
              </a:rPr>
              <a:t>?w=500&amp;h=750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zdroj: 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mojdom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zoznam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.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sk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/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gl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/182328/1228418/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Svojpomocne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-postaveny-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dom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-na-strome-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laka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-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dovolenkarov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7"/>
              </a:rPr>
              <a:t>#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8"/>
              </a:rPr>
              <a:t>infopanel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zdroje: 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s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://www.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loyalloot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com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/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shop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/log-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bowls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http://www.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pinterest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.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com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/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in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/4362930860371547/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zdroj: http://fancy.com/things/202282676961411395/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zdroj: 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ohua88.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om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/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build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-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the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-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perfect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-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home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-by-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installing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-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kitchen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-island/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beautiful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7"/>
              </a:rPr>
              <a:t>-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8"/>
              </a:rPr>
              <a:t>kitchen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9"/>
              </a:rPr>
              <a:t>-island/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zdroj: http://www.houzz.com/photos/1547993/Southampton-Conservatory-traditional-porch-new-y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zdroj: http://mojdom.zoznam.sk/gl/182328/1228418/Svojpomocne-postaveny-dom-na-strome-laka-dovolenkarov#infopane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E7C3-8C50-4ACA-ABAA-D517B88CF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32BF-9823-4FF9-BD53-DC13D4B16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014B-A9A2-4B2D-AB84-0A704678D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0F6A-87BB-4BD5-A24C-DE269B948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9EFF-286F-4667-B4D9-CAF622673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1025-C672-4528-922F-108EF0794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20B4-C602-45E7-85A4-29FE46B92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3754-ED5A-491A-9E3B-DCD6E94D7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B0D5-AEB1-44DE-9976-AA3090F93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A0E1-B42F-44D7-8EC7-11E035525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62A6-7E02-45A2-960B-07800AF46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2B90-B165-4932-B1D5-104B8223A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F6636-7FA5-498E-ADE1-073F2DADD5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10885_446661888751936_1456403330_n" descr=""/>
          <p:cNvPicPr/>
          <p:nvPr/>
        </p:nvPicPr>
        <p:blipFill>
          <a:blip r:embed="rId1"/>
          <a:stretch/>
        </p:blipFill>
        <p:spPr>
          <a:xfrm>
            <a:off x="0" y="-1523880"/>
            <a:ext cx="9144000" cy="9144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447920" y="1066680"/>
            <a:ext cx="419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20220000">
            <a:off x="686160" y="1294920"/>
            <a:ext cx="579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egoe Script"/>
              </a:rPr>
              <a:t>Ideální bydle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d2ca28347e24cfcf1600cbe0fb3267db" descr=""/>
          <p:cNvPicPr/>
          <p:nvPr/>
        </p:nvPicPr>
        <p:blipFill>
          <a:blip r:embed="rId1"/>
          <a:stretch/>
        </p:blipFill>
        <p:spPr>
          <a:xfrm>
            <a:off x="2133720" y="0"/>
            <a:ext cx="4876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c3743a30494f82e3cd359e8719b08ca4" descr=""/>
          <p:cNvPicPr/>
          <p:nvPr/>
        </p:nvPicPr>
        <p:blipFill>
          <a:blip r:embed="rId1"/>
          <a:stretch/>
        </p:blipFill>
        <p:spPr>
          <a:xfrm>
            <a:off x="2209680" y="0"/>
            <a:ext cx="4916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Attic-bedroom-wood" descr=""/>
          <p:cNvPicPr/>
          <p:nvPr/>
        </p:nvPicPr>
        <p:blipFill>
          <a:blip r:embed="rId1"/>
          <a:stretch/>
        </p:blipFill>
        <p:spPr>
          <a:xfrm>
            <a:off x="1857240" y="154080"/>
            <a:ext cx="5429520" cy="65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543801_494538563964268_1388789972_n" descr=""/>
          <p:cNvPicPr/>
          <p:nvPr/>
        </p:nvPicPr>
        <p:blipFill>
          <a:blip r:embed="rId1"/>
          <a:stretch/>
        </p:blipFill>
        <p:spPr>
          <a:xfrm>
            <a:off x="914400" y="84240"/>
            <a:ext cx="7543800" cy="67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47f499480197ba7bd79078e86b9c4f63" descr=""/>
          <p:cNvPicPr/>
          <p:nvPr/>
        </p:nvPicPr>
        <p:blipFill>
          <a:blip r:embed="rId1"/>
          <a:stretch/>
        </p:blipFill>
        <p:spPr>
          <a:xfrm>
            <a:off x="1523880" y="152280"/>
            <a:ext cx="6072480" cy="6477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52280" y="6324480"/>
            <a:ext cx="83822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b40992212582e6079aedc5e9775cd2b4" descr=""/>
          <p:cNvPicPr/>
          <p:nvPr/>
        </p:nvPicPr>
        <p:blipFill>
          <a:blip r:embed="rId1"/>
          <a:stretch/>
        </p:blipFill>
        <p:spPr>
          <a:xfrm>
            <a:off x="2362320" y="0"/>
            <a:ext cx="4570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627921909c5f629e286d045137cc0262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1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247772_370714259680033_1554011017_n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4457880" cy="5715000"/>
          </a:xfrm>
          <a:prstGeom prst="rect">
            <a:avLst/>
          </a:prstGeom>
          <a:ln w="0">
            <a:noFill/>
          </a:ln>
        </p:spPr>
      </p:pic>
      <p:pic>
        <p:nvPicPr>
          <p:cNvPr id="56" name="942393_488699787881479_863948955_n" descr=""/>
          <p:cNvPicPr/>
          <p:nvPr/>
        </p:nvPicPr>
        <p:blipFill>
          <a:blip r:embed="rId2"/>
          <a:stretch/>
        </p:blipFill>
        <p:spPr>
          <a:xfrm>
            <a:off x="4724280" y="1219320"/>
            <a:ext cx="4267440" cy="41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10885_446661888751936_1456403330_n" descr=""/>
          <p:cNvPicPr/>
          <p:nvPr/>
        </p:nvPicPr>
        <p:blipFill>
          <a:blip r:embed="rId1"/>
          <a:stretch/>
        </p:blipFill>
        <p:spPr>
          <a:xfrm>
            <a:off x="121932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447920" y="1066680"/>
            <a:ext cx="419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beautiful-kitchen-island-915x707" descr=""/>
          <p:cNvPicPr/>
          <p:nvPr/>
        </p:nvPicPr>
        <p:blipFill>
          <a:blip r:embed="rId1"/>
          <a:stretch/>
        </p:blipFill>
        <p:spPr>
          <a:xfrm>
            <a:off x="214200" y="61920"/>
            <a:ext cx="871560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5c7cb5e67151ffd6bbe86aa46624f0fb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627921909c5f629e286d045137cc0262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1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3T16:35:37Z</dcterms:created>
  <dc:creator>Marketa</dc:creator>
  <dc:description/>
  <dc:language>en-US</dc:language>
  <cp:lastModifiedBy>Marketa</cp:lastModifiedBy>
  <dcterms:modified xsi:type="dcterms:W3CDTF">2013-11-03T21:58:46Z</dcterms:modified>
  <cp:revision>6</cp:revision>
  <dc:subject/>
  <dc:title>Prezentace aplikace PowerPoint</dc:title>
</cp:coreProperties>
</file>