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167-1307-42DD-AAA3-74548255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733-B08C-475A-9E6C-56125524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5CB-3A79-4688-9613-BFF149B9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6DB-54C0-4530-9B64-A9858797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68C-04FE-4BC3-9F7C-38C72196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41A-3C37-4395-A8CC-B3C76C4E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522-4B29-4EED-82B3-D45D6EA5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A93-6199-4630-B8C4-9A423603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852-8741-4C41-876B-C277B5E9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F6B-93AB-4E63-884B-DC8FCD9D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FC3-B0A7-4A7E-AADF-9C5CC92E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655-C29C-48AB-90EE-FFF1AF0C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3E35-907F-4502-89E3-73576A624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ff"/>
                </a:solidFill>
                <a:latin typeface="Times New Roman"/>
              </a:rPr>
              <a:t>B</a:t>
            </a:r>
            <a:r>
              <a:rPr b="1" lang="en-US" sz="6600" spc="-1" strike="noStrike">
                <a:solidFill>
                  <a:srgbClr val="65f602"/>
                </a:solidFill>
                <a:latin typeface="Times New Roman"/>
              </a:rPr>
              <a:t>A</a:t>
            </a: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n-US" sz="6600" spc="-1" strike="noStrike">
                <a:solidFill>
                  <a:srgbClr val="65f602"/>
                </a:solidFill>
                <a:latin typeface="Times New Roman"/>
              </a:rPr>
              <a:t>V</a:t>
            </a:r>
            <a:r>
              <a:rPr b="1" lang="en-US" sz="6600" spc="-1" strike="noStrike">
                <a:solidFill>
                  <a:srgbClr val="cc00ff"/>
                </a:solidFill>
                <a:latin typeface="Times New Roman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Markéta Vejmělková, 37127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Times New Roman"/>
              </a:rPr>
              <a:t>Koleje OLTEC (Václavská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ůvodně se jednalo o starý pavlačový bytový dům v zanedbaném a nevzhledném dvo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estice, rekonstrukce, pronájem bytových jednotek student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revné řešení je neotřelé, originální, přitahuje zrak – „nejlepší reklama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Times New Roman"/>
              </a:rPr>
              <a:t>Koleje OLTEC (Václavská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ytový dům „rozzářil“ jinak nevzhledný dvů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člověk se cítí velmi příjemně obklopen zářivými barv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ympatické prostředí pro stude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ísto. kde má člověk chuť být, byd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etaily (barevně ohraničená okna, lampičk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31220_141705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48" name="131220_141740" descr=""/>
          <p:cNvPicPr/>
          <p:nvPr/>
        </p:nvPicPr>
        <p:blipFill>
          <a:blip r:embed="rId2"/>
          <a:stretch/>
        </p:blipFill>
        <p:spPr>
          <a:xfrm flipH="1" rot="10800000">
            <a:off x="4114800" y="30481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31220_14191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31220_141817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31220_14183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14:45:08Z</dcterms:created>
  <dc:creator>Marketa</dc:creator>
  <dc:description/>
  <dc:language>en-US</dc:language>
  <cp:lastModifiedBy>Marketa</cp:lastModifiedBy>
  <dcterms:modified xsi:type="dcterms:W3CDTF">2013-12-20T14:45:20Z</dcterms:modified>
  <cp:revision>1</cp:revision>
  <dc:subject/>
  <dc:title>BARVY</dc:title>
</cp:coreProperties>
</file>