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236-A033-49F9-8737-6D2FF11C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AED-5E3D-4F00-9916-0ADD782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FED-98AC-4F3C-A54F-C1D50E1C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771-B803-488F-A07A-9065FA08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0753-54E2-4395-A6B5-059C6C46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1DF8-A14A-4FE9-826F-578ABF9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51D7-A9E7-4261-8983-E5CDCF7C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834B-D3CA-4F5C-899D-81A2799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2B66-7AE9-497C-9656-1F2F2A1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464-4BA2-416A-98BD-EC9B1D07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BF05-21CE-4283-9A00-A92D897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680-151C-464D-A50A-2FB595CB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E5D1-0CE3-4F1A-B82A-4391B90B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8970-2B6F-48EF-98FB-469BF239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9B91-749E-49DA-83B5-2A1AF790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15F3-DCF2-43C2-BBF3-05F34B70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C1AB-82D9-4895-8459-4A0248B5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94F-B896-433B-942B-8496E8B3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594-361A-4E09-AA43-B08305ED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FF7-CA15-4DD4-AE51-72DF52C4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70E-35AD-4886-8021-0870B5BD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AE4-AFAF-40C3-B966-8AD89FC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40B-1C76-472D-8030-2175523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4C9-3D4F-49EF-B860-E68D46D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E9D0-F57E-4580-8B77-94B64690F878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612-2880-4F40-8B83-ED0FC36C0D78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ilemwalter.cz/dsa/jundrov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51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-1295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dddddd"/>
                </a:solidFill>
                <a:latin typeface="Leelawadee"/>
                <a:ea typeface="SimSun"/>
              </a:rPr>
              <a:t>JUNDROV</a:t>
            </a:r>
            <a:r>
              <a:rPr b="1" lang="cs-CZ" sz="4000" spc="-1" strike="noStrike">
                <a:solidFill>
                  <a:srgbClr val="009999"/>
                </a:solidFill>
                <a:latin typeface="Dotum"/>
                <a:ea typeface="SimSu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0" y="3546360"/>
            <a:ext cx="4495680" cy="3311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3181320" y="0"/>
            <a:ext cx="5962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41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www.portalymest.cz/obrazky/bytovy-projekt--novy-jundrov-2.jpg"/>
          <p:cNvPicPr/>
          <p:nvPr/>
        </p:nvPicPr>
        <p:blipFill>
          <a:blip r:embed="rId2"/>
          <a:stretch/>
        </p:blipFill>
        <p:spPr>
          <a:xfrm>
            <a:off x="3772080" y="3371760"/>
            <a:ext cx="5371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onec 19.stol – révokaz a perenospora zničily vinice =&gt; vykopány a spále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848 – zrušeno poddanství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vedena občanská rovnoprávno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o selský stav – z vděčnosti př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chodu do dědiny u statk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č.1 kamenný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68596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7" name="Picture 4" descr="mšička révokaz - hálky na spodní straně listu (foto Jaroslav Rod)"/>
          <p:cNvPicPr/>
          <p:nvPr/>
        </p:nvPicPr>
        <p:blipFill>
          <a:blip r:embed="rId1"/>
          <a:stretch/>
        </p:blipFill>
        <p:spPr>
          <a:xfrm>
            <a:off x="0" y="0"/>
            <a:ext cx="2933640" cy="2200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34290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9" name="Picture 6" descr="http://vilemwalter.cz/dsa/jun/velke/1a.jpg"/>
          <p:cNvPicPr/>
          <p:nvPr/>
        </p:nvPicPr>
        <p:blipFill>
          <a:blip r:embed="rId2"/>
          <a:stretch/>
        </p:blipFill>
        <p:spPr>
          <a:xfrm>
            <a:off x="6305400" y="335268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řezová, Dubová, Jasanová, Jedlová, Kopretinová, Modřínová, Olšová, Osiková, Rozmarýnová, Smrčková, Sosnová, Stromovka, Šeříková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22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4" name="Picture 6" descr="File:Brno, Jundrov, počátek Jundrova u svrat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228600" y="54864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AR CARTER"/>
              </a:rPr>
              <a:t>Díky za pozornost :)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FOTKY – ZDROJE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mapy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s://maps.google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brno.majestat.cz/menu/mestske-casti/jundrov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s.wikipedia.org/wiki/Soubor:Brno,_%C5%BDabov%C5%99esky,_Vesla%C5%99sk%C3%A1,_kaple_P%C3%A1na_Je%C5%BE%C3%AD%C5%A1e_v_Getsemanech_(01)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ommons.wikimedia.org/wiki/File:Brno,_Jundrov_-_radnice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ibrno.cz/brno/59420-predstavujeme-mestske-casti-jundrov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jundrov.info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kalendarakci.atlasceska.cz/slovacke-hody-brno-jundrov-48723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portalbrno.cz/developerske-projekty/?stranka=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agromanual.cz/cz/atlas/skudci/skudce/msicka-revokaz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vilemwalter.cz/dsa/jundrov.ht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277 – Sulosto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300 – v listině Václava II. zmínka o obci Judendorf („Židovská ves“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č. 17. stol – ve starých listinách česky psaný Jundro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jitelé: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4.stol – řád augustiniánek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.stol – řád jezuit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19 – připojen k Brn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90 – městská část B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4527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876920" y="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7146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9" name="Picture 4" descr="Soubor:Brno náves v Jundrově konec 19 stol.gif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2" name="Picture 5" descr="Soubor:Brno, Žabovřesky, Veslařská, kaple Pána Ježíše v Getsemanech (01).jpg"/>
          <p:cNvPicPr/>
          <p:nvPr/>
        </p:nvPicPr>
        <p:blipFill>
          <a:blip r:embed="rId1"/>
          <a:stretch/>
        </p:blipFill>
        <p:spPr>
          <a:xfrm>
            <a:off x="914400" y="6858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415 ha, 4 132 obyv. 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(2011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autobus 67, 44, 4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ísto setkávání – Optáto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ošta, obchod, knihovna, lékárna, řeznict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školy: MŠ Dubová, ZŠ Jasanová, soukromá MŠ a ZŠ Rozmarýnová a soukromá VŠ S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ulturní centrum (kino Svratk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5" name="Picture 5" descr="File:Brno, Jundrov - radnice.JPG"/>
          <p:cNvPicPr/>
          <p:nvPr/>
        </p:nvPicPr>
        <p:blipFill>
          <a:blip r:embed="rId1"/>
          <a:stretch/>
        </p:blipFill>
        <p:spPr>
          <a:xfrm>
            <a:off x="5410080" y="228600"/>
            <a:ext cx="3353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slaři od 1869 – veslařský klub Bruna, Český veslařský klu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Podle loděnic veslařského klubu na břehu řeky Svratky – ulice Veslařská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okol, Or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rtovní klub - fotbal, cyklistika, ten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bor dobrovolných hasič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5" descr="http://www.ibrno.cz/images/stories/clanky/2013/09/MC_Jundrov02.jpg"/>
          <p:cNvPicPr/>
          <p:nvPr/>
        </p:nvPicPr>
        <p:blipFill>
          <a:blip r:embed="rId1"/>
          <a:stretch/>
        </p:blipFill>
        <p:spPr>
          <a:xfrm>
            <a:off x="838080" y="304920"/>
            <a:ext cx="403884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7724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9433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5" name="Picture 4" descr="http://www.images.atlasceska.cz/images/kalendarakci/velka/48723/v117385_slovackehody.jpg"/>
          <p:cNvPicPr/>
          <p:nvPr/>
        </p:nvPicPr>
        <p:blipFill>
          <a:blip r:embed="rId1"/>
          <a:stretch/>
        </p:blipFill>
        <p:spPr>
          <a:xfrm>
            <a:off x="2514600" y="304920"/>
            <a:ext cx="4459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38862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. – 17. stol – 24 stat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900 – 167 dom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70. léta 20. stol intenzivní sídlištní výstav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ostav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8576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4" descr="http://www.fotohistorie.cz/image.jpg.ashx?photoID=2188&amp;photoType=0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9:58:38Z</dcterms:created>
  <dc:creator>Marketa</dc:creator>
  <dc:description/>
  <dc:language>en-US</dc:language>
  <cp:lastModifiedBy>Markéta Vejmělková</cp:lastModifiedBy>
  <dcterms:modified xsi:type="dcterms:W3CDTF">2013-12-02T09:45:01Z</dcterms:modified>
  <cp:revision>12</cp:revision>
  <dc:subject/>
  <dc:title>JUNDROV</dc:title>
</cp:coreProperties>
</file>