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0BA-734F-475D-81E0-35C342DE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F5B-B7D3-4630-8B4C-4A7F2E88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D9D-3AE1-4E9F-8FB7-4FB97632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B87-D0EF-4611-9D0E-A8F4A1F4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B5AF-99BC-4146-9949-8E88D0FA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F1B6-B67F-4E6F-9739-C5135FA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D162-10D8-4B32-B541-09EA956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B892-6A96-4F71-8328-475C602F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383D-4AE8-440E-8BD5-A22A11D4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E391-DC20-41DD-BC2A-1D170351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E568-814C-4E66-90C0-F085CC68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C72-9A3E-4509-A1EE-D911CB1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CE2F-4328-4BB2-8556-01A3A012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AF02-ACE7-4E26-8717-BB56AB91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5654-BE98-4AFA-BEBF-44CCCFB0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E5D7-EE56-441B-BB20-1AEB4637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EFAD-DC19-43DD-94ED-53692879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381-C499-4A0A-9DE2-77E23135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C4A-3E23-4C22-9C7C-113560DC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850-E943-4990-80EB-A765F58B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3AB-0A99-4EB2-9062-971F100C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D5E-590A-4837-AAB5-F7AC381A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45E-E6EA-418C-B1CE-EA5526B0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950-BAF9-4B9D-9560-209D89E6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7390-ED90-4EF2-9C55-3817687EB816}" type="slidenum">
              <a:rPr b="0" lang="cs-CZ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8A93-92EF-44B6-B31E-504E02330FC2}" type="slidenum">
              <a:rPr b="0" lang="cs-CZ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ilemwalter.cz/dsa/jundrov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51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-12952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dddddd"/>
                </a:solidFill>
                <a:latin typeface="Leelawadee"/>
                <a:ea typeface="SimSun"/>
              </a:rPr>
              <a:t>JUNDROV</a:t>
            </a:r>
            <a:r>
              <a:rPr b="1" lang="cs-CZ" sz="4000" spc="-1" strike="noStrike">
                <a:solidFill>
                  <a:srgbClr val="009999"/>
                </a:solidFill>
                <a:latin typeface="Dotum"/>
                <a:ea typeface="SimSun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0" y="3546360"/>
            <a:ext cx="4495680" cy="3311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3181320" y="0"/>
            <a:ext cx="59626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413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://www.portalymest.cz/obrazky/bytovy-projekt--novy-jundrov-2.jpg"/>
          <p:cNvPicPr/>
          <p:nvPr/>
        </p:nvPicPr>
        <p:blipFill>
          <a:blip r:embed="rId2"/>
          <a:stretch/>
        </p:blipFill>
        <p:spPr>
          <a:xfrm>
            <a:off x="3772080" y="3371760"/>
            <a:ext cx="53719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onec 19.stol – révokaz a perenospora zničily vinice =&gt; vykopány a spále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848 – zrušeno poddanství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vedena občanská rovnoprávno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ro selský stav – z vděčnosti př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chodu do dědiny u statk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č.1 kamenný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268596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7" name="Picture 4" descr="mšička révokaz - hálky na spodní straně listu (foto Jaroslav Rod)"/>
          <p:cNvPicPr/>
          <p:nvPr/>
        </p:nvPicPr>
        <p:blipFill>
          <a:blip r:embed="rId1"/>
          <a:stretch/>
        </p:blipFill>
        <p:spPr>
          <a:xfrm>
            <a:off x="0" y="0"/>
            <a:ext cx="2933640" cy="2200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7"/>
          <p:cNvSpPr/>
          <p:nvPr/>
        </p:nvSpPr>
        <p:spPr>
          <a:xfrm>
            <a:off x="34290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9" name="Picture 6" descr="http://vilemwalter.cz/dsa/jun/velke/1a.jpg"/>
          <p:cNvPicPr/>
          <p:nvPr/>
        </p:nvPicPr>
        <p:blipFill>
          <a:blip r:embed="rId2"/>
          <a:stretch/>
        </p:blipFill>
        <p:spPr>
          <a:xfrm>
            <a:off x="6305400" y="3352680"/>
            <a:ext cx="2486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řezová, Dubová, Jasanová, Jedlová, Kopretinová, Modřínová, Olšová, Osiková, Rozmarýnová, Smrčková, Sosnová, Stromovka, Šeříková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22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4" name="Picture 6" descr="File:Brno, Jundrov, počátek Jundrova u svratk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228600" y="548640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000000"/>
                </a:solidFill>
                <a:latin typeface="AR CARTER"/>
              </a:rPr>
              <a:t>Díky za pozornost :)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FOTKY – ZDROJE: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mapy.cz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s://maps.google.cz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brno.majestat.cz/menu/mestske-casti/jundrov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fotohistorie.cz/Jihomoravsky/Brno-mesto/Jundrov/Default.asp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cs.wikipedia.org/wiki/Soubor:Brno,_%C5%BDabov%C5%99esky,_Vesla%C5%99sk%C3%A1,_kaple_P%C3%A1na_Je%C5%BE%C3%AD%C5%A1e_v_Getsemanech_(01).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commons.wikimedia.org/wiki/File:Brno,_Jundrov_-_radnice.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ibrno.cz/brno/59420-predstavujeme-mestske-casti-jundrov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jundrov.info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kalendarakci.atlasceska.cz/slovacke-hody-brno-jundrov-48723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fotohistorie.cz/Jihomoravsky/Brno-mesto/Jundrov/Default.asp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portalbrno.cz/developerske-projekty/?stranka=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agromanual.cz/cz/atlas/skudci/skudce/msicka-revokaz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vilemwalter.cz/dsa/jundrov.ht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277 – Sulosto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300 – v listině Václava II. zmínka o obci Judendorf („Židovská ves“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č. 17. stol – ve starých listinách česky psaný Jundro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ajitelé: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4.stol – řád augustiniánek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6.stol – řád jezuit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919 – připojen k Brn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990 – městská část Br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4527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876920" y="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7146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9" name="Picture 4" descr="Soubor:Brno náves v Jundrově konec 19 stol.gif"/>
          <p:cNvPicPr/>
          <p:nvPr/>
        </p:nvPicPr>
        <p:blipFill>
          <a:blip r:embed="rId1"/>
          <a:stretch/>
        </p:blipFill>
        <p:spPr>
          <a:xfrm>
            <a:off x="762120" y="609480"/>
            <a:ext cx="815328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2" name="Picture 5" descr="Soubor:Brno, Žabovřesky, Veslařská, kaple Pána Ježíše v Getsemanech (01).jpg"/>
          <p:cNvPicPr/>
          <p:nvPr/>
        </p:nvPicPr>
        <p:blipFill>
          <a:blip r:embed="rId1"/>
          <a:stretch/>
        </p:blipFill>
        <p:spPr>
          <a:xfrm>
            <a:off x="914400" y="6858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415 ha, 4 132 obyv. 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(2011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autobus 67, 44, 4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ísto setkávání – Optáto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ošta, obchod, knihovna, lékárna, řeznict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školy: MŠ Dubová, ZŠ Jasanová, soukromá MŠ a ZŠ Rozmarýnová a soukromá VŠ S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ulturní centrum (kino Svratk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5" name="Picture 5" descr="File:Brno, Jundrov - radnice.JPG"/>
          <p:cNvPicPr/>
          <p:nvPr/>
        </p:nvPicPr>
        <p:blipFill>
          <a:blip r:embed="rId1"/>
          <a:stretch/>
        </p:blipFill>
        <p:spPr>
          <a:xfrm>
            <a:off x="5410080" y="228600"/>
            <a:ext cx="33530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slaři od 1869 – veslařský klub Bruna, Český veslařský klu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Podle loděnic veslařského klubu na břehu řeky Svratky – ulice Veslařská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okol, Or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rtovní klub - fotbal, cyklistika, ten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bor dobrovolných hasič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5" descr="http://www.ibrno.cz/images/stories/clanky/2013/09/MC_Jundrov02.jpg"/>
          <p:cNvPicPr/>
          <p:nvPr/>
        </p:nvPicPr>
        <p:blipFill>
          <a:blip r:embed="rId1"/>
          <a:stretch/>
        </p:blipFill>
        <p:spPr>
          <a:xfrm>
            <a:off x="838080" y="304920"/>
            <a:ext cx="403884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77240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9433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5" name="Picture 4" descr="http://www.images.atlasceska.cz/images/kalendarakci/velka/48723/v117385_slovackehody.jpg"/>
          <p:cNvPicPr/>
          <p:nvPr/>
        </p:nvPicPr>
        <p:blipFill>
          <a:blip r:embed="rId1"/>
          <a:stretch/>
        </p:blipFill>
        <p:spPr>
          <a:xfrm>
            <a:off x="2514600" y="304920"/>
            <a:ext cx="4459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38862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. – 17. stol – 24 stat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900 – 167 dom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70. léta 20. stol intenzivní sídlištní výstavb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ostav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8576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9" name="Picture 4" descr="http://www.fotohistorie.cz/image.jpg.ashx?photoID=2188&amp;photoType=0"/>
          <p:cNvPicPr/>
          <p:nvPr/>
        </p:nvPicPr>
        <p:blipFill>
          <a:blip r:embed="rId1"/>
          <a:stretch/>
        </p:blipFill>
        <p:spPr>
          <a:xfrm>
            <a:off x="1828800" y="304920"/>
            <a:ext cx="5638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9:58:38Z</dcterms:created>
  <dc:creator>Marketa</dc:creator>
  <dc:description/>
  <dc:language>en-US</dc:language>
  <cp:lastModifiedBy>Markéta Vejmělková</cp:lastModifiedBy>
  <dcterms:modified xsi:type="dcterms:W3CDTF">2013-12-02T09:45:01Z</dcterms:modified>
  <cp:revision>12</cp:revision>
  <dc:subject/>
  <dc:title>JUNDROV</dc:title>
</cp:coreProperties>
</file>