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778D-3D96-4478-B4F2-C59B479B94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fancy.com/things/202282676961411395/" TargetMode="External"/><Relationship Id="rId2" Type="http://schemas.openxmlformats.org/officeDocument/2006/relationships/hyperlink" Target="http://fancy.com/things/202282676961411395/" TargetMode="External"/><Relationship Id="rId3" Type="http://schemas.openxmlformats.org/officeDocument/2006/relationships/hyperlink" Target="http://fancy.com/things/202282676961411395/" TargetMode="External"/><Relationship Id="rId4" Type="http://schemas.openxmlformats.org/officeDocument/2006/relationships/hyperlink" Target="http://fancy.com/things/202282676961411395/" TargetMode="External"/><Relationship Id="rId5" Type="http://schemas.openxmlformats.org/officeDocument/2006/relationships/hyperlink" Target="http://fancy.com/things/202282676961411395/" TargetMode="External"/><Relationship Id="rId6" Type="http://schemas.openxmlformats.org/officeDocument/2006/relationships/hyperlink" Target="http://fancy.com/things/202282676961411395/" TargetMode="External"/><Relationship Id="rId7" Type="http://schemas.openxmlformats.org/officeDocument/2006/relationships/hyperlink" Target="http://fancy.com/things/202282676961411395/" TargetMode="External"/><Relationship Id="rId8" Type="http://schemas.openxmlformats.org/officeDocument/2006/relationships/slide" Target="../slides/slide1.xml"/><Relationship Id="rId9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lolalina.com/wp-content/uploads/2011/05/3_1303304207_Acevedo_71.jpg" TargetMode="External"/><Relationship Id="rId2" Type="http://schemas.openxmlformats.org/officeDocument/2006/relationships/hyperlink" Target="http://www.lolalina.com/wp-content/uploads/2011/05/3_1303304207_Acevedo_71.jpg" TargetMode="External"/><Relationship Id="rId3" Type="http://schemas.openxmlformats.org/officeDocument/2006/relationships/hyperlink" Target="http://www.lolalina.com/wp-content/uploads/2011/05/3_1303304207_Acevedo_71.jpg" TargetMode="External"/><Relationship Id="rId4" Type="http://schemas.openxmlformats.org/officeDocument/2006/relationships/hyperlink" Target="http://www.lolalina.com/wp-content/uploads/2011/05/3_1303304207_Acevedo_71.jpg" TargetMode="External"/><Relationship Id="rId5" Type="http://schemas.openxmlformats.org/officeDocument/2006/relationships/hyperlink" Target="http://www.lolalina.com/wp-content/uploads/2011/05/3_1303304207_Acevedo_71.jpg" TargetMode="External"/><Relationship Id="rId6" Type="http://schemas.openxmlformats.org/officeDocument/2006/relationships/hyperlink" Target="http://www.lolalina.com/wp-content/uploads/2011/05/3_1303304207_Acevedo_71.jpg" TargetMode="External"/><Relationship Id="rId7" Type="http://schemas.openxmlformats.org/officeDocument/2006/relationships/hyperlink" Target="http://www.lolalina.com/wp-content/uploads/2011/05/3_1303304207_Acevedo_71.jpg" TargetMode="External"/><Relationship Id="rId8" Type="http://schemas.openxmlformats.org/officeDocument/2006/relationships/hyperlink" Target="http://www.lolalina.com/wp-content/uploads/2011/05/3_1303304207_Acevedo_71.jpg" TargetMode="External"/><Relationship Id="rId9" Type="http://schemas.openxmlformats.org/officeDocument/2006/relationships/hyperlink" Target="http://www.lolalina.com/wp-content/uploads/2011/05/3_1303304207_Acevedo_71.jpg" TargetMode="External"/><Relationship Id="rId10" Type="http://schemas.openxmlformats.org/officeDocument/2006/relationships/hyperlink" Target="http://www.lolalina.com/wp-content/uploads/2011/05/3_1303304207_Acevedo_71.jpg" TargetMode="External"/><Relationship Id="rId11" Type="http://schemas.openxmlformats.org/officeDocument/2006/relationships/hyperlink" Target="http://www.lolalina.com/wp-content/uploads/2011/05/3_1303304207_Acevedo_71.jpg" TargetMode="External"/><Relationship Id="rId12" Type="http://schemas.openxmlformats.org/officeDocument/2006/relationships/hyperlink" Target="http://www.lolalina.com/wp-content/uploads/2011/05/3_1303304207_Acevedo_71.jpg" TargetMode="External"/><Relationship Id="rId13" Type="http://schemas.openxmlformats.org/officeDocument/2006/relationships/hyperlink" Target="http://www.lolalina.com/wp-content/uploads/2011/05/3_1303304207_Acevedo_71.jpg" TargetMode="External"/><Relationship Id="rId14" Type="http://schemas.openxmlformats.org/officeDocument/2006/relationships/hyperlink" Target="http://www.lolalina.com/wp-content/uploads/2011/05/3_1303304207_Acevedo_71.jpg" TargetMode="External"/><Relationship Id="rId15" Type="http://schemas.openxmlformats.org/officeDocument/2006/relationships/slide" Target="../slides/slide11.xml"/><Relationship Id="rId16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decoist.com/2012-03-09/modern-cool-fancy-functional-32-attic-bedroom-design-ideas/" TargetMode="External"/><Relationship Id="rId2" Type="http://schemas.openxmlformats.org/officeDocument/2006/relationships/hyperlink" Target="http://www.decoist.com/2012-03-09/modern-cool-fancy-functional-32-attic-bedroom-design-ideas/" TargetMode="External"/><Relationship Id="rId3" Type="http://schemas.openxmlformats.org/officeDocument/2006/relationships/hyperlink" Target="http://www.decoist.com/2012-03-09/modern-cool-fancy-functional-32-attic-bedroom-design-ideas/" TargetMode="External"/><Relationship Id="rId4" Type="http://schemas.openxmlformats.org/officeDocument/2006/relationships/hyperlink" Target="http://www.decoist.com/2012-03-09/modern-cool-fancy-functional-32-attic-bedroom-design-ideas/" TargetMode="External"/><Relationship Id="rId5" Type="http://schemas.openxmlformats.org/officeDocument/2006/relationships/hyperlink" Target="http://www.decoist.com/2012-03-09/modern-cool-fancy-functional-32-attic-bedroom-design-ideas/" TargetMode="External"/><Relationship Id="rId6" Type="http://schemas.openxmlformats.org/officeDocument/2006/relationships/hyperlink" Target="http://www.decoist.com/2012-03-09/modern-cool-fancy-functional-32-attic-bedroom-design-ideas/" TargetMode="External"/><Relationship Id="rId7" Type="http://schemas.openxmlformats.org/officeDocument/2006/relationships/hyperlink" Target="http://www.decoist.com/2012-03-09/modern-cool-fancy-functional-32-attic-bedroom-design-ideas/" TargetMode="External"/><Relationship Id="rId8" Type="http://schemas.openxmlformats.org/officeDocument/2006/relationships/hyperlink" Target="http://www.decoist.com/2012-03-09/modern-cool-fancy-functional-32-attic-bedroom-design-ideas/" TargetMode="External"/><Relationship Id="rId9" Type="http://schemas.openxmlformats.org/officeDocument/2006/relationships/hyperlink" Target="http://www.decoist.com/2012-03-09/modern-cool-fancy-functional-32-attic-bedroom-design-ideas/" TargetMode="External"/><Relationship Id="rId10" Type="http://schemas.openxmlformats.org/officeDocument/2006/relationships/hyperlink" Target="http://www.decoist.com/2012-03-09/modern-cool-fancy-functional-32-attic-bedroom-design-ideas/" TargetMode="External"/><Relationship Id="rId11" Type="http://schemas.openxmlformats.org/officeDocument/2006/relationships/hyperlink" Target="http://www.decoist.com/2012-03-09/modern-cool-fancy-functional-32-attic-bedroom-design-ideas/" TargetMode="External"/><Relationship Id="rId12" Type="http://schemas.openxmlformats.org/officeDocument/2006/relationships/hyperlink" Target="http://www.decoist.com/2012-03-09/modern-cool-fancy-functional-32-attic-bedroom-design-ideas/" TargetMode="External"/><Relationship Id="rId13" Type="http://schemas.openxmlformats.org/officeDocument/2006/relationships/hyperlink" Target="http://www.decoist.com/2012-03-09/modern-cool-fancy-functional-32-attic-bedroom-design-ideas/" TargetMode="External"/><Relationship Id="rId14" Type="http://schemas.openxmlformats.org/officeDocument/2006/relationships/hyperlink" Target="http://www.decoist.com/2012-03-09/modern-cool-fancy-functional-32-attic-bedroom-design-ideas/" TargetMode="External"/><Relationship Id="rId15" Type="http://schemas.openxmlformats.org/officeDocument/2006/relationships/hyperlink" Target="http://www.decoist.com/2012-03-09/modern-cool-fancy-functional-32-attic-bedroom-design-ideas/" TargetMode="External"/><Relationship Id="rId16" Type="http://schemas.openxmlformats.org/officeDocument/2006/relationships/hyperlink" Target="http://www.decoist.com/2012-03-09/modern-cool-fancy-functional-32-attic-bedroom-design-ideas/" TargetMode="External"/><Relationship Id="rId17" Type="http://schemas.openxmlformats.org/officeDocument/2006/relationships/hyperlink" Target="http://www.decoist.com/2012-03-09/modern-cool-fancy-functional-32-attic-bedroom-design-ideas/" TargetMode="External"/><Relationship Id="rId18" Type="http://schemas.openxmlformats.org/officeDocument/2006/relationships/hyperlink" Target="http://www.decoist.com/2012-03-09/modern-cool-fancy-functional-32-attic-bedroom-design-ideas/" TargetMode="External"/><Relationship Id="rId19" Type="http://schemas.openxmlformats.org/officeDocument/2006/relationships/hyperlink" Target="http://www.decoist.com/2012-03-09/modern-cool-fancy-functional-32-attic-bedroom-design-ideas/" TargetMode="External"/><Relationship Id="rId20" Type="http://schemas.openxmlformats.org/officeDocument/2006/relationships/slide" Target="../slides/slide12.xml"/><Relationship Id="rId21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twistedsifter.files.wordpress.com/2013/05/adult-treehouse-camp-wandawega-lake-resort-wisconsin-12.jpg?w=500&amp;h=750" TargetMode="External"/><Relationship Id="rId2" Type="http://schemas.openxmlformats.org/officeDocument/2006/relationships/hyperlink" Target="http://twistedsifter.files.wordpress.com/2013/05/adult-treehouse-camp-wandawega-lake-resort-wisconsin-12.jpg?w=500&amp;h=750" TargetMode="External"/><Relationship Id="rId3" Type="http://schemas.openxmlformats.org/officeDocument/2006/relationships/hyperlink" Target="http://twistedsifter.files.wordpress.com/2013/05/adult-treehouse-camp-wandawega-lake-resort-wisconsin-12.jpg?w=500&amp;h=750" TargetMode="External"/><Relationship Id="rId4" Type="http://schemas.openxmlformats.org/officeDocument/2006/relationships/hyperlink" Target="http://twistedsifter.files.wordpress.com/2013/05/adult-treehouse-camp-wandawega-lake-resort-wisconsin-12.jpg?w=500&amp;h=750" TargetMode="External"/><Relationship Id="rId5" Type="http://schemas.openxmlformats.org/officeDocument/2006/relationships/hyperlink" Target="http://twistedsifter.files.wordpress.com/2013/05/adult-treehouse-camp-wandawega-lake-resort-wisconsin-12.jpg?w=500&amp;h=750" TargetMode="External"/><Relationship Id="rId6" Type="http://schemas.openxmlformats.org/officeDocument/2006/relationships/hyperlink" Target="http://twistedsifter.files.wordpress.com/2013/05/adult-treehouse-camp-wandawega-lake-resort-wisconsin-12.jpg?w=500&amp;h=750" TargetMode="External"/><Relationship Id="rId7" Type="http://schemas.openxmlformats.org/officeDocument/2006/relationships/hyperlink" Target="http://twistedsifter.files.wordpress.com/2013/05/adult-treehouse-camp-wandawega-lake-resort-wisconsin-12.jpg?w=500&amp;h=750" TargetMode="External"/><Relationship Id="rId8" Type="http://schemas.openxmlformats.org/officeDocument/2006/relationships/hyperlink" Target="http://twistedsifter.files.wordpress.com/2013/05/adult-treehouse-camp-wandawega-lake-resort-wisconsin-12.jpg?w=500&amp;h=750" TargetMode="External"/><Relationship Id="rId9" Type="http://schemas.openxmlformats.org/officeDocument/2006/relationships/hyperlink" Target="http://twistedsifter.files.wordpress.com/2013/05/adult-treehouse-camp-wandawega-lake-resort-wisconsin-12.jpg?w=500&amp;h=750" TargetMode="External"/><Relationship Id="rId10" Type="http://schemas.openxmlformats.org/officeDocument/2006/relationships/hyperlink" Target="http://twistedsifter.files.wordpress.com/2013/05/adult-treehouse-camp-wandawega-lake-resort-wisconsin-12.jpg?w=500&amp;h=750" TargetMode="External"/><Relationship Id="rId11" Type="http://schemas.openxmlformats.org/officeDocument/2006/relationships/hyperlink" Target="http://twistedsifter.files.wordpress.com/2013/05/adult-treehouse-camp-wandawega-lake-resort-wisconsin-12.jpg?w=500&amp;h=750" TargetMode="External"/><Relationship Id="rId12" Type="http://schemas.openxmlformats.org/officeDocument/2006/relationships/hyperlink" Target="http://twistedsifter.files.wordpress.com/2013/05/adult-treehouse-camp-wandawega-lake-resort-wisconsin-12.jpg?w=500&amp;h=750" TargetMode="External"/><Relationship Id="rId13" Type="http://schemas.openxmlformats.org/officeDocument/2006/relationships/hyperlink" Target="http://twistedsifter.files.wordpress.com/2013/05/adult-treehouse-camp-wandawega-lake-resort-wisconsin-12.jpg?w=500&amp;h=750" TargetMode="External"/><Relationship Id="rId14" Type="http://schemas.openxmlformats.org/officeDocument/2006/relationships/hyperlink" Target="http://twistedsifter.files.wordpress.com/2013/05/adult-treehouse-camp-wandawega-lake-resort-wisconsin-12.jpg?w=500&amp;h=750" TargetMode="External"/><Relationship Id="rId15" Type="http://schemas.openxmlformats.org/officeDocument/2006/relationships/hyperlink" Target="http://twistedsifter.files.wordpress.com/2013/05/adult-treehouse-camp-wandawega-lake-resort-wisconsin-12.jpg?w=500&amp;h=750" TargetMode="External"/><Relationship Id="rId16" Type="http://schemas.openxmlformats.org/officeDocument/2006/relationships/hyperlink" Target="http://twistedsifter.files.wordpress.com/2013/05/adult-treehouse-camp-wandawega-lake-resort-wisconsin-12.jpg?w=500&amp;h=750" TargetMode="External"/><Relationship Id="rId17" Type="http://schemas.openxmlformats.org/officeDocument/2006/relationships/hyperlink" Target="http://twistedsifter.files.wordpress.com/2013/05/adult-treehouse-camp-wandawega-lake-resort-wisconsin-12.jpg?w=500&amp;h=750" TargetMode="External"/><Relationship Id="rId18" Type="http://schemas.openxmlformats.org/officeDocument/2006/relationships/hyperlink" Target="http://twistedsifter.files.wordpress.com/2013/05/adult-treehouse-camp-wandawega-lake-resort-wisconsin-12.jpg?w=500&amp;h=750" TargetMode="External"/><Relationship Id="rId19" Type="http://schemas.openxmlformats.org/officeDocument/2006/relationships/hyperlink" Target="http://twistedsifter.files.wordpress.com/2013/05/adult-treehouse-camp-wandawega-lake-resort-wisconsin-12.jpg?w=500&amp;h=750" TargetMode="External"/><Relationship Id="rId20" Type="http://schemas.openxmlformats.org/officeDocument/2006/relationships/hyperlink" Target="http://twistedsifter.files.wordpress.com/2013/05/adult-treehouse-camp-wandawega-lake-resort-wisconsin-12.jpg?w=500&amp;h=750" TargetMode="External"/><Relationship Id="rId21" Type="http://schemas.openxmlformats.org/officeDocument/2006/relationships/hyperlink" Target="http://twistedsifter.files.wordpress.com/2013/05/adult-treehouse-camp-wandawega-lake-resort-wisconsin-12.jpg?w=500&amp;h=750" TargetMode="External"/><Relationship Id="rId22" Type="http://schemas.openxmlformats.org/officeDocument/2006/relationships/slide" Target="../slides/slide3.xml"/><Relationship Id="rId2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mojdom.zoznam.sk/gl/182328/1228418/Svojpomocne-postaveny-dom-na-strome-laka-dovolenkarov#infopanel" TargetMode="External"/><Relationship Id="rId2" Type="http://schemas.openxmlformats.org/officeDocument/2006/relationships/hyperlink" Target="http://mojdom.zoznam.sk/gl/182328/1228418/Svojpomocne-postaveny-dom-na-strome-laka-dovolenkarov#infopanel" TargetMode="External"/><Relationship Id="rId3" Type="http://schemas.openxmlformats.org/officeDocument/2006/relationships/hyperlink" Target="http://mojdom.zoznam.sk/gl/182328/1228418/Svojpomocne-postaveny-dom-na-strome-laka-dovolenkarov#infopanel" TargetMode="External"/><Relationship Id="rId4" Type="http://schemas.openxmlformats.org/officeDocument/2006/relationships/hyperlink" Target="http://mojdom.zoznam.sk/gl/182328/1228418/Svojpomocne-postaveny-dom-na-strome-laka-dovolenkarov#infopanel" TargetMode="External"/><Relationship Id="rId5" Type="http://schemas.openxmlformats.org/officeDocument/2006/relationships/hyperlink" Target="http://mojdom.zoznam.sk/gl/182328/1228418/Svojpomocne-postaveny-dom-na-strome-laka-dovolenkarov#infopanel" TargetMode="External"/><Relationship Id="rId6" Type="http://schemas.openxmlformats.org/officeDocument/2006/relationships/hyperlink" Target="http://mojdom.zoznam.sk/gl/182328/1228418/Svojpomocne-postaveny-dom-na-strome-laka-dovolenkarov#infopanel" TargetMode="External"/><Relationship Id="rId7" Type="http://schemas.openxmlformats.org/officeDocument/2006/relationships/hyperlink" Target="http://mojdom.zoznam.sk/gl/182328/1228418/Svojpomocne-postaveny-dom-na-strome-laka-dovolenkarov#infopanel" TargetMode="External"/><Relationship Id="rId8" Type="http://schemas.openxmlformats.org/officeDocument/2006/relationships/hyperlink" Target="http://mojdom.zoznam.sk/gl/182328/1228418/Svojpomocne-postaveny-dom-na-strome-laka-dovolenkarov#infopanel" TargetMode="External"/><Relationship Id="rId9" Type="http://schemas.openxmlformats.org/officeDocument/2006/relationships/hyperlink" Target="http://mojdom.zoznam.sk/gl/182328/1228418/Svojpomocne-postaveny-dom-na-strome-laka-dovolenkarov#infopanel" TargetMode="External"/><Relationship Id="rId10" Type="http://schemas.openxmlformats.org/officeDocument/2006/relationships/hyperlink" Target="http://mojdom.zoznam.sk/gl/182328/1228418/Svojpomocne-postaveny-dom-na-strome-laka-dovolenkarov#infopanel" TargetMode="External"/><Relationship Id="rId11" Type="http://schemas.openxmlformats.org/officeDocument/2006/relationships/hyperlink" Target="http://mojdom.zoznam.sk/gl/182328/1228418/Svojpomocne-postaveny-dom-na-strome-laka-dovolenkarov#infopanel" TargetMode="External"/><Relationship Id="rId12" Type="http://schemas.openxmlformats.org/officeDocument/2006/relationships/hyperlink" Target="http://mojdom.zoznam.sk/gl/182328/1228418/Svojpomocne-postaveny-dom-na-strome-laka-dovolenkarov#infopanel" TargetMode="External"/><Relationship Id="rId13" Type="http://schemas.openxmlformats.org/officeDocument/2006/relationships/hyperlink" Target="http://mojdom.zoznam.sk/gl/182328/1228418/Svojpomocne-postaveny-dom-na-strome-laka-dovolenkarov#infopanel" TargetMode="External"/><Relationship Id="rId14" Type="http://schemas.openxmlformats.org/officeDocument/2006/relationships/hyperlink" Target="http://mojdom.zoznam.sk/gl/182328/1228418/Svojpomocne-postaveny-dom-na-strome-laka-dovolenkarov#infopanel" TargetMode="External"/><Relationship Id="rId15" Type="http://schemas.openxmlformats.org/officeDocument/2006/relationships/hyperlink" Target="http://mojdom.zoznam.sk/gl/182328/1228418/Svojpomocne-postaveny-dom-na-strome-laka-dovolenkarov#infopanel" TargetMode="External"/><Relationship Id="rId16" Type="http://schemas.openxmlformats.org/officeDocument/2006/relationships/hyperlink" Target="http://mojdom.zoznam.sk/gl/182328/1228418/Svojpomocne-postaveny-dom-na-strome-laka-dovolenkarov#infopanel" TargetMode="External"/><Relationship Id="rId17" Type="http://schemas.openxmlformats.org/officeDocument/2006/relationships/hyperlink" Target="http://mojdom.zoznam.sk/gl/182328/1228418/Svojpomocne-postaveny-dom-na-strome-laka-dovolenkarov#infopanel" TargetMode="External"/><Relationship Id="rId18" Type="http://schemas.openxmlformats.org/officeDocument/2006/relationships/hyperlink" Target="http://mojdom.zoznam.sk/gl/182328/1228418/Svojpomocne-postaveny-dom-na-strome-laka-dovolenkarov#infopanel" TargetMode="External"/><Relationship Id="rId19" Type="http://schemas.openxmlformats.org/officeDocument/2006/relationships/slide" Target="../slides/slide4.xml"/><Relationship Id="rId20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s://www.loyalloot.com/shop/log-bowls" TargetMode="External"/><Relationship Id="rId2" Type="http://schemas.openxmlformats.org/officeDocument/2006/relationships/hyperlink" Target="https://www.loyalloot.com/shop/log-bowls" TargetMode="External"/><Relationship Id="rId3" Type="http://schemas.openxmlformats.org/officeDocument/2006/relationships/hyperlink" Target="https://www.loyalloot.com/shop/log-bowls" TargetMode="External"/><Relationship Id="rId4" Type="http://schemas.openxmlformats.org/officeDocument/2006/relationships/hyperlink" Target="https://www.loyalloot.com/shop/log-bowls" TargetMode="External"/><Relationship Id="rId5" Type="http://schemas.openxmlformats.org/officeDocument/2006/relationships/hyperlink" Target="https://www.loyalloot.com/shop/log-bowls" TargetMode="External"/><Relationship Id="rId6" Type="http://schemas.openxmlformats.org/officeDocument/2006/relationships/hyperlink" Target="https://www.loyalloot.com/shop/log-bowls" TargetMode="External"/><Relationship Id="rId7" Type="http://schemas.openxmlformats.org/officeDocument/2006/relationships/hyperlink" Target="https://www.loyalloot.com/shop/log-bowls" TargetMode="External"/><Relationship Id="rId8" Type="http://schemas.openxmlformats.org/officeDocument/2006/relationships/hyperlink" Target="https://www.loyalloot.com/shop/log-bowls" TargetMode="External"/><Relationship Id="rId9" Type="http://schemas.openxmlformats.org/officeDocument/2006/relationships/hyperlink" Target="https://www.loyalloot.com/shop/log-bowls" TargetMode="External"/><Relationship Id="rId10" Type="http://schemas.openxmlformats.org/officeDocument/2006/relationships/hyperlink" Target="http://www.pinterest.com/pin/4362930860371547/" TargetMode="External"/><Relationship Id="rId11" Type="http://schemas.openxmlformats.org/officeDocument/2006/relationships/hyperlink" Target="http://www.pinterest.com/pin/4362930860371547/" TargetMode="External"/><Relationship Id="rId12" Type="http://schemas.openxmlformats.org/officeDocument/2006/relationships/hyperlink" Target="http://www.pinterest.com/pin/4362930860371547/" TargetMode="External"/><Relationship Id="rId13" Type="http://schemas.openxmlformats.org/officeDocument/2006/relationships/hyperlink" Target="http://www.pinterest.com/pin/4362930860371547/" TargetMode="External"/><Relationship Id="rId14" Type="http://schemas.openxmlformats.org/officeDocument/2006/relationships/hyperlink" Target="http://www.pinterest.com/pin/4362930860371547/" TargetMode="External"/><Relationship Id="rId15" Type="http://schemas.openxmlformats.org/officeDocument/2006/relationships/hyperlink" Target="http://www.pinterest.com/pin/4362930860371547/" TargetMode="External"/><Relationship Id="rId16" Type="http://schemas.openxmlformats.org/officeDocument/2006/relationships/hyperlink" Target="http://www.pinterest.com/pin/4362930860371547/" TargetMode="External"/><Relationship Id="rId17" Type="http://schemas.openxmlformats.org/officeDocument/2006/relationships/slide" Target="../slides/slide5.xml"/><Relationship Id="rId18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ohua88.com/build-the-perfect-home-by-installing-kitchen-island/beautiful-kitchen-island/" TargetMode="External"/><Relationship Id="rId2" Type="http://schemas.openxmlformats.org/officeDocument/2006/relationships/hyperlink" Target="http://ohua88.com/build-the-perfect-home-by-installing-kitchen-island/beautiful-kitchen-island/" TargetMode="External"/><Relationship Id="rId3" Type="http://schemas.openxmlformats.org/officeDocument/2006/relationships/hyperlink" Target="http://ohua88.com/build-the-perfect-home-by-installing-kitchen-island/beautiful-kitchen-island/" TargetMode="External"/><Relationship Id="rId4" Type="http://schemas.openxmlformats.org/officeDocument/2006/relationships/hyperlink" Target="http://ohua88.com/build-the-perfect-home-by-installing-kitchen-island/beautiful-kitchen-island/" TargetMode="External"/><Relationship Id="rId5" Type="http://schemas.openxmlformats.org/officeDocument/2006/relationships/hyperlink" Target="http://ohua88.com/build-the-perfect-home-by-installing-kitchen-island/beautiful-kitchen-island/" TargetMode="External"/><Relationship Id="rId6" Type="http://schemas.openxmlformats.org/officeDocument/2006/relationships/hyperlink" Target="http://ohua88.com/build-the-perfect-home-by-installing-kitchen-island/beautiful-kitchen-island/" TargetMode="External"/><Relationship Id="rId7" Type="http://schemas.openxmlformats.org/officeDocument/2006/relationships/hyperlink" Target="http://ohua88.com/build-the-perfect-home-by-installing-kitchen-island/beautiful-kitchen-island/" TargetMode="External"/><Relationship Id="rId8" Type="http://schemas.openxmlformats.org/officeDocument/2006/relationships/hyperlink" Target="http://ohua88.com/build-the-perfect-home-by-installing-kitchen-island/beautiful-kitchen-island/" TargetMode="External"/><Relationship Id="rId9" Type="http://schemas.openxmlformats.org/officeDocument/2006/relationships/hyperlink" Target="http://ohua88.com/build-the-perfect-home-by-installing-kitchen-island/beautiful-kitchen-island/" TargetMode="External"/><Relationship Id="rId10" Type="http://schemas.openxmlformats.org/officeDocument/2006/relationships/hyperlink" Target="http://ohua88.com/build-the-perfect-home-by-installing-kitchen-island/beautiful-kitchen-island/" TargetMode="External"/><Relationship Id="rId11" Type="http://schemas.openxmlformats.org/officeDocument/2006/relationships/hyperlink" Target="http://ohua88.com/build-the-perfect-home-by-installing-kitchen-island/beautiful-kitchen-island/" TargetMode="External"/><Relationship Id="rId12" Type="http://schemas.openxmlformats.org/officeDocument/2006/relationships/hyperlink" Target="http://ohua88.com/build-the-perfect-home-by-installing-kitchen-island/beautiful-kitchen-island/" TargetMode="External"/><Relationship Id="rId13" Type="http://schemas.openxmlformats.org/officeDocument/2006/relationships/hyperlink" Target="http://ohua88.com/build-the-perfect-home-by-installing-kitchen-island/beautiful-kitchen-island/" TargetMode="External"/><Relationship Id="rId14" Type="http://schemas.openxmlformats.org/officeDocument/2006/relationships/hyperlink" Target="http://ohua88.com/build-the-perfect-home-by-installing-kitchen-island/beautiful-kitchen-island/" TargetMode="External"/><Relationship Id="rId15" Type="http://schemas.openxmlformats.org/officeDocument/2006/relationships/hyperlink" Target="http://ohua88.com/build-the-perfect-home-by-installing-kitchen-island/beautiful-kitchen-island/" TargetMode="External"/><Relationship Id="rId16" Type="http://schemas.openxmlformats.org/officeDocument/2006/relationships/hyperlink" Target="http://ohua88.com/build-the-perfect-home-by-installing-kitchen-island/beautiful-kitchen-island/" TargetMode="External"/><Relationship Id="rId17" Type="http://schemas.openxmlformats.org/officeDocument/2006/relationships/hyperlink" Target="http://ohua88.com/build-the-perfect-home-by-installing-kitchen-island/beautiful-kitchen-island/" TargetMode="External"/><Relationship Id="rId18" Type="http://schemas.openxmlformats.org/officeDocument/2006/relationships/hyperlink" Target="http://ohua88.com/build-the-perfect-home-by-installing-kitchen-island/beautiful-kitchen-island/" TargetMode="External"/><Relationship Id="rId19" Type="http://schemas.openxmlformats.org/officeDocument/2006/relationships/hyperlink" Target="http://ohua88.com/build-the-perfect-home-by-installing-kitchen-island/beautiful-kitchen-island/" TargetMode="External"/><Relationship Id="rId20" Type="http://schemas.openxmlformats.org/officeDocument/2006/relationships/slide" Target="../slides/slide7.xml"/><Relationship Id="rId21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ancy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hing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202282676961411395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indulgy.com/post/ZNwUpCsG71/bright-white-walls-and-warm-wood-floors-he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olalina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p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conten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upload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2011/05/3_1303304207_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Acevedo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_71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jp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ecois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2012-03-09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moder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coo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fancy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functiona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32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attic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bedro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design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idea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3.bp.blogspot.com/-hQspkZOwyiM/TjLE8-rL3rI/AAAAAAAAB64/KeyyprOvXkc/s1600/905img96l.1300796816.jp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: http://www.templeilluminatus.com/photo/tree-house-1?context=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wistedsifter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file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ordpres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2013/05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adul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treehous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camp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andawega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lak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resort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wisconsi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-12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jpg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?w=500&amp;h=750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jd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zozna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k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g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182328/1228418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Svojpomocn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postaveny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d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na-strome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laka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dovolenkarov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#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infopane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e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oyalloo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hop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log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bowl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http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pinteres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i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/4362930860371547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fancy.com/things/202282676961411395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ohua88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uild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h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erfec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hom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by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installing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kitche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island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beautifu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kitche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-island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www.houzz.com/photos/1547993/Southampton-Conservatory-traditional-porch-new-y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mojdom.zoznam.sk/gl/182328/1228418/Svojpomocne-postaveny-dom-na-strome-laka-dovolenkarov#infopa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578-F390-41C7-9731-4FC47A5A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1C4-162B-4FEE-AD8F-D0BA4C37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A60-BD71-4F0C-8207-3BDF3AAC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05F-4B5F-4CCB-B26C-3A41127F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89E-C09E-46EB-80EB-77A1B026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8BC-CC4E-40FD-BC83-4752DEE4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FDD-DF67-48FD-9611-6D95BF07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EE9-1BF4-437F-8D4F-64345D88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DB9-B48B-41D8-B17D-6ED68DE7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38B-E11D-4F8A-B353-EFB8A91C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7E6-A482-442D-BDA7-6F1A2BAE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020-53D0-4E38-87B7-D55D3BF2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36B0-20DF-4864-9C2E-23898FB21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0885_446661888751936_1456403330_n" descr=""/>
          <p:cNvPicPr/>
          <p:nvPr/>
        </p:nvPicPr>
        <p:blipFill>
          <a:blip r:embed="rId1"/>
          <a:stretch/>
        </p:blipFill>
        <p:spPr>
          <a:xfrm>
            <a:off x="0" y="-152388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9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20220000">
            <a:off x="686160" y="12949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cript"/>
              </a:rPr>
              <a:t>Ideální bydl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2ca28347e24cfcf1600cbe0fb3267db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3743a30494f82e3cd359e8719b08ca4" descr=""/>
          <p:cNvPicPr/>
          <p:nvPr/>
        </p:nvPicPr>
        <p:blipFill>
          <a:blip r:embed="rId1"/>
          <a:stretch/>
        </p:blipFill>
        <p:spPr>
          <a:xfrm>
            <a:off x="2209680" y="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ttic-bedroom-wood" descr=""/>
          <p:cNvPicPr/>
          <p:nvPr/>
        </p:nvPicPr>
        <p:blipFill>
          <a:blip r:embed="rId1"/>
          <a:stretch/>
        </p:blipFill>
        <p:spPr>
          <a:xfrm>
            <a:off x="1857240" y="154080"/>
            <a:ext cx="542952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543801_494538563964268_1388789972_n" descr=""/>
          <p:cNvPicPr/>
          <p:nvPr/>
        </p:nvPicPr>
        <p:blipFill>
          <a:blip r:embed="rId1"/>
          <a:stretch/>
        </p:blipFill>
        <p:spPr>
          <a:xfrm>
            <a:off x="914400" y="84240"/>
            <a:ext cx="75438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7f499480197ba7bd79078e86b9c4f63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07248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6324480"/>
            <a:ext cx="8382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40992212582e6079aedc5e9775cd2b4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627921909c5f629e286d045137cc026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47772_370714259680033_1554011017_n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457880" cy="5715000"/>
          </a:xfrm>
          <a:prstGeom prst="rect">
            <a:avLst/>
          </a:prstGeom>
          <a:ln w="0">
            <a:noFill/>
          </a:ln>
        </p:spPr>
      </p:pic>
      <p:pic>
        <p:nvPicPr>
          <p:cNvPr id="56" name="942393_488699787881479_863948955_n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26744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0885_446661888751936_1456403330_n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eautiful-kitchen-island-915x707" descr=""/>
          <p:cNvPicPr/>
          <p:nvPr/>
        </p:nvPicPr>
        <p:blipFill>
          <a:blip r:embed="rId1"/>
          <a:stretch/>
        </p:blipFill>
        <p:spPr>
          <a:xfrm>
            <a:off x="214200" y="61920"/>
            <a:ext cx="87156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5c7cb5e67151ffd6bbe86aa46624f0fb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627921909c5f629e286d045137cc026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6:35:37Z</dcterms:created>
  <dc:creator>Marketa</dc:creator>
  <dc:description/>
  <dc:language>en-US</dc:language>
  <cp:lastModifiedBy>Marketa</cp:lastModifiedBy>
  <dcterms:modified xsi:type="dcterms:W3CDTF">2013-11-03T21:58:46Z</dcterms:modified>
  <cp:revision>6</cp:revision>
  <dc:subject/>
  <dc:title>Prezentace aplikace PowerPoint</dc:title>
</cp:coreProperties>
</file>