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925-C22D-45B3-9181-76CB2120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804-C426-44FF-9F41-DB28E884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CDC-3C3F-4E5B-859B-1E16D884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48F-8554-4010-8C2D-A03F43C8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A7C-1582-454A-ABBF-5C7E0F71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E92-BABE-4F9F-8941-85F2CDB6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ADE-7D62-4D00-A8A3-CFA9377C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390-8544-4E42-AD50-FF9C6EE4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4A6-B95C-4E1A-800F-91CB9348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BE7-A3FD-467A-B43E-0A8C8E6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984-A70E-49A9-84B2-3C8F1D15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AD3-7580-4B2E-805A-7BA54512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A32F-057E-455D-87FF-4FBDE260E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ff"/>
                </a:solidFill>
                <a:latin typeface="Times New Roman"/>
              </a:rPr>
              <a:t>B</a:t>
            </a:r>
            <a:r>
              <a:rPr b="1" lang="en-US" sz="6600" spc="-1" strike="noStrike">
                <a:solidFill>
                  <a:srgbClr val="65f602"/>
                </a:solidFill>
                <a:latin typeface="Times New Roman"/>
              </a:rPr>
              <a:t>A</a:t>
            </a: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n-US" sz="6600" spc="-1" strike="noStrike">
                <a:solidFill>
                  <a:srgbClr val="65f602"/>
                </a:solidFill>
                <a:latin typeface="Times New Roman"/>
              </a:rPr>
              <a:t>V</a:t>
            </a:r>
            <a:r>
              <a:rPr b="1" lang="en-US" sz="6600" spc="-1" strike="noStrike">
                <a:solidFill>
                  <a:srgbClr val="cc00ff"/>
                </a:solidFill>
                <a:latin typeface="Times New Roman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Markéta Vejmělková, 3712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</a:rPr>
              <a:t>Koleje OLTEC (Václavská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ůvodně se jednalo o starý pavlačový bytový dům v zanedbaném a nevzhledném dvo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estice, rekonstrukce, pronájem bytových jednotek student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revné řešení je neotřelé, originální, přitahuje zrak – „nejlepší reklama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</a:rPr>
              <a:t>Koleje OLTEC (Václavská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ytový dům „rozzářil“ jinak nevzhledný dvů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člověk se cítí velmi příjemně obklopen zářivými barv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ympatické prostředí pro stude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ísto. kde má člověk chuť být, byd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etaily (barevně ohraničená okna, lampičk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1220_14170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131220_141740" descr=""/>
          <p:cNvPicPr/>
          <p:nvPr/>
        </p:nvPicPr>
        <p:blipFill>
          <a:blip r:embed="rId2"/>
          <a:stretch/>
        </p:blipFill>
        <p:spPr>
          <a:xfrm flipH="1" rot="10800000">
            <a:off x="4114800" y="30481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31220_14191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31220_141817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31220_14183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14:45:08Z</dcterms:created>
  <dc:creator>Marketa</dc:creator>
  <dc:description/>
  <dc:language>en-US</dc:language>
  <cp:lastModifiedBy>Marketa</cp:lastModifiedBy>
  <dcterms:modified xsi:type="dcterms:W3CDTF">2013-12-20T14:45:20Z</dcterms:modified>
  <cp:revision>1</cp:revision>
  <dc:subject/>
  <dc:title>BARVY</dc:title>
</cp:coreProperties>
</file>