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9E5-A66D-49EE-8B6E-ECB8BAD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5C9-F59C-4184-B2FC-2C5EBFE2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68F-5EE2-41D8-BD3E-DA43B13B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45E-4D61-409B-808C-B973206C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729-81A0-42AA-98E4-4AE1F11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0A2-2A1F-4818-9D98-A015AB94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024-6234-48BD-ADDB-8CD16CB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0C8-1309-4499-BD80-1FF3ECF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454-8335-4445-BA6A-83126D5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92E-BD4C-4E8F-95AB-95569EA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B86-070D-4855-A6A0-FAAEFDF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8D7-5FF5-48C8-BC36-0F20CB7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A80-D0C4-4DBD-922E-2ABAB584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ralovopole.brno.cz/" TargetMode="External"/><Relationship Id="rId2" Type="http://schemas.openxmlformats.org/officeDocument/2006/relationships/hyperlink" Target="http://www.encyklopedie.brna.cz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ěsts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část Brno – Královo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237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dislava Hladí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19670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293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353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sever od městského centra B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edí s městskými částmi Brno - střed, Brno - Žabovřesky, Brno - Komín, Brno - Medlánky, Brno - Řečkovice a Mokrá Hora, Brno - s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114 ulic a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byvatel (k 1.1. 2010): 27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38480" y="2070000"/>
            <a:ext cx="51055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pra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dobrá dostupnost z cent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ková sta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rava se soustředí hlavně v oblaste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ý tu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lackého tří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ges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rtov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2895480"/>
            <a:ext cx="50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7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ky a zel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žetěch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stel Nejsvětější Trojice, hrobka Markraběte Prokopa Lucemburské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náv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935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ětská hřiště a sport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rkur a fitness (Kartouzsk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nské nám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loupeckého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rčíková u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587920" cy="37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889080" cy="2654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ultura, život a sociální intera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mil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bovní sl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li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lovopolské tr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pro veřej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4005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ně parků, ale dostatek hřiš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tatek kulturních akcí pro děti i dospě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rá dostupnost informací a aktua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rava a byd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22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ciální webové stránky městské čtv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ralovopole.brn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droj některých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cyklopedie.brna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 pozor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5:06:14Z</dcterms:created>
  <dc:creator>Ladka</dc:creator>
  <dc:description/>
  <dc:language>en-US</dc:language>
  <cp:lastModifiedBy>Ladka</cp:lastModifiedBy>
  <dcterms:modified xsi:type="dcterms:W3CDTF">2014-02-15T08:29:42Z</dcterms:modified>
  <cp:revision>4</cp:revision>
  <dc:subject/>
  <dc:title>Městská část Brno – Královo Pole</dc:title>
</cp:coreProperties>
</file>