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6B7-5AFA-4FD5-A265-751BFFAC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AA0-D7AB-4199-94CA-FAFCE9C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A58-7CBC-45F9-A8B0-DA7CF604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2ED-0398-496A-9819-ACBEFE5B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7A1-FDF7-4D9E-B36A-4F923B70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B1C-AA26-490D-9F86-C561843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A9E-A17C-4F38-811E-0DAB2DC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863-3E79-436C-974D-13B4131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0D4-1429-46F0-9DCF-F85B0BBA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608-D894-4C6C-BB4D-CAA659C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EA8-2634-4400-9BC8-78B8DEC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9FE-DE9A-45D1-BE54-C4300E1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8F88-2BAF-4133-9120-99161D38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alovopole.brno.cz/" TargetMode="External"/><Relationship Id="rId2" Type="http://schemas.openxmlformats.org/officeDocument/2006/relationships/hyperlink" Target="http://www.encyklopedie.brna.cz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ěsts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část Brno – Královo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dislava Hlad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967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293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53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sever od městského centra B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edí s městskými částmi Brno - střed, Brno - Žabovřesky, Brno - Komín, Brno - Medlánky, Brno - Řečkovice a Mokrá Hora, Brno - s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114 ulic a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byvatel (k 1.1. 2010): 27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2070000"/>
            <a:ext cx="5105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pra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dobrá dostupnost z cen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kov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se soustředí hlavně v oblast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ý tu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tř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ge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ov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2895480"/>
            <a:ext cx="50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ky a zel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žetěch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stel Nejsvětější Trojice, hrobka Markraběte Prokopa Lucemburské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ná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ětská hřiště a sport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kur a fitness (Kartouz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rčíková u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587920" cy="37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89080" cy="265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ultura, život a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l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bovní sl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l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tr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ně parků, ale dostatek hři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tek kulturních akcí pro děti i dospě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á dostupnost informací a aktu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 a byd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ciální webové stránky městské čtv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ralovopole.brn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roj některých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klopedie.brna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 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5:06:14Z</dcterms:created>
  <dc:creator>Ladka</dc:creator>
  <dc:description/>
  <dc:language>en-US</dc:language>
  <cp:lastModifiedBy>Ladka</cp:lastModifiedBy>
  <dcterms:modified xsi:type="dcterms:W3CDTF">2014-02-15T08:29:42Z</dcterms:modified>
  <cp:revision>4</cp:revision>
  <dc:subject/>
  <dc:title>Městská část Brno – Královo Pole</dc:title>
</cp:coreProperties>
</file>