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26A-4911-430A-97A9-4F48E653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7DA-7E95-4D0B-92E6-D8C13EFC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C26-9272-454E-9967-A8AED176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846-4652-446F-87FA-B83D0531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EA7-C6B4-4554-8DB7-559F41B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60C-BAEB-427A-B09C-68044FA2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94F-2B83-4D4F-A1A0-976B0D7A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B82-1FC6-48DB-B434-DCB572CC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71E-76AE-4329-AC7D-52CC7CA3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B75-3749-4812-91EF-BCD8481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604-EF3A-41FB-8829-B66DB711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0D8-365D-4CBE-AC8D-D77BF298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27E-6F65-4C07-BAF3-46F76A824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alovopole.brno.cz/" TargetMode="External"/><Relationship Id="rId2" Type="http://schemas.openxmlformats.org/officeDocument/2006/relationships/hyperlink" Target="http://www.encyklopedie.brna.cz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ěsts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část Brno – Královo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dislava Hlad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967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293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53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sever od městského centra B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edí s městskými částmi Brno - střed, Brno - Žabovřesky, Brno - Komín, Brno - Medlánky, Brno - Řečkovice a Mokrá Hora, Brno - s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em 114 ulic a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byvatel (k 1.1. 2010): 27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2070000"/>
            <a:ext cx="5105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pra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dobrá dostupnost z cen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ková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a se soustředí hlavně v oblast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ý tu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lackého tř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ges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rtov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2895480"/>
            <a:ext cx="50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ky a zel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žetěch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stel Nejsvětější Trojice, hrobka Markraběte Prokopa Lucemburské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ná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ětská hřiště a sport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kur a fitness (Kartouzs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rčíková u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587920" cy="37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89080" cy="265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ultura, život a sociální 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mil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bovní sl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li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tr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pro veře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ně parků, ale dostatek hři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tek kulturních akcí pro děti i dospě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á dostupnost informací a aktua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ava a byd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ciální webové stránky městské čtv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ralovopole.brno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droj některých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klopedie.brna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 pozo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5:06:14Z</dcterms:created>
  <dc:creator>Ladka</dc:creator>
  <dc:description/>
  <dc:language>en-US</dc:language>
  <cp:lastModifiedBy>Ladka</cp:lastModifiedBy>
  <dcterms:modified xsi:type="dcterms:W3CDTF">2014-02-15T08:29:42Z</dcterms:modified>
  <cp:revision>4</cp:revision>
  <dc:subject/>
  <dc:title>Městská část Brno – Královo Pole</dc:title>
</cp:coreProperties>
</file>