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268-4E05-41EB-9D74-8418397C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2C8-1623-4709-8326-E62B0904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A1E-0453-4292-8C49-35C42521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E5F-5BA7-45EF-8442-5CF71ACD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46E-604F-49A3-B499-FB315B01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370-8192-459E-9632-55CE954A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04D-40CF-40EF-931C-3F6A5730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8C9-1FFD-4316-B29F-5C66E844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4EF-F880-4C03-BF28-38BAF776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6DE-BF22-4DC7-A8D2-CCE2A074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E6B-863C-432F-B35C-3729C905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058-7A5F-4F10-8621-890F5873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2D8B-1F4E-477E-94A8-A30425616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alovopole.brno.cz/" TargetMode="External"/><Relationship Id="rId2" Type="http://schemas.openxmlformats.org/officeDocument/2006/relationships/hyperlink" Target="http://www.encyklopedie.brna.cz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ěsts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část Brno – Královo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23700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dislava Hlad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9670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293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53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sever od městského centra Br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edí s městskými částmi Brno - střed, Brno - Žabovřesky, Brno - Komín, Brno - Medlánky, Brno - Řečkovice a Mokrá Hora, Brno - se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em 114 ulic a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byvatel (k 1.1. 2010): 27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2070000"/>
            <a:ext cx="51055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pra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mi dobrá dostupnost z cent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ková st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rava se soustředí hlavně v oblaste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ý tu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lackého tří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ges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rtov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67280" y="2895480"/>
            <a:ext cx="50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ky a zel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žetěch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stel Nejsvětější Trojice, hrobka Markraběte Prokopa Lucemburské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náv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9355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ětská hřiště a sport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kur a fitness (Kartouzsk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rčíková u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587920" cy="37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905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3889080" cy="2654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ultura, život a sociální intera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mil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bovní sla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li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tr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ce pro veře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305928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3924360" cy="261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ně parků, ale dostatek hřiš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atek kulturních akcí pro děti i dospě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á dostupnost informací a aktua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rava a byd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ku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iciální webové stránky městské čtv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ralovopole.brno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droj některých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cyklopedie.brna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ní pozor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5:06:14Z</dcterms:created>
  <dc:creator>Ladka</dc:creator>
  <dc:description/>
  <dc:language>en-US</dc:language>
  <cp:lastModifiedBy>Ladka</cp:lastModifiedBy>
  <dcterms:modified xsi:type="dcterms:W3CDTF">2014-02-15T08:29:42Z</dcterms:modified>
  <cp:revision>4</cp:revision>
  <dc:subject/>
  <dc:title>Městská část Brno – Královo Pole</dc:title>
</cp:coreProperties>
</file>