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7A3-0C41-43F4-8CC6-623A9650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542-8BC0-40E3-AE25-4BF3BE72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61F-8615-4254-B291-A5887962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9FC-1234-47C2-8216-2B46676C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D2B-DDFF-4AB8-968B-0138003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D34-5FBC-4D67-809D-80E9A6C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434-AFD7-4EB5-98C0-4085B1A2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D50-EB3C-483A-A1C9-A0DE69B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D68-86CE-40F3-AFB4-708947BD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428-E123-40F1-9BD1-EB2C269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262-3B4E-4190-AD8E-EF223FA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801-87F4-48DD-982F-DC75FC7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E038-5AE3-40ED-A062-0DDFB09C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alovopole.brno.cz/" TargetMode="External"/><Relationship Id="rId2" Type="http://schemas.openxmlformats.org/officeDocument/2006/relationships/hyperlink" Target="http://www.encyklopedie.brna.cz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ěsts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část Brno – Královo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dislava Hlad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967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293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53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sever od městského centra B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edí s městskými částmi Brno - střed, Brno - Žabovřesky, Brno - Komín, Brno - Medlánky, Brno - Řečkovice a Mokrá Hora, Brno - s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114 ulic a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byvatel (k 1.1. 2010): 27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2070000"/>
            <a:ext cx="5105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pra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dobrá dostupnost z cen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kov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se soustředí hlavně v oblast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ý tu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tř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ge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ov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2895480"/>
            <a:ext cx="50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ky a zel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žetěch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stel Nejsvětější Trojice, hrobka Markraběte Prokopa Lucemburské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ná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ětská hřiště a sport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kur a fitness (Kartouz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rčíková u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587920" cy="37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89080" cy="265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ultura, život a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l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bovní sl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l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tr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ně parků, ale dostatek hři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tek kulturních akcí pro děti i dospě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á dostupnost informací a aktu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 a byd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ciální webové stránky městské čtv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ralovopole.brn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roj některých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klopedie.brna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 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5:06:14Z</dcterms:created>
  <dc:creator>Ladka</dc:creator>
  <dc:description/>
  <dc:language>en-US</dc:language>
  <cp:lastModifiedBy>Ladka</cp:lastModifiedBy>
  <dcterms:modified xsi:type="dcterms:W3CDTF">2014-02-15T08:29:42Z</dcterms:modified>
  <cp:revision>4</cp:revision>
  <dc:subject/>
  <dc:title>Městská část Brno – Královo Pole</dc:title>
</cp:coreProperties>
</file>