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80A6-EA28-4DAA-BE14-A5752022B27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DE8D-F331-47A5-ACED-1DED8A703104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4AEE-FC8D-4E88-993D-17DF818F910C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111C-7E8C-4541-8070-8DD7F38F87B8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55A7-6187-43C4-AB56-EB27957C8645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C451-6568-4A53-909D-AF5AE4C81D24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D445-0013-4D11-9055-7750243EB4A4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DC80-7DB7-4EBC-9847-691BDB131218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E1A9-58AA-4626-B6C8-578C5700A3AA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8647-1986-42BB-88F6-AC3F928BC636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46C7-0ED2-4025-B098-7DEAEDDDA54B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8175-815F-4E47-9CD7-F94D501D1792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C287-E969-479F-B0C5-CF1C8759869A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E7C9-A1F5-43A2-9147-03A3035CC685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E4E2-1900-41F4-A32E-03B38B6D792C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C50B-69E0-4942-88C0-6BAF3884D175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2797-5532-4A53-B18B-A6CFDBED54D0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5122-DA1D-4F23-BE37-65C3C4B64B04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A967-E82D-43E9-8C4E-981CA02F1A6D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1E21-4BAB-41A1-8997-38CDA373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148B-7731-42EE-A345-E0C8E9AE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A213-2F7A-4D6C-82F8-15CAA45B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5CE6-2DBA-4E69-BC4B-3B197A73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C2B8-ED2A-407B-BC95-5815E2FF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455A-4B4C-4157-8742-157EEAAC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E612-DF9E-4165-A46F-616F36AB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14D2-175E-4A82-90D7-1590BC2A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A721-6AAA-4DB0-B892-346AEAA7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8FB8-5F2D-4A89-BAA0-24763064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192A-CEB2-484B-A776-D8C4A382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93BC-5B74-483B-87CB-6AB4935D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50B1-FC18-4B5D-BBEA-EDDEE11E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2EB5-2C85-4904-8B73-658B03A4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CB0D-48A2-4C22-B6D0-16B23634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E557-09CC-4C43-870E-EDE32F99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7403-DA96-4F54-AB43-A1405E2F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4750-CA40-42C0-84DB-3D1811A0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4EED-84DF-4AE0-B563-58CA9984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F56D-6336-414F-94BF-FD135EE0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269B-D065-44AD-995B-652135D9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F397-0A5F-45DE-B22B-C2ACED69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2852-3477-4639-AED5-9E0D7098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2893-C0F6-4017-8BCD-786483E6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1971-A4FE-4317-9052-C543D48EEA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0315-9771-4200-B5C2-C47C41C7C36E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KMA05</a:t>
            </a:r>
            <a:br>
              <a:rPr sz="16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znalost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. 11. 2013: Formální struktura dokumentu, reprezentace dokumentu (P7+K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F MU, podzim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26172@mail.muni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GML – příklad 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OKUMEN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dresa stát="c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cccc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sob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cccc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ul&gt;Mgr.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itul&gt;&lt;k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řestní jmén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Josef&lt;k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řestní jmén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říjmení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hwarz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příjmení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cccc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sob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cccc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ulice&gt;Přecechtělova&lt;/ulice&gt; &lt;číslo_orientační&gt;2432&lt;/číslo_orientační&gt;/&lt;číslo_popisné&gt;29&lt;/číslo_popisné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cccc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S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55 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S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ěs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ah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měs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ěstská čá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3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městská čá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dresa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DOKU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GML – příklad 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OKUMEN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dresa stát=„cs“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cccc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bjekt typ=„osoba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cccc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ul&gt;Mgr.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itul&gt;&lt;k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řestní jmén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Josef&lt;k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řestní jmén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říjmení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hwarz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příjmení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cccc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subjek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cccc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ulice&gt;Přecechtělova&lt;/ulice&gt; &lt;číslo_orientační&gt;2432&lt;/číslo_orientační&gt;/&lt;číslo_popisné&gt;29&lt;/číslo_popisné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cccc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S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55 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S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ěs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ah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měs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ěstská čá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3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městská čá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dresa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DOKU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GML – příklad 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mární vina na tom všem je na Miloši Zemanovi. Pro něho není omluvy. Pokud opravdu šlo o nevinnou schůzku politických předáků u hlavy státu, pak bylo zásadní a neodpustitelnou chybou schůzku tajit a načasovat ji na chvíli, o které muselo být zjevné, že bude pro volbami poškozenou stranu těžko stravitelná. Pokud ale šlo o schůzku spikleneckou, což je pravděpodobnější než první varianta tak asi v poměru 5 : 95, pak šlo o činnost označitelnou za vlastizradu. Prezident má funkci definovanou ústavou a v žádném článku ústavy nenajdeme paragraf ve znění "prezident osobně zasahuje do interních záležitostí politických stran a provádí změny v jejich vedení". Momentálně je Miloš Zeman pro českou demokracii větší nebezpečí než komunisté, neonacisté a okamurovci dohromady. Úplně hloupý ale není. Po svém osobním katastrofálním fiasku se hodil marod, udělal si koleno a nějakou dobu se bude skrývat v Lán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: Neviditelný pes, 1. 11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GML – příklad 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kument typ=„politický komentář“ země=„ČR“ čas=„2013-11-01“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dstavec typ=„hodnocení“ typ=„spekulace“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imární vina na tom všem je n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jekt typ=„osoba“ podtyp=„politik“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iloši Zemanov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subjek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Pro něho není omluvy.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olitická jednání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kud opravdu šlo o nevinnou schůzku politických předáků u hlavy státu, pak bylo zásadní a neodpustitelnou chybou schůzku tajit a načasovat ji na chvíli, o které muselo být zjevné, že bude pro volbami poškozenou stranu těžko stravitelná. Pokud ale šlo o schůzku spikleneckou, což je pravděpodobnější než první varianta tak asi v poměru 5 : 95, pak šlo o činnost označitelnou za vlastizradu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politická jednání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ole ústavního činitele typ=„role prezidenta“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ezident má funkci definovanou ústavou a v žádném článku ústavy nenajdeme paragraf ve znění "prezident osobně zasahuje do interních záležitostí politických stran a provádí změny v jejich vedení"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role ústavního činite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Momentálně j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jekt typ=„osoba“ podtyp=„politik“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iloš Zema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subjek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ro českou demokracii větší nebezpečí než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jekt typ=„organizace“ podtyp=„politická strana“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munisté, neonacisté a okamurovc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subjek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dohromady. Úplně hloupý ale není. Po svém osobním katastrofálním fiasku se hodil marod, udělal si koleno a nějakou dobu se bude skrývat v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m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ísto typ=„obec“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áne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m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í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o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odstave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dokum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nalýza právních textů</a:t>
            </a:r>
            <a:br>
              <a:rPr sz="42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řenský – Cvrček – Novák: Juristická a lingvistická analýza právních textů. Praha: Academia, 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. Typologie dokument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. podle dru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ávní předpi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oudní rozhodnu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ndividuální rozhodnutí a normativní instrukce státní sprá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ůvodové zprá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vrhy a projekty zákonů a dalších předpis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áznamy parlamentních deb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sledky připomínkových říz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mentář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učebnice, skripta a odborné monograf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dborné člán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xperti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ehledy platných právních předp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nalýza právních textů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. Typologie dokument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2. Podle formy publik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ficiální sbír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oficiální sbír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ni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dborné časopi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jednotlivé dokumenty uložené v archivech instituc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3. Podle vztahu k původnímu zně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ůvod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uprave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bohace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etadokumenty nebo adre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nalýza právních textů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B. Struktura položek v základním slovníku (LEMM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. Základní slovní tv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2. Ty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peciální zna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Číslice, římské čísl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kratky s tečkou (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Sb.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),  zkratky bez tečky (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ČR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omocné znaky (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lovenská slo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izí slova (ne chemické vzorce, ne názvy nemocí apo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3. Slovní dru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4. R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5. Život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6. Příslušnost ke kmenové sémantické skupině (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daně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zdanění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danit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7. Typy právních význam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8. Čet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9. Číslo základního slovního tva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nalýza právních textů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. Sémantika morfologicko-syntagmatických typ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íklad –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šk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A – S: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případná / věcná / hrozí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S – S: 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velkého rozsahu / značného rozsa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S – praep S: 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na zdraví / na majetku / na pozem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S – VF: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vznikla / přesahuje / hroz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VF – S: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zavinil / způsobil / zabránil (škodu/škodě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VF – praep S: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dochází (ke škodám) / odpovídá (za škod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S – (praep) S: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zjišťování / náhrada / úhrada (škody) / odpovědnost (za 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škod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INF – S: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zabránit (škodě) / nahradit (škod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INF – praep S: 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odpovídat (za škod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émantické hodnocení vaze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d A -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Věcná povaha šk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Vyjádření původu a příčiny šk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Kvantitativní hodnocení šk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polečenské hodnocení šk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odel morfologicko-syntagmatické struktu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nalýza právních textů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. Výrazová segmentace tex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. Vztah mezi formální větou a textovou strukturac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F. Výskyt vyhledávaných syntagmat v segmentech tex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. Distinktivní vlastnosti spojovacích prostředků (spojky a obdobné výraz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. Morfologie, gramatika, sémantika právních text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. Struktura právních textů a jejich formální vzta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J. Využi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1. Tvorba právních předpis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Formulace koncepčního zámě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Koncepce konkrétní legislativní úprav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Zjišťování kontextových souvislost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Právnělingvistická podpora legislativní činnos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Vytváření úplných znění právních předpis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Zpracování důvodových  zprá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Příprava legislativních výzkum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2. Tvorba právní termin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3. Tvorba oborových klasifikací a tezaur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4. Vyhledávání v oborových databází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Osnov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hled (minulých a budoucích) té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ktická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hodnocení + tři prezentace (komb. stu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oretická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ní texty – struk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adání 7. dílčího kroku 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ŘEHLED TÉ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řehled (minulých) té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é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stupy ke KO, doménová analý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ntologie, epistemologie, teleologie (pojem, metafo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tegorie, kategorizace, klasifikace (tradiční vs kognitivistický přístup: prototypy, bázové kategor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rmíny a termi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tace a notační syst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k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olba domé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af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totypy a bázové katego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prezentace po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vrh notačního systé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řehled (budoucích) té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Formální struktura dokumentu, reprezentace dokumen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cesy organizace znalost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ntolog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niverzální klasifikační systé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ystémy založené na přirozeném jazy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prezentace a vizualizace znalost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ávěrečná hodina - t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raktická část</a:t>
            </a:r>
            <a:br>
              <a:rPr sz="42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 krok č.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blé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setinná no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osti (expresivnost, pohostinnost, syntéz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STRUKTURA DOKUMENTU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Formální struktura doku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radič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1, příklad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Elektronick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GML (ISO 8879:19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á struktura dokumentu a další atribu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ML,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GML – příklad 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ecechtělova 2432/2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55 00 Prah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13-11-01T14:46:07Z</dcterms:modified>
  <cp:revision>236</cp:revision>
  <dc:subject/>
  <dc:title>Selekční jazyky</dc:title>
</cp:coreProperties>
</file>