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EBD9E-A967-444E-8C34-D6EE67DF0EF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CC5FE-CE13-4AC2-8D2C-1D3407E45403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E2733-81AD-4FBD-AC97-7360F45BBF2E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BE796-32DF-47BA-BF8E-22A08FE06FD0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4A3A5-BE43-4597-BA78-F28E98A9DA86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46EF5-71AB-40D7-993A-AFA07C29B3F7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BE8F7-B7C3-4C7F-BD73-047067047048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02652-89F0-488A-9E94-B0D333CB0AC3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A37DF-5592-4EF9-9B48-C692147AA3E7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4D779-1DD6-45D0-8F96-0C969E3FAE05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34217-638A-469B-8523-91000CC4ADAD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B47D8-29E2-431C-8A56-B6C41DD08D20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DBAF1-4568-48BD-8452-25FA2CC22510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61CBC-B4F2-487D-95C7-FB03973C19F8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A65CA-1A62-455A-9802-8F9CACD4B4DE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8EC9C-BB20-4175-A2FA-3AFEE6F0D2D0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40EB9-E0D2-4667-BE69-5128A0294B4F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A40E9-404E-487F-A6B7-92D084568335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E8699-CDEA-4D8B-A203-27829335BE1A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53BF-D8F4-4103-89C5-4811E47C3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41F1-9050-412F-8DC8-37AB9ED6E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5A5A-4C31-4123-B2EC-4A7C6280E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EBBB-1FE1-4227-8D96-88CF96BAF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FEB11-4050-41E1-8A67-4623B4729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323B1-2AE9-4A7B-AFF6-7DF3E932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69A3D-54EB-4778-9FE6-76F9BF6EF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02259-B89D-4EF7-99D0-332F824A0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AE2E1-25FA-4C8D-B49E-7E1FFDB12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9EAC1-5294-470A-9BF7-DABAC5C59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ECEF1-A0D7-423E-86A4-DA2C7E81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C258-45D3-4CAF-BE06-899078470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6D301-DE0A-4776-8BF8-E755FE20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1C47E-BE7C-43A3-8BE9-74583B32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72371-D0A5-4336-B842-CB4014C26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FF387-8A1D-4D2D-BA97-3B8794FDC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65369-9F21-434B-98F7-CCBB6AA59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6253-BC64-44F6-9D92-DAA368078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DAB6-03BC-4A45-AC81-751F54F31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934E-FC05-4127-8FBF-528674D03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7D10-DBA8-435A-B656-4B493E64D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3A97-56EB-44DA-9513-34687BFE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F795-2021-41AE-9D73-B60AD57D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50D6-BDFF-499E-BE86-C0DC1530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A2ECB-9024-4804-8DD2-A087F1A5C11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28E29-78D7-4456-A245-C61BD63F83E3}" type="slidenum">
              <a:rPr b="0" lang="cs-CZ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0560" y="1371600"/>
            <a:ext cx="70930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IKMA05</a:t>
            </a:r>
            <a:br>
              <a:rPr sz="16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Organizace znalostí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133360" y="3733920"/>
            <a:ext cx="6476760" cy="27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. 11. 2013: Formální struktura dokumentu, reprezentace dokumentu (P7+K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F MU, podzim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gr. Josef Schwar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26172@mail.muni.c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GML – příklad 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DOKUMENT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dresa stát="cs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100000"/>
              </a:lnSpc>
              <a:spcBef>
                <a:spcPts val="451"/>
              </a:spcBef>
              <a:buClr>
                <a:srgbClr val="cccccc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sob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100000"/>
              </a:lnSpc>
              <a:spcBef>
                <a:spcPts val="451"/>
              </a:spcBef>
              <a:buClr>
                <a:srgbClr val="cccccc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itul&gt;Mgr.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titul&gt;&lt;k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řestní jmén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Josef&lt;k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řestní jmén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lt;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říjmení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hwarz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příjmení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100000"/>
              </a:lnSpc>
              <a:spcBef>
                <a:spcPts val="451"/>
              </a:spcBef>
              <a:buClr>
                <a:srgbClr val="cccccc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osob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100000"/>
              </a:lnSpc>
              <a:spcBef>
                <a:spcPts val="451"/>
              </a:spcBef>
              <a:buClr>
                <a:srgbClr val="cccccc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ulice&gt;Přecechtělova&lt;/ulice&gt; &lt;číslo_orientační&gt;2432&lt;/číslo_orientační&gt;/&lt;číslo_popisné&gt;29&lt;/číslo_popisné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100000"/>
              </a:lnSpc>
              <a:spcBef>
                <a:spcPts val="451"/>
              </a:spcBef>
              <a:buClr>
                <a:srgbClr val="cccccc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S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55 0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S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&lt;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ěst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aha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měst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&lt;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ěstská čá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3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městská čá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adresa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DOKUM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GML – příklad 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DOKUMENT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dresa stát=„cs“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100000"/>
              </a:lnSpc>
              <a:spcBef>
                <a:spcPts val="451"/>
              </a:spcBef>
              <a:buClr>
                <a:srgbClr val="cccccc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ubjekt typ=„osoba“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100000"/>
              </a:lnSpc>
              <a:spcBef>
                <a:spcPts val="451"/>
              </a:spcBef>
              <a:buClr>
                <a:srgbClr val="cccccc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itul&gt;Mgr.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titul&gt;&lt;k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řestní jmén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Josef&lt;k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řestní jmén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lt;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říjmení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hwarz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příjmení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100000"/>
              </a:lnSpc>
              <a:spcBef>
                <a:spcPts val="451"/>
              </a:spcBef>
              <a:buClr>
                <a:srgbClr val="cccccc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subjek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100000"/>
              </a:lnSpc>
              <a:spcBef>
                <a:spcPts val="451"/>
              </a:spcBef>
              <a:buClr>
                <a:srgbClr val="cccccc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ulice&gt;Přecechtělova&lt;/ulice&gt; &lt;číslo_orientační&gt;2432&lt;/číslo_orientační&gt;/&lt;číslo_popisné&gt;29&lt;/číslo_popisné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100000"/>
              </a:lnSpc>
              <a:spcBef>
                <a:spcPts val="451"/>
              </a:spcBef>
              <a:buClr>
                <a:srgbClr val="cccccc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S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55 0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S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&lt;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ěst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aha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měst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&lt;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ěstská čá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3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městská čá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adresa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DOKUM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GML – příklad 2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imární vina na tom všem je na Miloši Zemanovi. Pro něho není omluvy. Pokud opravdu šlo o nevinnou schůzku politických předáků u hlavy státu, pak bylo zásadní a neodpustitelnou chybou schůzku tajit a načasovat ji na chvíli, o které muselo být zjevné, že bude pro volbami poškozenou stranu těžko stravitelná. Pokud ale šlo o schůzku spikleneckou, což je pravděpodobnější než první varianta tak asi v poměru 5 : 95, pak šlo o činnost označitelnou za vlastizradu. Prezident má funkci definovanou ústavou a v žádném článku ústavy nenajdeme paragraf ve znění "prezident osobně zasahuje do interních záležitostí politických stran a provádí změny v jejich vedení". Momentálně je Miloš Zeman pro českou demokracii větší nebezpečí než komunisté, neonacisté a okamurovci dohromady. Úplně hloupý ale není. Po svém osobním katastrofálním fiasku se hodil marod, udělal si koleno a nějakou dobu se bude skrývat v Láne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droj: Neviditelný pes, 1. 11.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GML – příklad 2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10920" y="190512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okument typ=„politický komentář“ země=„ČR“ čas=„2013-11-01“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lt;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odstavec typ=„hodnocení“ typ=„spekulace“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imární vina na tom všem je na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ubjekt typ=„osoba“ podtyp=„politik“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iloši Zemanovi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subjek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 Pro něho není omluvy.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olitická jednání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kud opravdu šlo o nevinnou schůzku politických předáků u hlavy státu, pak bylo zásadní a neodpustitelnou chybou schůzku tajit a načasovat ji na chvíli, o které muselo být zjevné, že bude pro volbami poškozenou stranu těžko stravitelná. Pokud ale šlo o schůzku spikleneckou, což je pravděpodobnější než první varianta tak asi v poměru 5 : 95, pak šlo o činnost označitelnou za vlastizradu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politická jednání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ole ústavního činitele typ=„role prezidenta“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ezident má funkci definovanou ústavou a v žádném článku ústavy nenajdeme paragraf ve znění "prezident osobně zasahuje do interních záležitostí politických stran a provádí změny v jejich vedení"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role ústavního činitel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Momentálně j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ubjekt typ=„osoba“ podtyp=„politik“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iloš Zema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subjek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pro českou demokracii větší nebezpečí než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ubjekt typ=„organizace“ podtyp=„politická strana“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omunisté, neonacisté a okamurovci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subjek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dohromady. Úplně hloupý ale není. Po svém osobním katastrofálním fiasku se hodil marod, udělal si koleno a nějakou dobu se bude skrývat v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m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ísto typ=„obec“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Lánech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m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í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o&gt;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odstave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lt;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dokume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Analýza právních textů</a:t>
            </a:r>
            <a:br>
              <a:rPr sz="42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ořenský – Cvrček – Novák: Juristická a lingvistická analýza právních textů. Praha: Academia, 19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A. Typologie dokument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. podle dru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rávní předpis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soudní rozhodnut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individuální rozhodnutí a normativní instrukce státní správ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ůvodové zpráv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ávrhy a projekty zákonů a dalších předpis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záznamy parlamentních deb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ýsledky připomínkových říze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komentář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učebnice, skripta a odborné monograf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dborné člán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expertiz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řehledy platných právních předp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Analýza právních textů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A. Typologie dokument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2. Podle formy publik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ficiální sbír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eoficiální sbír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kni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dborné časopis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jednotlivé dokumenty uložené v archivech instituc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3. Podle vztahu k původnímu zně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ůvod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upraven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bohacen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etadokumenty nebo adres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Analýza právních textů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B. Struktura položek v základním slovníku (LEMM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. Základní slovní tv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2. Ty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3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Speciální zna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3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Číslice, římské čísl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3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Zkratky s tečkou (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Sb.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),  zkratky bez tečky (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ČR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3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Pomocné znaky (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3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Slovenská slo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3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Cizí slova (ne chemické vzorce, ne názvy nemocí apod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3. Slovní dru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4. R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5. Životn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6. Příslušnost ke kmenové sémantické skupině (</a:t>
            </a:r>
            <a:r>
              <a:rPr b="1" i="1" lang="cs-CZ" sz="1600" spc="-1" strike="noStrike">
                <a:solidFill>
                  <a:srgbClr val="000000"/>
                </a:solidFill>
                <a:latin typeface="Arial"/>
              </a:rPr>
              <a:t>daně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cs-CZ" sz="1600" spc="-1" strike="noStrike">
                <a:solidFill>
                  <a:srgbClr val="000000"/>
                </a:solidFill>
                <a:latin typeface="Arial"/>
              </a:rPr>
              <a:t>zdanění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cs-CZ" sz="1600" spc="-1" strike="noStrike">
                <a:solidFill>
                  <a:srgbClr val="000000"/>
                </a:solidFill>
                <a:latin typeface="Arial"/>
              </a:rPr>
              <a:t>danit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7. Typy právních význam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8. Četn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9. Číslo základního slovního tva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Analýza právních textů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C. Sémantika morfologicko-syntagmatických typ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říklad – </a:t>
            </a:r>
            <a:r>
              <a:rPr b="1" i="1" lang="cs-CZ" sz="1600" spc="-1" strike="noStrike">
                <a:solidFill>
                  <a:srgbClr val="000000"/>
                </a:solidFill>
                <a:latin typeface="Arial"/>
              </a:rPr>
              <a:t>ško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3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A – S: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případná / věcná / hrozíc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3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S – S: 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velkého rozsahu / značného rozsah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3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S – praep S: 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na zdraví / na majetku / na pozemk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3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S – VF: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vznikla / přesahuje / hroz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3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VF – S: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zavinil / způsobil / zabránil (škodu/škodě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3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VF – praep S: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dochází (ke škodám) / odpovídá (za škod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3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S – (praep) S: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zjišťování / náhrada / úhrada (škody) / odpovědnost (za 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škod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3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INF – S: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zabránit (škodě) / nahradit (škod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3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INF – praep S: 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odpovídat (za škod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Sémantické hodnocení vazeb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3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Ad A -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3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Věcná povaha šk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3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Vyjádření původu a příčiny šk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3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Kvantitativní hodnocení šk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3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Společenské hodnocení šk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odel morfologicko-syntagmatické struktu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Analýza právních textů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. Výrazová segmentace tex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E. Vztah mezi formální větou a textovou strukturac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F. Výskyt vyhledávaných syntagmat v segmentech tex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G. Distinktivní vlastnosti spojovacích prostředků (spojky a obdobné výraz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H. Morfologie, gramatika, sémantika právních text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I. Struktura právních textů a jejich formální vzta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J. Využit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1. Tvorba právních předpis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24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Formulace koncepčního zámě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24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Koncepce konkrétní legislativní úprav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24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Zjišťování kontextových souvislost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24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Právnělingvistická podpora legislativní činnost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24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Vytváření úplných znění právních předpis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24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Zpracování důvodových  zprá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24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Příprava legislativních výzkum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2. Tvorba právní terminolog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3. Tvorba oborových klasifikací a tezaur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4. Vyhledávání v oborových databází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Osnov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hled (minulých a budoucích) té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aktická čá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hodnocení + tři prezentace (komb. stu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oretická čá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G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ávní texty – struk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Zadání 7. dílčího kroku 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PŘEHLED TÉ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63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Přehled (minulých) té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ém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v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stupy ke KO, doménová analý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ntologie, epistemologie, teleologie (pojem, metafo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ategorie, kategorizace, klasifikace (tradiční vs kognitivistický přístup: prototypy, bázové kategori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rmíny a termin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otace a notační systé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ko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olba domé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etaf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totypy a bázové kategor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prezentace poj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vrh notačního systé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Přehled (budoucích) té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Formální struktura dokumentu, reprezentace dokument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rocesy organizace znalost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Ontolog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Univerzální klasifikační systém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ystémy založené na přirozeném jazy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Reprezentace a vizualizace znalost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ávěrečná hodina - te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Praktická část</a:t>
            </a:r>
            <a:br>
              <a:rPr sz="42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A krok č.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roblém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esetinná not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lastnosti (expresivnost, pohostinnost, syntéz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STRUKTURA DOKUMENTU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Formální struktura dokumen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radič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bs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klad1, příklad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Elektronická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GML (ISO 8879:198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ecná struktura dokumentu a další atribu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TML, 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GML – příklad 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Mgr. Josef Schwar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ecechtělova 2432/2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155 00 Prah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21:06:36Z</dcterms:created>
  <dc:creator>J.Schwarz</dc:creator>
  <dc:description/>
  <dc:language>en-US</dc:language>
  <cp:lastModifiedBy>Josef Schwarz</cp:lastModifiedBy>
  <dcterms:modified xsi:type="dcterms:W3CDTF">2013-11-01T14:46:07Z</dcterms:modified>
  <cp:revision>236</cp:revision>
  <dc:subject/>
  <dc:title>Selekční jazyky</dc:title>
</cp:coreProperties>
</file>