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FFDB-018B-4E45-AA2C-0A2D3D918DC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F1EA-C08D-48E0-8905-48E9110FF630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4D95-EE02-45C7-BFDB-A59343B449CB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C711-766A-4C38-A540-2E0B83A588C8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1C77-2EB2-40B8-82AA-0DAC4DC16615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1277-939A-4EFD-9AF6-DE8B8E7645AE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5F41-F03B-4002-8FDC-81E39DB392EA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B005-8F48-4CA4-911C-1909324BE6E1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47BC-0673-49FE-BB74-8422B204E325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8139-5F08-4D4A-88A2-76E774131CF4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43B5-A608-43C1-8FA4-17655790E7EA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637A-65CB-4F03-B5CB-6EA0A60CBD06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488E-86CB-4C65-BB05-0ABD1522EC92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6AA0-111A-4477-AD2C-C02FE09ACECC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441B-DF98-4620-8438-871BC83B204A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60EE-30F9-47CC-BCFC-13DD1A9495AE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896F-D5A7-4569-9C0B-257A77B9244A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84D3-7715-4693-AB59-7798D21A1FD1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3A10-197A-4414-9AEE-508E0B59C04B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EBAE-CFF3-4CB3-90BE-6A930B215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4A10-DA95-42AC-AE1E-C52C23D7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F840-14EC-4EFE-B75B-B1570720B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8D66-E744-4520-8BD5-23302B4A9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03BE-DD88-4D7A-9965-A072AAD9D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CBA4-34BC-4622-B5F9-5503A968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AD460-DDF8-4466-9FD5-5B2BBC8F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C13D-7C77-4FF9-A9AD-95208B2D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016E-B108-4CFF-BF2D-FC860B1F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B0F2-830E-406E-BE68-147804D0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D069-9336-4D79-869D-5397409C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FAD2-85B8-4F0C-9D7D-C4FCE75B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52B1-91CE-4EF1-A190-56F48A0D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B2D5-5979-4B55-8795-A1EFDDE7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A7C7-E2DE-432D-A9CD-085BDDAD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3BF5-A789-409B-A87C-4B7185099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021F-2D28-4892-B4D1-7496E54DB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843A-D75A-4CE6-90AA-0FDFF5C7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45A1-B47B-4692-887F-4BA9E623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B8B4-B959-4A6F-BFD4-67A865D9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F672-4A62-4750-A72C-0EBDEDC9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C2EA-A931-4A12-99AF-56CFB7D7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BA20-82E1-4C84-9BB0-ADE2FCB0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4F69-47C6-46A0-B39A-02A140EE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A9D5-6679-4F04-9094-4504489319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24E3-9F73-408A-81A3-8A846A607847}" type="slidenum">
              <a:rPr b="0" lang="cs-CZ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0560" y="1371600"/>
            <a:ext cx="7093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KMA05</a:t>
            </a:r>
            <a:br>
              <a:rPr sz="16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Organizace znalost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133360" y="3733920"/>
            <a:ext cx="647676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. 11. 2013: Formální struktura dokumentu, reprezentace dokumentu (P7+K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F MU, podzim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gr. Josef Schwar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26172@mail.muni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GML – příklad 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OKUMENT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dresa stát="c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00000"/>
              </a:lnSpc>
              <a:spcBef>
                <a:spcPts val="451"/>
              </a:spcBef>
              <a:buClr>
                <a:srgbClr val="cccc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sob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00000"/>
              </a:lnSpc>
              <a:spcBef>
                <a:spcPts val="451"/>
              </a:spcBef>
              <a:buClr>
                <a:srgbClr val="cccc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itul&gt;Mgr.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itul&gt;&lt;k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řestní jmén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Josef&lt;k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řestní jmén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l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říjmení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hwarz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příjmení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00000"/>
              </a:lnSpc>
              <a:spcBef>
                <a:spcPts val="451"/>
              </a:spcBef>
              <a:buClr>
                <a:srgbClr val="cccc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osob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00000"/>
              </a:lnSpc>
              <a:spcBef>
                <a:spcPts val="451"/>
              </a:spcBef>
              <a:buClr>
                <a:srgbClr val="cccc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ulice&gt;Přecechtělova&lt;/ulice&gt; &lt;číslo_orientační&gt;2432&lt;/číslo_orientační&gt;/&lt;číslo_popisné&gt;29&lt;/číslo_popisné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00000"/>
              </a:lnSpc>
              <a:spcBef>
                <a:spcPts val="451"/>
              </a:spcBef>
              <a:buClr>
                <a:srgbClr val="cccc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S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55 0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S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&l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ěs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ah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měs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&l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ěstská čá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3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městská čá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adresa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DOKUM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GML – příklad 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OKUMENT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dresa stát=„cs“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00000"/>
              </a:lnSpc>
              <a:spcBef>
                <a:spcPts val="451"/>
              </a:spcBef>
              <a:buClr>
                <a:srgbClr val="cccc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ubjekt typ=„osoba“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00000"/>
              </a:lnSpc>
              <a:spcBef>
                <a:spcPts val="451"/>
              </a:spcBef>
              <a:buClr>
                <a:srgbClr val="cccc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itul&gt;Mgr.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itul&gt;&lt;k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řestní jmén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Josef&lt;k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řestní jmén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l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říjmení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hwarz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příjmení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00000"/>
              </a:lnSpc>
              <a:spcBef>
                <a:spcPts val="451"/>
              </a:spcBef>
              <a:buClr>
                <a:srgbClr val="cccc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subjek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00000"/>
              </a:lnSpc>
              <a:spcBef>
                <a:spcPts val="451"/>
              </a:spcBef>
              <a:buClr>
                <a:srgbClr val="cccc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ulice&gt;Přecechtělova&lt;/ulice&gt; &lt;číslo_orientační&gt;2432&lt;/číslo_orientační&gt;/&lt;číslo_popisné&gt;29&lt;/číslo_popisné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00000"/>
              </a:lnSpc>
              <a:spcBef>
                <a:spcPts val="451"/>
              </a:spcBef>
              <a:buClr>
                <a:srgbClr val="cccc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S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55 0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S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&l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ěs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ah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měs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&l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ěstská čá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3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městská čá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adresa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DOKUM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GML – příklad 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imární vina na tom všem je na Miloši Zemanovi. Pro něho není omluvy. Pokud opravdu šlo o nevinnou schůzku politických předáků u hlavy státu, pak bylo zásadní a neodpustitelnou chybou schůzku tajit a načasovat ji na chvíli, o které muselo být zjevné, že bude pro volbami poškozenou stranu těžko stravitelná. Pokud ale šlo o schůzku spikleneckou, což je pravděpodobnější než první varianta tak asi v poměru 5 : 95, pak šlo o činnost označitelnou za vlastizradu. Prezident má funkci definovanou ústavou a v žádném článku ústavy nenajdeme paragraf ve znění "prezident osobně zasahuje do interních záležitostí politických stran a provádí změny v jejich vedení". Momentálně je Miloš Zeman pro českou demokracii větší nebezpečí než komunisté, neonacisté a okamurovci dohromady. Úplně hloupý ale není. Po svém osobním katastrofálním fiasku se hodil marod, udělal si koleno a nějakou dobu se bude skrývat v Láne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roj: Neviditelný pes, 1. 11.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GML – příklad 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10920" y="190512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okument typ=„politický komentář“ země=„ČR“ čas=„2013-11-01“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lt;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dstavec typ=„hodnocení“ typ=„spekulace“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imární vina na tom všem je na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bjekt typ=„osoba“ podtyp=„politik“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iloši Zemanov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subjek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 Pro něho není omluvy.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olitická jednání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kud opravdu šlo o nevinnou schůzku politických předáků u hlavy státu, pak bylo zásadní a neodpustitelnou chybou schůzku tajit a načasovat ji na chvíli, o které muselo být zjevné, že bude pro volbami poškozenou stranu těžko stravitelná. Pokud ale šlo o schůzku spikleneckou, což je pravděpodobnější než první varianta tak asi v poměru 5 : 95, pak šlo o činnost označitelnou za vlastizradu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politická jednání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ole ústavního činitele typ=„role prezidenta“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ezident má funkci definovanou ústavou a v žádném článku ústavy nenajdeme paragraf ve znění "prezident osobně zasahuje do interních záležitostí politických stran a provádí změny v jejich vedení"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role ústavního činite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Momentálně j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bjekt typ=„osoba“ podtyp=„politik“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iloš Zema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subjek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pro českou demokracii větší nebezpečí než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bjekt typ=„organizace“ podtyp=„politická strana“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munisté, neonacisté a okamurovc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subjek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dohromady. Úplně hloupý ale není. Po svém osobním katastrofálním fiasku se hodil marod, udělal si koleno a nějakou dobu se bude skrývat v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m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ísto typ=„obec“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ánech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m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í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o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odstave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lt;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dokume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nalýza právních textů</a:t>
            </a:r>
            <a:br>
              <a:rPr sz="42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řenský – Cvrček – Novák: Juristická a lingvistická analýza právních textů. Praha: Academia, 1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. Typologie dokument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. podle dru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rávní předpis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oudní rozhodnu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individuální rozhodnutí a normativní instrukce státní správ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ůvodové zpráv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ávrhy a projekty zákonů a dalších předpis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áznamy parlamentních deb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ýsledky připomínkových říze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omentář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učebnice, skripta a odborné monograf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dborné člán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expertiz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řehledy platných právních předp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nalýza právních textů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. Typologie dokument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2. Podle formy publik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ficiální sbír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eoficiální sbír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ni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dborné časopis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jednotlivé dokumenty uložené v archivech instituc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3. Podle vztahu k původnímu zně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ůvod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upraven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bohacen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etadokumenty nebo adres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nalýza právních textů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B. Struktura položek v základním slovníku (LEMM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. Základní slovní tv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2. Ty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peciální zna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Číslice, římské čísl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Zkratky s tečkou (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Sb.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),  zkratky bez tečky (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ČR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omocné znaky (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lovenská slo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Cizí slova (ne chemické vzorce, ne názvy nemocí apod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3. Slovní dru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4. R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5. Život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6. Příslušnost ke kmenové sémantické skupině (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daně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zdanění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danit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7. Typy právních význam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8. Čet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9. Číslo základního slovního tva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nalýza právních textů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C. Sémantika morfologicko-syntagmatických typ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říklad – 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šk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A – S: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případná / věcná / hrozíc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S – S: 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velkého rozsahu / značného rozsah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S – praep S: 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na zdraví / na majetku / na pozem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S – VF: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vznikla / přesahuje / hroz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VF – S: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zavinil / způsobil / zabránil (škodu/škodě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VF – praep S: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dochází (ke škodám) / odpovídá (za škod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S – (praep) S: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zjišťování / náhrada / úhrada (škody) / odpovědnost (za 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škod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INF – S: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zabránit (škodě) / nahradit (škod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INF – praep S: 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odpovídat (za škod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émantické hodnocení vazeb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d A -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Věcná povaha šk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Vyjádření původu a příčiny šk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Kvantitativní hodnocení šk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polečenské hodnocení šk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odel morfologicko-syntagmatické struktu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nalýza právních textů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. Výrazová segmentace tex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E. Vztah mezi formální větou a textovou strukturac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F. Výskyt vyhledávaných syntagmat v segmentech tex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G. Distinktivní vlastnosti spojovacích prostředků (spojky a obdobné výraz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H. Morfologie, gramatika, sémantika právních text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I. Struktura právních textů a jejich formální vzta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J. Využit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1. Tvorba právních předpis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24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Formulace koncepčního zámě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24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Koncepce konkrétní legislativní úprav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24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Zjišťování kontextových souvislost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24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Právnělingvistická podpora legislativní činnos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24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Vytváření úplných znění právních předpis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24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Zpracování důvodových  zprá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24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Příprava legislativních výzkum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2. Tvorba právní termin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3. Tvorba oborových klasifikací a tezaur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4. Vyhledávání v oborových databází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Osnov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hled (minulých a budoucích) té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ktická čá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hodnocení + tři prezentace (komb. stu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oretická čá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G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ávní texty – struk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adání 7. dílčího kroku 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ŘEHLED TÉ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63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řehled (minulých) té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ém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stupy ke KO, doménová analý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ntologie, epistemologie, teleologie (pojem, metafo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tegorie, kategorizace, klasifikace (tradiční vs kognitivistický přístup: prototypy, bázové kategor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rmíny a termi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otace a notační syst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k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olba domé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etaf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totypy a bázové katego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prezentace poj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vrh notačního systé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řehled (budoucích) té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Formální struktura dokumentu, reprezentace dokument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ocesy organizace znalost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ntolog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Univerzální klasifikační systém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ystémy založené na přirozeném jazy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eprezentace a vizualizace znalost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ávěrečná hodina - t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raktická část</a:t>
            </a:r>
            <a:br>
              <a:rPr sz="42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 krok č.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oblém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setinná no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lastnosti (expresivnost, pohostinnost, syntéz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STRUKTURA DOKUMENTU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Formální struktura doku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radič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s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1, příklad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Elektronick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GML (ISO 8879:19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ecná struktura dokumentu a další atribu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TML,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GML – příklad 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gr. Josef Schwar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ecechtělova 2432/2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155 00 Prah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dcterms:modified xsi:type="dcterms:W3CDTF">2013-11-01T14:46:07Z</dcterms:modified>
  <cp:revision>236</cp:revision>
  <dc:subject/>
  <dc:title>Selekční jazyky</dc:title>
</cp:coreProperties>
</file>