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AED9-794A-4BB1-86EB-C6181649382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3935-14F2-443D-9B55-CE4A45F059F5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7559-F615-43A1-92FB-2F200C4E535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F357-CB50-4089-BAA3-B77AA3B96B3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5232-8CBE-417A-89CE-3CBEB1E9861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4996-19AD-42AA-A0FB-A9D79FD148E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17E8-D7A8-4F7C-8CA1-99AFD9A0437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11E0A-BF3F-4694-A1EA-B23196FC5D5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B9CE-7E9D-4B2A-8708-E5BC51E1937B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D165-04DC-47B5-9EF2-97F842F64D3D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1020-B355-4452-8758-DFBAE0B085DE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E8F4-DE1E-489D-B73C-823DB9FC57F3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D1F0-6FED-45F1-BD06-DD96FD160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CB32-EBCA-4083-BBE9-F8D6D5CD0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942C-B8CF-4410-874A-75C29D06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1F93-AF65-45EF-90E6-04DBF38C4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DEAA-0C6C-484E-9B50-C8704DEFA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CC5B1-3A3E-44C2-978E-AA0BE2A9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E4E5-6965-4D9C-9B9F-398AFB2B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0EBA-53CD-46FE-9EB7-745FC646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E75C2-3586-4695-8E78-BEAAAA4D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FB61A-AD41-4143-8ACA-1A1284BE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D3DF9-7119-4510-88BD-5DE4A54B0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F6A2-4F33-414E-B501-9FCFFBC11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CBB4-1D8A-4A2A-BDA5-F1F175485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5C33C-1E20-4E14-93C0-3585B072F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DA01-9102-40C4-BFD1-1CFDB558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D329-FFA7-4E48-BC89-9B0B01C80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E174-A7EC-4190-8D09-7F03DC496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7114-9D6F-4A5C-BD5C-918CA5E4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49DE-5EFB-487A-8086-6D98D916E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F187-7C43-497D-96DB-298CEDEAC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373-22A5-4AC3-9988-8DB70B3B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045F-AC76-49CD-8642-CEEA64DE5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62CE-6F7A-4D86-B52F-F6BA2452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563F-4559-4599-B72F-18339122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8A37-C582-4AE9-AF33-CCE6CF08962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C224-7899-42A8-B89D-8D4CA12C60F5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8. 11. 2013: Procesy organizace znalostí – obsahová analýza, indexace, klasifikace, automatizované procedury (P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podzim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indexace/re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alizace užívan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ité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mají velký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záznamů je omez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namy reprezentují „živé“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 reindexace/reklas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lo)automatické proced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24000" y="190440"/>
            <a:ext cx="6840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e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195640" y="2349360"/>
            <a:ext cx="664056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přirozeného jazy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ové zpracování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zované procedury a vyhled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br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lukování (klast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tvorb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560" y="1628640"/>
            <a:ext cx="67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stupnost plného textu, popř. abstra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cké/intelektuální 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ubje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ý objem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j nerozum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,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ratextová (slova/výrazy, věty, odstavce,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textová (různé tex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atextová (real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050560" y="1773000"/>
            <a:ext cx="67770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roblé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 nejsou vyjádřeny explici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ímé odkazy na jiné části textu nebo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 obsahuje nevýznamová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problémy: synonymie, 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znam slov se mění v čase nebo mezi jednotlivými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tvary slov (míra závisí na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050560" y="19044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ypy automatické index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785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akce (extraction indexing) – slovní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íčová slova z tex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analýza (identifikace slov a souslo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mat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á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komparace s řízeným slovní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zování (assignment indexing) – pojmová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áce s plným tex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ročilé statistické a matematickolingvistické metody (pravděpodobnostní mod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zený slovník – simulace intelektuáln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405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ís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text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§ 12“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borné termí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MARC21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ení hranice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čka (zkratky), spojov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nihovnicko-informační 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interpunkční znamé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á/malá pís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66920" y="2923920"/>
            <a:ext cx="6569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ouslo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cky nosnější než jednotli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áklad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alizace sou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uštění pomocných slovních druhů a zanedbání pořadí slo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analýza s použitím kmene (koře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-30 % běž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ky, předložky a další pomocné slo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5784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sloví s předložkovou vazb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knihovny pro nevidom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bez rozlišovac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gativní slovník (slovník nevýznamových slov, slovník stop-slov, stop-slovní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lexikální analýzou a vá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08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stop-slov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slov (spojky, předložky, část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frekvence slova v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-negativní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67122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oritmické (gramatická pravid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ování afix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ov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kmenů nebo kořenů a dalších morfologických inform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ovník afixů (sufixů a prefix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tter successor variety stemme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rieta po sobě následujících pís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é dokumenty v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zliší inflexní a derivační afi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: lemmatizátor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emm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K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sy věcného zpraco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a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9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y převodů slovních dru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žský životný/ženský tvar substantiv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, autork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ivlastňovací přídavné jméno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čin, autorův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žský tvar subst., 1. pád, singulár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j.: stupňované tva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jkonkrétnějš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vozená substantiva s konc. –ost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ga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konkrét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íslov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ě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kl. tvar. adj.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vesa: časování, příč. č. a trp., slovesné jméno podstatné, opakované sloveso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initi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děla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7852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emmatizace se provád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dex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ý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ručních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zpracování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ní lemmatizace (deriv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- váž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3640" y="1700280"/>
            <a:ext cx="64753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ůzná důležitost slov pro obsah d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elektivní síla indexačního termínu (výraz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ritéria vážení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 (slovní dr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(délka, počet různých termín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výrazu a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výrazu ve specifické části textu (název, abstrakt, první a poslední pasáže apod.) – zohlednění koeficientem při vá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termínu a celé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brané váhov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v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123640" y="2997360"/>
            <a:ext cx="67122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imulace intelektuálního proce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k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ovaný řízený slov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rus, sémantická síť, znalostn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po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23640" y="2923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stup P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výrazu s relevantními profily pojmů z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indexačních ter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a dokument/ŘS nemusí být určující pro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triviální vyjádření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reprezentace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270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ktické aspek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é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účinnost ve srovnání s intelektuální index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náklady – vyšší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orový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ysté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ální systém ne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syst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á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pracují pouze s abstr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ace automatické a intelektuální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95280" y="190440"/>
            <a:ext cx="68403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79280" y="2781360"/>
            <a:ext cx="663084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říklady systémů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R: (MOZAIKA), (SEMAN), LEGS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SA MAI Tool (text1, text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automatické index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, Josef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učasný stav a trendy automatické indexace dokumen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, 2002-2003. Dostupné na: &lt;http://full.nkp.cz/nkdb/docs/studie/MAIobsah.html&gt;. Zde i další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volte odborný text o rozsahu cca 5000 znaků (u tištěných dokumentů několik tiskových stran, kratší kapitola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veďte obsahovou analýzu, identifikaci pojmů a určení znaků selekčního jazyka tak, že k vyjádření obsahu dokumentu použije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) jeden vybraný znak M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2) jediné klíčové slo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) pět až sedm klíčových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) maximum klíčových sl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sledek tedy bude obsahovat celkem čtyři různé selekční obraz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Informačně-klasikační degust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lenění (klasifikace) minerálních vod podle legislativy (vyhláška č. 437/2001 Sb.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Hlavní připomínky k 7. dílčímu kroku DA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šení formálních a věcných pohle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čnost a úp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obecně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stoupení tří student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ecně tři typy proces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ová analýz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kladní krok, který předurčuje výsledek celého proce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pojm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razně ovlivňuje úplnost a přesnost vyhledá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čnost (hloub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selekčních zna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poklad: znalost daného selekčního jazyka, znalost o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lekční obraz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 (správ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istence (shod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-indexer consistenc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vislá na počtu přidělovaných selekčních znak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ra-indexe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 na dosažení kvality a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race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správnost po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ak provést obsahovou analýzu, jak postupovat při výběru relevantních témat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konzisten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kyny k výběru selekčních znaků, jejich kombinaci, rozkladu složených pojmů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cném zpracování dokumentu je třeba se ptá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uživatel tuto informaci vyžadov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 uživatel indexovaný/klasifikovaný dokument v případě, že hledá tém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ude pro uživatele indexovaná informace příliš obecná, a není tudíž potřeba použít specifičtějších selekčních znak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ito příliš mnoho specifických selekčních znaků, které popisují nepodstatná témata a které uživateli znesnadní vyhledat požadovaný doku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 uživatel z popisu dokumentu, jaký je jeho obs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3-11-08T14:08:57Z</dcterms:modified>
  <cp:revision>256</cp:revision>
  <dc:subject/>
  <dc:title>Selekční jazyky</dc:title>
</cp:coreProperties>
</file>