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033-2109-4F33-8615-DCC88B96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F683-F5C7-40EB-AD64-4DE53914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632-C7EE-4297-B0AB-78255281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36F-2A6A-4BC7-8D9A-EE101A40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8C49-78A1-4BA0-9208-CC04CCDC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08FE-09EC-4DF8-87B8-E0C12A81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1EE0-8D44-4756-BA7E-EC807E32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565-413E-42B2-92CA-391D85B2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8968-4074-4C37-BE65-E3DA58F6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1FD3-7F86-4731-965B-8063DAD9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FB53-EAC8-4B12-90F2-9C3AE866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F52-5143-48A3-B6B8-88D01CDA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42D5-05A8-46C6-929B-E2172BC3E1E1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Grafik 9" descr=""/>
          <p:cNvPicPr/>
          <p:nvPr/>
        </p:nvPicPr>
        <p:blipFill>
          <a:blip r:embed="rId1"/>
          <a:stretch/>
        </p:blipFill>
        <p:spPr>
          <a:xfrm>
            <a:off x="2676600" y="716040"/>
            <a:ext cx="6116400" cy="285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446040" y="1803960"/>
            <a:ext cx="80787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k und Musikgeschichte in den habsburgischen Ländern, ca. 1620-18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c and Music History in the Hapsburg Countries, c. 1620-18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feld 8"/>
          <p:cNvSpPr/>
          <p:nvPr/>
        </p:nvSpPr>
        <p:spPr>
          <a:xfrm>
            <a:off x="460440" y="4075200"/>
            <a:ext cx="632448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 Theresia HILSCH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.hilscher@oeaw.ac.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nhaltsplatzhalter 3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671640" cy="4721400"/>
          </a:xfrm>
          <a:prstGeom prst="rect">
            <a:avLst/>
          </a:prstGeom>
          <a:ln w="0">
            <a:noFill/>
          </a:ln>
        </p:spPr>
      </p:pic>
      <p:pic>
        <p:nvPicPr>
          <p:cNvPr id="105" name="Grafik 4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Hofstil – „Kaiserstil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ynonym für die Erstarrung ab circa 17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ontrapun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anieris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eine neuen Gatt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enig Weiterentwickl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tilkritererien  - Reprä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arum? (Anla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Für wen? (Zielpublik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er? (Ausführen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as? (Gattung, Stückauswah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ie? (Stil, Aufführungssitu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eispie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Oper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 schematisierte Libretti (Metastasio) – personalisierte und auf den Anlass bezogene Lic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Kantaten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 in Text und Musik auf einen Anlass „durchkomponiert“ (großes Variantenbreite betreffend Umfa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nta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cesco Bartolomeo Con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Fra cetre, fra tromb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19, Hochzeit Erzherzogin Maria Josepha mit  Kurprinz Friedrich August von Sach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ntat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iovanni Bononci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L´oracolo d´Apo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07 (zur Zeit des spanischen Erbfolgekrieges, kein konkreter Anlass bekan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Componimenti per la cam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/Pietro Pari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Dafne in Lau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Geburtstag Karls VI. 17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uro = Lorbeer = Lob/Ruhm (militärisch/staatsmännis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Orato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onio Caldara/Pietro Metastas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 Passione di Gesù Cri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ignor Nos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729 (Fastenoratorium für die Hofkapel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Orato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icola Porpora/Andrea Peruc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Calibri"/>
              </a:rPr>
              <a:t>Il Ged</a:t>
            </a: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de-DE" sz="4800" spc="-1" strike="noStrike">
                <a:solidFill>
                  <a:srgbClr val="000000"/>
                </a:solidFill>
                <a:latin typeface="Calibri"/>
              </a:rPr>
              <a:t>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37 (für Wr. Hofkapelle, UA 28.3.173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irchenmus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aiser-Requiem“ K 51-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ette „Plaudite, sonat Tuba“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onio Calda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etten „Ego sum Panis vivus“ &amp; „O Sacrum Convivium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abat m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stil“ – Imperial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Ca. 1700 bis 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mmermusik/Instrumentalmus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nata da chiesa in G-Dur K 3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nata da camera in F-Dur E 6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oncentus musico instrumentalis: Ouverture à 4 (Nr. 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ynfonia à 3 K 3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ie weit wird der Stil am Kaiserhof von anderen Höfen kopiert und nachgeahm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Gibt es einen „Kaiserstil“ ohne Kaiser oder ist es besser von einem Repräsentationsstil zu sprechen mit dem jeweiligen Repräsentanten einer Hofhaltung als „Spiegelfläche“ der Aufführu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elche anderen Vorbilder/anderen Stile werden (vom Hof abgesehen) von den Höfen in den habsburgischen Ländern ab  ca. 1720 aufgesuch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orbild: Stil des Kaiserhof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at seine Berechtigung bis ca. 1720/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usik aus der Hofmusikkapelle wird von Höfen/Klöstern kopiert bzw. werden Aufträge an Komponisten des Hofes von diesen verge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iserhof hat sicherlich eine sehr hochstehende Musikpflege mit einer hohen Dichte an exzellenten Musik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 ohne Kais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Streng genommen sind nur dann kaiserlicher Stilelemente angebracht, wenn auch der Kaiser als „Spiegel“ der Repräsentation gemeint i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Kaiserstil“ meint ein Bündel an repräsentativen Stilelementen, die  - je nach Anforderung – zur Anwendung kom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Diese Repräsentations-Stile werden (in angemessen reduzierter Form) auch von allen anderen Hofhaltungen in den habsburgischen Ländern bzw. im Reich angewendet – gespiegelt auf den jeweiligen Repräsentanten (Fürst, Bischof, etc.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neue Wege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 ca. 1725/30 muss der Kaiserhof seine Ausgaben reduzieren (deutlich ab 17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duktion der Hofmusikkap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duktion der Festlichkei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dere Höfe (geistliche wie weltlich) beginnen ab 1720 zunehmend, eigene Vorbilder für ihre Musikpraxis zu suchen (Kaiserhof verliert den Rang, primär Vorbild in musikalischen Dingen zu s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finition(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nstgeschich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wissensch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deut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elcher Stil wofü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äsentation – Zeremoni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r Kaiser als „Spiegelfläch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ans Sedlmayr 19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ie politische Bedeutung des deutschen Barocks (Der „Reichsstil“)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Gesamtdeutsche Vergangenheit. FS für Heinrich von Srbik. München 1938, 126-14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eichsstil“ als eigenständige deutsche Barock-Entwicklung (keine „nur“ Weiterentwicklung des italienisch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sgangspunkt: der österreichische Kaiserhof der Prinz Eugen-Ze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eichsstil ist ein synthetischer Stil aus dem italienischen Hochbarock und der französischen Vor-Klassik (Beispiel: Krautmarkt-Brunnen in Brünn durch Bernini [Italien] und Le Brun [Frankreich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harakteristisch ist eine Annäherung von sakralem und imperialem St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auptvertreter und Haupttheoretiker des Reichsstils ist Johann Bernhard Fischer von Erl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nhaltsplatzhalter 3" descr=""/>
          <p:cNvPicPr/>
          <p:nvPr/>
        </p:nvPicPr>
        <p:blipFill>
          <a:blip r:embed="rId1"/>
          <a:srcRect l="22187" t="16251" r="27752" b="20938"/>
          <a:stretch/>
        </p:blipFill>
        <p:spPr>
          <a:xfrm>
            <a:off x="1403280" y="836640"/>
            <a:ext cx="705636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iedrich Wilhelm Riedel, 19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„Reichsstil“ in der deutschen Musikgeschichte des 18. Jahrhunderts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G. Reichert – M. Just (Hg.), Bericht über den Int. Musikwissenschaftlichen Kongress Kassel 1962. Kassel etc. 1963, 34-3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statt von „Reichsstil“ sollte eher von „Imperialstil“ gesprochen wer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arallelen betreffend Entwicklung wie künstlerischer Haltung bei Johann Bernhard Fischer von Erlach und Johann Joseph F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ch in der Musik ist eine Synthese von Stilen (italienisch wie französisch) ein Charakteristikum des Imperialstils; Architektur wie Musik sind auch durch ihre Lehrbücher (Fischer/Fux) nachhaltig „stilbildend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3 Hauptpunkte: 1) Kaiser als Auftraggeber und Widmungsträger; 2) Repräsentationsstil; 3) Verbreitung an andere Höfe des Reich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ellmut Lorenz, 19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Vienna Gloriosa Habsburgica?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Kunsthistoriker 2 (1985) Heft 4/5, 44-4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geht kritisch von Sedlmayrs These des „Reichsstils“ aus [Verbindung von Stilwandel und politischem Wandel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ritik: J. B. Fischer von Erlach bleibt der Theorie verhaftet und baut NICHT [erst sein Soh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s die Kaiser treten [anders als in der Musik] in der Kunst deutlich hinter den Hofadel zurück; erst Karl VI. zeigt gegen 1720 eine langsam anlaufende Bautätigkeit [Österreichische Hofkanzlei, Hofstallungen, Hofbibliothek, Reichskanzleitrakt, Winterreitschule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statt „Reichsstil“ ist für Karl VI. eher „Kaiserstil“ zu wählen [wie von F. Matsche vorgeschlagen], da hier der Wille des Kaisers spürbar s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erbert Karner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2848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Reichsstil, Kaiserstil oder die Kunst des Heiligen Römischen Reiches deutscher Nation: Kunstgeschichte und politische Begriffskonstruktionen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, in: Th. Antonicek - H. Krones - E. Fritz-Hilscher (Hg.), Hofmusikkapelle III: Gibt es einen Stil der Hofmusikkapelle. Wien-Köln-Weimar 2010 [im Druck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Zusammenfassung der Begriffsdiskussion ab Sedlmayr bis he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inweis auf die Singularität der kaiserlichen Bauten Karls V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ersönliche Vorlieben der Auftraggeber bestimmten die Auswahl der Künstler, nicht ein verbindendes „Stilbewusstsein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dlmayrs Synthese-Theorie (italienisch- französischer Mischstil) hat sich jedoch bestätig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uen Ansätze bei M. Müller (Kastellform als „Logo“ für Schoss- und Repräsentationsbauten im Rei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iedrich Wilhelm Riedel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Kaiserliche Musik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Th. Antonicek - H. Krones - E. Fritz-Hilscher (Hg.), Hofmusikkapelle III: Gibt es einen Stil der Hofmusikkapelle. Wien-Köln-Weimar 2010 [im Druck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4 große Theoriewerke: Küchelbecker 1730, Heraeus 1734 bzw. Albrecht 1731, Fischer von Erlach 1721 und Fux 17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ilkennzeichen des Repräsentationsstils: Pauken und Trompeten; Verschmelzung mit liturgischen und para-liturgischen Elemen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ermischung zwischen Stilvorgaben aufgrund des Anlasses und des durch die meisten Komponisten gepflegten „gemischten Stils“ von italienischen und französischen Elementen [Riedel betont die FUNKTION der Musik im Zeremoniell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9:12:37Z</dcterms:created>
  <dc:creator>Hilscher, Elisabeth</dc:creator>
  <dc:description/>
  <dc:language>en-US</dc:language>
  <cp:lastModifiedBy>Jana Perutková</cp:lastModifiedBy>
  <cp:lastPrinted>2016-11-21T11:03:40Z</cp:lastPrinted>
  <dcterms:modified xsi:type="dcterms:W3CDTF">2016-12-09T15:48:12Z</dcterms:modified>
  <cp:revision>23</cp:revision>
  <dc:subject/>
  <dc:title>PowerPoint-Präsentation</dc:title>
</cp:coreProperties>
</file>