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3A2-449B-4D1E-92EA-DD159F61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67B-1E14-4E86-8699-6DAE0545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4F8-89AF-4FF5-822E-AF849898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060-F168-4A71-A61A-8B744312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211-F484-473E-A47F-FBD2E936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C06-963C-4C3D-860A-07481FA0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D49-A5B6-4E61-A963-9982B69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3F1-45B9-4B3C-B7B5-CB8E788F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B9E-AC6C-41BD-8BDC-34B11E39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9C1-94C6-4B42-AE3B-9D8807C5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EDE-721F-491D-84DB-1AF7EE7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AD9-54DC-46BC-97BD-DE54A3D8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C71A-7683-45E9-AB64-DC65B060D0E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446040" y="1803960"/>
            <a:ext cx="80787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Inhaltsplatzhalter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3671640" cy="4721400"/>
          </a:xfrm>
          <a:prstGeom prst="rect">
            <a:avLst/>
          </a:prstGeom>
          <a:ln w="0">
            <a:noFill/>
          </a:ln>
        </p:spPr>
      </p:pic>
      <p:pic>
        <p:nvPicPr>
          <p:cNvPr id="105" name="Grafik 4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Hofstil – „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ynonym für die Erstarrung ab circa 17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ontrapun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nieris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eine neuen Gattu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enig Weiterentwick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tilkritererien  - Reprä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rum? (Anla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Für wen? (Zielpublik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er? (Ausführen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as? (Gattung, Stückauswah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Wie? (Stil, Aufführungssitu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spi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Oper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schematisierte Libretti (Metastasio) – personalisierte und auf den Anlass bezogene Lic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Kantaten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 in Text und Musik auf einen Anlass „durchkomponiert“ (großes Variantenbreite betreffend Umf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cesco Bartolomeo Con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Fra cetre, fra tromb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19, Hochzeit Erzherzogin Maria Josepha mit  Kurprinz Friedrich August von Sach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nta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iovanni Bononc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L´oracolo d´Apo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07 (zur Zeit des spanischen Erbfolgekrieges, kein konkreter Anlass bekan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mponimenti per la cam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/Pietro Pari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afne in Laur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Geburtstag Karls VI. 17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auro = Lorbeer = Lob/Ruhm (militärisch/staatsmänn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/Pietro Metastas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a Passione di Gesù Cri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ignor Nos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729 (Fastenoratorium für die Hofkape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rato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Nicola Porpora/Andrea Peru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Il Ged</a:t>
            </a: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de-DE" sz="4800" spc="-1" strike="noStrike">
                <a:solidFill>
                  <a:srgbClr val="000000"/>
                </a:solidFill>
                <a:latin typeface="Calibri"/>
              </a:rPr>
              <a:t>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lass: 1737 (für Wr. Hofkapelle, UA 28.3.17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irchen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aiser-Requiem“ K 51-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 „Plaudite, sonat Tuba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tonio Calda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tetten „Ego sum Panis vivus“ &amp; „O Sacrum Conviviu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abat m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stil“ – Imperial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a. 1700 bis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mmermusik/Instrumentalmus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hann Joseph Fu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hiesa in G-Dur K 39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onata da camera in F-Dur E 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centus musico instrumentalis: Ouverture à 4 (Nr.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ynfonia à 3 K 33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ie weit wird der Stil am Kaiserhof von anderen Höfen kopiert und nachgeahm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Gibt es einen „Kaiserstil“ ohne Kaiser oder ist es besser von einem Repräsentationsstil zu sprechen mit dem jeweiligen Repräsentanten einer Hofhaltung als „Spiegelfläche“ der Aufführu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alibri"/>
              </a:rPr>
              <a:t>Welche anderen Vorbilder/anderen Stile werden (vom Hof abgesehen) von den Höfen in den habsburgischen Ländern ab  ca. 1720 aufgesuch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orbild: Stil des Kaiserhof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t seine Berechtigung bis ca. 1720/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usik aus der Hofmusikkapelle wird von Höfen/Klöstern kopiert bzw. werden Aufträge an Komponisten des Hofes von diesen verge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 hat sicherlich eine sehr hochstehende Musikpflege mit einer hohen Dichte an exzellenten Musik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 ohne Kais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Streng genommen sind nur dann kaiserlicher Stilelemente angebracht, wenn auch der Kaiser als „Spiegel“ der Repräsentation gemeint i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Kaiserstil“ meint ein Bündel an repräsentativen Stilelementen, die  - je nach Anforderung – zur Anwendung kom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000000"/>
                </a:solidFill>
                <a:latin typeface="Calibri"/>
              </a:rPr>
              <a:t>Diese Repräsentations-Stile werden (in angemessen reduzierter Form) auch von allen anderen Hofhaltungen in den habsburgischen Ländern bzw. im Reich angewendet – gespiegelt auf den jeweiligen Repräsentanten (Fürst, Bischof, etc.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neue Wege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b ca. 1725/30 muss der Kaiserhof seine Ausgaben reduzieren (deutlich ab 17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Hofmusikkap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duktion der Festlichk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ndere Höfe (geistliche wie weltlich) beginnen ab 1720 zunehmend, eigene Vorbilder für ihre Musikpraxis zu suchen (Kaiserhof verliert den Rang, primär Vorbild in musikalischen Dingen zu s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Kaiserstil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efinition(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gesch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wissenscha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lcher Stil wofü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 – Zeremoni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r Kaiser als „Spiegelfläch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ans Sedlmayr 19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ie politische Bedeutung des deutschen Barocks (Der „Reichsstil“)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esamtdeutsche Vergangenheit. FS für Heinrich von Srbik. München 1938, 126-14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“ als eigenständige deutsche Barock-Entwicklung (keine „nur“ Weiterentwicklung des italienisch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gangspunkt: der österreichische Kaiserhof der Prinz Eugen-Ze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eichsstil ist ein synthetischer Stil aus dem italienischen Hochbarock und der französischen Vor-Klassik (Beispiel: Krautmarkt-Brunnen in Brünn durch Bernini [Italien] und Le Brun [Frankreich]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harakteristisch ist eine Annäherung von sakralem und imperialem St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auptvertreter und Haupttheoretiker des Reichsstils ist Johann Bernhard Fischer von Erl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nhaltsplatzhalter 3" descr=""/>
          <p:cNvPicPr/>
          <p:nvPr/>
        </p:nvPicPr>
        <p:blipFill>
          <a:blip r:embed="rId1"/>
          <a:srcRect l="22187" t="16251" r="27752" b="20938"/>
          <a:stretch/>
        </p:blipFill>
        <p:spPr>
          <a:xfrm>
            <a:off x="1403280" y="836640"/>
            <a:ext cx="705636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19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Der „Reichsstil“ in der deutschen Musikgeschichte des 18. Jahrhunderts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G. Reichert – M. Just (Hg.), Bericht über den Int. Musikwissenschaftlichen Kongress Kassel 1962. Kassel etc. 1963, 34-36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von „Reichsstil“ sollte eher von „Imperialstil“ gesprochen wer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arallelen betreffend Entwicklung wie künstlerischer Haltung bei Johann Bernhard Fischer von Erlach und Johann Joseph F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ch in der Musik ist eine Synthese von Stilen (italienisch wie französisch) ein Charakteristikum des Imperialstils; Architektur wie Musik sind auch durch ihre Lehrbücher (Fischer/Fux) nachhaltig „stilbildend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3 Hauptpunkte: 1) Kaiser als Auftraggeber und Widmungsträger; 2) Repräsentationsstil; 3) Verbreitung an andere Höfe des Rei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llmut Lorenz, 19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Vienna Gloriosa Habsburgica?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Kunsthistoriker 2 (1985) Heft 4/5, 44-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geht kritisch von Sedlmayrs These des „Reichsstils“ aus [Verbindung von Stilwandel und politischem Wande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ritik: J. B. Fischer von Erlach bleibt der Theorie verhaftet und baut NICHT [erst sein Sohn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us die Kaiser treten [anders als in der Musik] in der Kunst deutlich hinter den Hofadel zurück; erst Karl VI. zeigt gegen 1720 eine langsam anlaufende Bautätigkeit [Österreichische Hofkanzlei, Hofstallungen, Hofbibliothek, Reichskanzleitrakt, Winterreitschule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nstatt „Reichsstil“ ist für Karl VI. eher „Kaiserstil“ zu wählen [wie von F. Matsche vorgeschlagen], da hier der Wille des Kaisers spürbar s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erbert Karner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284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alibri"/>
              </a:rPr>
              <a:t>Reichsstil, Kaiserstil oder die Kunst des Heiligen Römischen Reiches deutscher Nation: Kunstgeschichte und politische Begriffskonstruktionen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Zusammenfassung der Begriffsdiskussion ab Sedlmayr bis he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inweis auf die Singularität der kaiserlichen Bauten Karls V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ersönliche Vorlieben der Auftraggeber bestimmten die Auswahl der Künstler, nicht ein verbindendes „Stilbewusstsein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dlmayrs Synthese-Theorie (italienisch- französischer Mischstil) hat sich jedoch bestätig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n Ansätze bei M. Müller (Kastellform als „Logo“ für Schoss- und Repräsentationsbauten im Rei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iedrich Wilhelm Riedel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Kaiserliche Musik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, in: Th. Antonicek - H. Krones - E. Fritz-Hilscher (Hg.), Hofmusikkapelle III: Gibt es einen Stil der Hofmusikkapelle. Wien-Köln-Weimar 2010 [im Druck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4 große Theoriewerke: Küchelbecker 1730, Heraeus 1734 bzw. Albrecht 1731, Fischer von Erlach 1721 und Fux 17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ilkennzeichen des Repräsentationsstils: Pauken und Trompeten; Verschmelzung mit liturgischen und para-liturgischen Elem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ermischung zwischen Stilvorgaben aufgrund des Anlasses und des durch die meisten Komponisten gepflegten „gemischten Stils“ von italienischen und französischen Elementen [Riedel betont die FUNKTION der Musik im Zeremoniell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ußzeilenplatzhalt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98989"/>
                </a:solidFill>
                <a:latin typeface="Calibri"/>
              </a:rPr>
              <a:t>Kaiserstil - Imperialst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9:12:37Z</dcterms:created>
  <dc:creator>Hilscher, Elisabeth</dc:creator>
  <dc:description/>
  <dc:language>en-US</dc:language>
  <cp:lastModifiedBy>Jana Perutková</cp:lastModifiedBy>
  <cp:lastPrinted>2016-11-21T11:03:40Z</cp:lastPrinted>
  <dcterms:modified xsi:type="dcterms:W3CDTF">2016-12-09T15:48:12Z</dcterms:modified>
  <cp:revision>23</cp:revision>
  <dc:subject/>
  <dc:title>PowerPoint-Präsentation</dc:title>
</cp:coreProperties>
</file>