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ECCB-E414-476E-BA09-50E7A048B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7F6E-3C53-4C5A-B970-F6CA95693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EA6E-BB7A-41CC-9002-07756DF90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8822-0C85-42F8-B5E6-B5246E26D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7CBD-1F5D-4B01-84A2-E48847722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C092-DFDF-46E0-8C4E-7F4C6949C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303D-CBEB-452C-89EC-80D12B297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D921-0029-4E63-BDE4-9A8BE5A49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C04A-80ED-4CFD-921B-6DF0FCC78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2B7A-2F47-4864-BC2E-9EFD7925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278C-6B65-4370-896C-3E2A4D64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A694-AF5E-498A-8D7F-43F7C3480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E. Th. Hilscher - MG Mitteleuropas - Brno WS 20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E4244-FB7C-4DCB-A8E5-13D8CC9930A9}" type="slidenum"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460440" y="390600"/>
            <a:ext cx="1936800" cy="8398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460440" y="390600"/>
            <a:ext cx="1936800" cy="8398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Grafik 9" descr=""/>
          <p:cNvPicPr/>
          <p:nvPr/>
        </p:nvPicPr>
        <p:blipFill>
          <a:blip r:embed="rId1"/>
          <a:stretch/>
        </p:blipFill>
        <p:spPr>
          <a:xfrm>
            <a:off x="2676600" y="716040"/>
            <a:ext cx="6116400" cy="2858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"/>
          <p:cNvSpPr/>
          <p:nvPr/>
        </p:nvSpPr>
        <p:spPr>
          <a:xfrm>
            <a:off x="446040" y="2184840"/>
            <a:ext cx="80787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282828"/>
                </a:solidFill>
                <a:latin typeface="Palatino Linotype"/>
                <a:ea typeface="Brandon Grotesque Black"/>
              </a:rPr>
              <a:t>Musik und Musikgeschichte in den habsburgischen Ländern, ca. 1620-18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282828"/>
                </a:solidFill>
                <a:latin typeface="Palatino Linotype"/>
                <a:ea typeface="Brandon Grotesque Black"/>
              </a:rPr>
              <a:t>Music and Music History in the Hapsburg Countries, c. 1620-182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feld 8"/>
          <p:cNvSpPr/>
          <p:nvPr/>
        </p:nvSpPr>
        <p:spPr>
          <a:xfrm>
            <a:off x="460440" y="4075200"/>
            <a:ext cx="6324480" cy="8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Palatino Linotype"/>
              </a:rPr>
              <a:t>Elisabeth Theresia HILSCHE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Palatino Linotype"/>
              </a:rPr>
              <a:t>Elisabeth.hilscher@oeaw.ac.a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feld 1"/>
          <p:cNvSpPr/>
          <p:nvPr/>
        </p:nvSpPr>
        <p:spPr>
          <a:xfrm>
            <a:off x="741600" y="1989000"/>
            <a:ext cx="319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ürgertum/Städ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civil society/c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Ellipse 2"/>
          <p:cNvSpPr/>
          <p:nvPr/>
        </p:nvSpPr>
        <p:spPr>
          <a:xfrm>
            <a:off x="250920" y="3500280"/>
            <a:ext cx="3241440" cy="2953080"/>
          </a:xfrm>
          <a:prstGeom prst="ellipse">
            <a:avLst/>
          </a:prstGeom>
          <a:solidFill>
            <a:srgbClr val="c6d9f1"/>
          </a:solidFill>
          <a:ln cap="rnd"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Stad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Ellipse 3"/>
          <p:cNvSpPr/>
          <p:nvPr/>
        </p:nvSpPr>
        <p:spPr>
          <a:xfrm>
            <a:off x="2411280" y="3213000"/>
            <a:ext cx="4248360" cy="1490760"/>
          </a:xfrm>
          <a:prstGeom prst="ellipse">
            <a:avLst/>
          </a:prstGeom>
          <a:solidFill>
            <a:srgbClr val="f2dcdb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Kirch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0" name="Gerade Verbindung mit Pfeil 5"/>
          <p:cNvCxnSpPr/>
          <p:nvPr/>
        </p:nvCxnSpPr>
        <p:spPr>
          <a:xfrm flipV="1">
            <a:off x="3276360" y="5013000"/>
            <a:ext cx="2951640" cy="28800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grpSp>
        <p:nvGrpSpPr>
          <p:cNvPr id="141" name="Abgerundetes Rechteck 9"/>
          <p:cNvGrpSpPr/>
          <p:nvPr/>
        </p:nvGrpSpPr>
        <p:grpSpPr>
          <a:xfrm>
            <a:off x="5559480" y="3840120"/>
            <a:ext cx="3060720" cy="2378160"/>
            <a:chOff x="5559480" y="3840120"/>
            <a:chExt cx="3060720" cy="2378160"/>
          </a:xfrm>
        </p:grpSpPr>
        <p:pic>
          <p:nvPicPr>
            <p:cNvPr id="142" name="Abgerundetes Rechteck 9" descr=""/>
            <p:cNvPicPr/>
            <p:nvPr/>
          </p:nvPicPr>
          <p:blipFill>
            <a:blip r:embed="rId1"/>
            <a:stretch/>
          </p:blipFill>
          <p:spPr>
            <a:xfrm>
              <a:off x="5559480" y="3840120"/>
              <a:ext cx="3060720" cy="237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5694480" y="3975120"/>
              <a:ext cx="2795400" cy="21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Calibri"/>
                </a:rPr>
                <a:t>Hof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feld 1"/>
          <p:cNvSpPr/>
          <p:nvPr/>
        </p:nvSpPr>
        <p:spPr>
          <a:xfrm>
            <a:off x="609840" y="1844640"/>
            <a:ext cx="81511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Musik der Stad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Städtische Musiker/“Turner“ (Zunft)/musicians of th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town (musician´s guil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Bruderschaften (</a:t>
            </a:r>
            <a:r>
              <a:rPr b="0" lang="de-D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Kirche)/fraternities (</a:t>
            </a:r>
            <a:r>
              <a:rPr b="0" lang="de-D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 churc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Musik der Straße/music at the stre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Öffentliches Vergnügen (Tanz, Harfenisten, Jahrmarkt)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public feasts and amus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Theater/thea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Repräsentation/representation (v.a. landesfürstlich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und Reichsstäd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feld 1"/>
          <p:cNvSpPr/>
          <p:nvPr/>
        </p:nvSpPr>
        <p:spPr>
          <a:xfrm>
            <a:off x="250920" y="1700280"/>
            <a:ext cx="878508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ruderschaften/fraterniti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Bürgertum bzw. Bürgertum &amp; Adel/civil society 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middle class &amp; no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Sozialer und religiöser Aspekt/social and religious asp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Zusammenschluss einer sozialen Gruppe („Solidargemeinschaft“)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federation of a social group (community of solidarit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Religiöse Feste/liturgical fea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Wallfahrten und Prozessionen und Engagement bei Prozessio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der Stadt/ processions and engagement at process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3. Aufgaben in der Stadtverwaltung/duties (z.B./e.g. Nikolai-Bruderschaft in Wi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feld 1"/>
          <p:cNvSpPr/>
          <p:nvPr/>
        </p:nvSpPr>
        <p:spPr>
          <a:xfrm>
            <a:off x="778320" y="1628640"/>
            <a:ext cx="78019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Kirche/Klöster – church/monaste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Liturgie/litur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Organist/Kapelle – organist/chap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Komposition/composi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Schulen (Knaben &amp; Mädchen)/edu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Musikausbildung (Knaben)/education in mus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Bruderschaften/Stiftungen – fraternities/don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Wallfahrten/Prozessionen – pilgrimage/proce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Bildergebnis für kirchenmusik barock"/>
          <p:cNvPicPr/>
          <p:nvPr/>
        </p:nvPicPr>
        <p:blipFill>
          <a:blip r:embed="rId1"/>
          <a:stretch/>
        </p:blipFill>
        <p:spPr>
          <a:xfrm>
            <a:off x="4356000" y="404640"/>
            <a:ext cx="4095720" cy="3305520"/>
          </a:xfrm>
          <a:prstGeom prst="rect">
            <a:avLst/>
          </a:prstGeom>
          <a:ln w="0">
            <a:noFill/>
          </a:ln>
        </p:spPr>
      </p:pic>
      <p:sp>
        <p:nvSpPr>
          <p:cNvPr id="148" name="Textfeld 1"/>
          <p:cNvSpPr/>
          <p:nvPr/>
        </p:nvSpPr>
        <p:spPr>
          <a:xfrm>
            <a:off x="250920" y="1844640"/>
            <a:ext cx="3889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Konzil von Trient (1545-1563)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Vereinheitlichung/standardiz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Regulation/regul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Strikte Vorgaben (auch für die Musik) / strict rules (also for church music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4" descr="https://encrypted-tbn3.gstatic.com/images?q=tbn:ANd9GcQiqG6gSg04z7gJxZXJz5U6KqCWEcYK7RSrlwbwQzxF4heR1_AXf7EmJnYI"/>
          <p:cNvPicPr/>
          <p:nvPr/>
        </p:nvPicPr>
        <p:blipFill>
          <a:blip r:embed="rId2"/>
          <a:stretch/>
        </p:blipFill>
        <p:spPr>
          <a:xfrm>
            <a:off x="468360" y="3860640"/>
            <a:ext cx="1781280" cy="25624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Bildergebnis für piaristen"/>
          <p:cNvPicPr/>
          <p:nvPr/>
        </p:nvPicPr>
        <p:blipFill>
          <a:blip r:embed="rId3"/>
          <a:stretch/>
        </p:blipFill>
        <p:spPr>
          <a:xfrm>
            <a:off x="4643280" y="4060800"/>
            <a:ext cx="2114640" cy="2162160"/>
          </a:xfrm>
          <a:prstGeom prst="rect">
            <a:avLst/>
          </a:prstGeom>
          <a:ln w="0">
            <a:noFill/>
          </a:ln>
        </p:spPr>
      </p:pic>
      <p:sp>
        <p:nvSpPr>
          <p:cNvPr id="151" name="Textfeld 2"/>
          <p:cNvSpPr/>
          <p:nvPr/>
        </p:nvSpPr>
        <p:spPr>
          <a:xfrm>
            <a:off x="2544120" y="6054840"/>
            <a:ext cx="24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Jesuiten/Jesuit order - SJ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feld 3"/>
          <p:cNvSpPr/>
          <p:nvPr/>
        </p:nvSpPr>
        <p:spPr>
          <a:xfrm>
            <a:off x="6951600" y="585468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Piaristen - P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feld 1"/>
          <p:cNvSpPr/>
          <p:nvPr/>
        </p:nvSpPr>
        <p:spPr>
          <a:xfrm>
            <a:off x="755640" y="2060640"/>
            <a:ext cx="6769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Liturgie/Mes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b050"/>
                </a:solidFill>
                <a:latin typeface="Calibri"/>
              </a:rPr>
              <a:t>Ordinarium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Proprium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Kyrie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- Introit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Gloria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- Gra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Credo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- Offertor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Sanct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enedictu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gnus Dei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- Commun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4" name="Gerade Verbindung mit Pfeil 3"/>
          <p:cNvCxnSpPr/>
          <p:nvPr/>
        </p:nvCxnSpPr>
        <p:spPr>
          <a:xfrm flipH="1">
            <a:off x="2268000" y="3357360"/>
            <a:ext cx="2160000" cy="108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Gerade Verbindung mit Pfeil 6"/>
          <p:cNvCxnSpPr/>
          <p:nvPr/>
        </p:nvCxnSpPr>
        <p:spPr>
          <a:xfrm>
            <a:off x="2268000" y="3357720"/>
            <a:ext cx="1080" cy="35892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Gerade Verbindung mit Pfeil 8"/>
          <p:cNvCxnSpPr/>
          <p:nvPr/>
        </p:nvCxnSpPr>
        <p:spPr>
          <a:xfrm>
            <a:off x="2268360" y="3860280"/>
            <a:ext cx="2160000" cy="108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Gerade Verbindung mit Pfeil 10"/>
          <p:cNvCxnSpPr/>
          <p:nvPr/>
        </p:nvCxnSpPr>
        <p:spPr>
          <a:xfrm flipH="1">
            <a:off x="2339280" y="3860640"/>
            <a:ext cx="2088360" cy="43272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Gerade Verbindung mit Pfeil 12"/>
          <p:cNvCxnSpPr/>
          <p:nvPr/>
        </p:nvCxnSpPr>
        <p:spPr>
          <a:xfrm>
            <a:off x="2339640" y="4292280"/>
            <a:ext cx="2088360" cy="108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Gerade Verbindung mit Pfeil 14"/>
          <p:cNvCxnSpPr/>
          <p:nvPr/>
        </p:nvCxnSpPr>
        <p:spPr>
          <a:xfrm flipH="1">
            <a:off x="2700000" y="4292280"/>
            <a:ext cx="1728000" cy="57708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Gerade Verbindung mit Pfeil 16"/>
          <p:cNvCxnSpPr/>
          <p:nvPr/>
        </p:nvCxnSpPr>
        <p:spPr>
          <a:xfrm>
            <a:off x="2700360" y="4868640"/>
            <a:ext cx="288000" cy="36108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1" name="Gerade Verbindung mit Pfeil 18"/>
          <p:cNvCxnSpPr/>
          <p:nvPr/>
        </p:nvCxnSpPr>
        <p:spPr>
          <a:xfrm flipH="1">
            <a:off x="2987280" y="5444640"/>
            <a:ext cx="144720" cy="36108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2" name="Gerade Verbindung mit Pfeil 20"/>
          <p:cNvCxnSpPr/>
          <p:nvPr/>
        </p:nvCxnSpPr>
        <p:spPr>
          <a:xfrm>
            <a:off x="3058920" y="5805000"/>
            <a:ext cx="1369080" cy="108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feld 1"/>
          <p:cNvSpPr/>
          <p:nvPr/>
        </p:nvSpPr>
        <p:spPr>
          <a:xfrm>
            <a:off x="858600" y="1341360"/>
            <a:ext cx="467748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Liturgie/Vesp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Introit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Hymn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Psalmen (2-5) plus Antiph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Lesung/Lect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Homil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Responsori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Magnific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Fürbitten/Oration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Pater noster (Vespermelodie!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O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Seg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feld 1"/>
          <p:cNvSpPr/>
          <p:nvPr/>
        </p:nvSpPr>
        <p:spPr>
          <a:xfrm>
            <a:off x="564840" y="1916280"/>
            <a:ext cx="5769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Ordenstheater/theater at ord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Jesuiten, Piaristen, Benediktin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feld 2"/>
          <p:cNvSpPr/>
          <p:nvPr/>
        </p:nvSpPr>
        <p:spPr>
          <a:xfrm>
            <a:off x="717840" y="3357720"/>
            <a:ext cx="7735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Gegenreformation 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politische &amp; religiöse Inhal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Musik als Mittel der Verstärkung des Ausdrucks (Bekehrung, Besserung)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Counterreformation 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political &amp; religious aspe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Music used to intensify these aspects (conversion, improvemen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Anfangs ohne Musik, dann wachsender Musikanteil/first without music, but with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increasing music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Enge Anbindung an Adel und Hof/close to nobility and cou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feld 1"/>
          <p:cNvSpPr/>
          <p:nvPr/>
        </p:nvSpPr>
        <p:spPr>
          <a:xfrm>
            <a:off x="717840" y="1916280"/>
            <a:ext cx="818640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del/nobilit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Landadel ↔ Hofadel /country or lande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gentry ↔ court no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Religiöse Aspekte (Stiftungen!)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religious aspects (foundations!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Bildung und Hofdienst bzw. Landesdienst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education and service as political representati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of the estates or at the cou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feld 1"/>
          <p:cNvSpPr/>
          <p:nvPr/>
        </p:nvSpPr>
        <p:spPr>
          <a:xfrm>
            <a:off x="179280" y="1700280"/>
            <a:ext cx="892980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Repräsentation/representa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Darstellung der eigenen Familie/representing the fami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Darstellung eines Amtes/representing an official pos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Repräsentation des Kaisers/Königs / representing the king/emper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Militärdienst/Military for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Kunst und Musik (Hofkünste)/Arts and music (court art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Grafik 2" descr=""/>
          <p:cNvPicPr/>
          <p:nvPr/>
        </p:nvPicPr>
        <p:blipFill>
          <a:blip r:embed="rId1"/>
          <a:stretch/>
        </p:blipFill>
        <p:spPr>
          <a:xfrm>
            <a:off x="2340000" y="1197000"/>
            <a:ext cx="6622920" cy="5398920"/>
          </a:xfrm>
          <a:prstGeom prst="rect">
            <a:avLst/>
          </a:prstGeom>
          <a:ln w="0">
            <a:noFill/>
          </a:ln>
        </p:spPr>
      </p:pic>
      <p:pic>
        <p:nvPicPr>
          <p:cNvPr id="123" name="Textfeld 3" descr=""/>
          <p:cNvPicPr/>
          <p:nvPr/>
        </p:nvPicPr>
        <p:blipFill>
          <a:blip r:embed="rId2"/>
          <a:stretch/>
        </p:blipFill>
        <p:spPr>
          <a:xfrm>
            <a:off x="171360" y="3578400"/>
            <a:ext cx="755640" cy="31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feld 1"/>
          <p:cNvSpPr/>
          <p:nvPr/>
        </p:nvSpPr>
        <p:spPr>
          <a:xfrm>
            <a:off x="715320" y="1844640"/>
            <a:ext cx="8129520" cy="45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Kaiserhof/Königshof – emperor´s/king´s cour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Bis 1620/22: mehrere Residenzstädte (Wien, Prag, Innsbruck etc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Until 1620/22: a bundle of residences (Vienna, Prag, Innsbruck etc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Nach 1620/22: Wien wird Reichshaupt- und Residenzstadt (Ferdinand II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After 1620/22: residence in Vienna (Ferdinand II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Hof wächst zur enormer Größe in der Zeit von Ferdinand II. bis Karl VI. 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(1619-174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Court is encreasing to enormous dimensions from Ferdinand II. to Karl V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Neuer Stil (Barock) und neue Gattungen (Oper, Oratorium, große höfisch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Festinszenierungen, v.a. in Zusammenhang mit Hochzeite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New style (baroque) and new genres (opera, oratorio, large fea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eg. at weddings)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feld 1"/>
          <p:cNvSpPr/>
          <p:nvPr/>
        </p:nvSpPr>
        <p:spPr>
          <a:xfrm>
            <a:off x="538560" y="1700280"/>
            <a:ext cx="848952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arock/baroqu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Wichtigste Gattung/most important genr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Oper bzw. musikdramatische Werke / opera/musical dra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Kammermusik/Instrumentalmusik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chamber music/instrumental mus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Kirchenmusik/church mus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feld 1"/>
          <p:cNvSpPr/>
          <p:nvPr/>
        </p:nvSpPr>
        <p:spPr>
          <a:xfrm>
            <a:off x="862200" y="1773360"/>
            <a:ext cx="7079760" cy="42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Hofmusikkapelle/imperial chapel – Ferdinand I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Kapellmeister: Giov. Priuli/Giov. Valentin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Vizekapellmeister: Pietro Verdi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Organisten: A. Taddei, A. Bontempo, G. Valentin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Singer: 18 Männer, 12 Knaben (1 Praecepto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Instrumentalisten und Trompeter: 2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1 Heerpauk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1 Calka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Quelle: L. R. v. Köchel, 1869, 56-58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feld 1"/>
          <p:cNvSpPr/>
          <p:nvPr/>
        </p:nvSpPr>
        <p:spPr>
          <a:xfrm>
            <a:off x="194760" y="1268280"/>
            <a:ext cx="8463600" cy="54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Hofmusikkapelle – Ferdinand III.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Kapellmeister (1): Giov. Valentini/Ant. Bertal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Vizekapellmeister (1): P. Verdina/Felice San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Organisten (4): J. A. Platzer. G. Arrigoni, W. Ebner, J.J. Froberger, C. F. Simonelli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P. Neidlinger, M. Eb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Bassisten (7): 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Tenoristen (8): 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Altisten (5): 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Sopranisten (5): 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Sängerknaben: ca. 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Instrumentalisten (23): 4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8-9 Trompe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2-5 Kopisten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1 Lautenmacher (Instrumentenbauer)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1-3 Kalkanten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1 Die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Grafik 1" descr=""/>
          <p:cNvPicPr/>
          <p:nvPr/>
        </p:nvPicPr>
        <p:blipFill>
          <a:blip r:embed="rId1"/>
          <a:srcRect l="21587" t="6581" r="4059" b="5590"/>
          <a:stretch/>
        </p:blipFill>
        <p:spPr>
          <a:xfrm>
            <a:off x="2124000" y="1413000"/>
            <a:ext cx="6799320" cy="5195880"/>
          </a:xfrm>
          <a:prstGeom prst="rect">
            <a:avLst/>
          </a:prstGeom>
          <a:ln w="0">
            <a:noFill/>
          </a:ln>
        </p:spPr>
      </p:pic>
      <p:pic>
        <p:nvPicPr>
          <p:cNvPr id="125" name="Textfeld 2" descr=""/>
          <p:cNvPicPr/>
          <p:nvPr/>
        </p:nvPicPr>
        <p:blipFill>
          <a:blip r:embed="rId2"/>
          <a:stretch/>
        </p:blipFill>
        <p:spPr>
          <a:xfrm>
            <a:off x="262080" y="3786120"/>
            <a:ext cx="74916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feld 1"/>
          <p:cNvSpPr/>
          <p:nvPr/>
        </p:nvSpPr>
        <p:spPr>
          <a:xfrm>
            <a:off x="498600" y="1557360"/>
            <a:ext cx="80341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ZEITPLAN / TIMET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Ferdinand II.: 1619-163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Barock setzt sich durch/rise of baro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1618-1648: 30jähriger Krieg/30 years w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b050"/>
                </a:solidFill>
                <a:latin typeface="Calibri"/>
              </a:rPr>
              <a:t>ca. 1620: Wien wird „immerwährende“ Residenz/Vienna becomes residence of the imperial court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Ferdinand III.: 1637-1657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1648: Westfälischer Friede/Westphalian Treaty: end of 30 years w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feld 2"/>
          <p:cNvSpPr/>
          <p:nvPr/>
        </p:nvSpPr>
        <p:spPr>
          <a:xfrm>
            <a:off x="468360" y="1700280"/>
            <a:ext cx="82072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Ferdinand IV: 1653/164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Leopold I.: 1658-170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r"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b050"/>
                </a:solidFill>
                <a:latin typeface="Calibri"/>
              </a:rPr>
              <a:t>2. Wiener Türkenbelagerung/2nd siege of Vienna 168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r"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b050"/>
                </a:solidFill>
                <a:latin typeface="Calibri"/>
              </a:rPr>
              <a:t>1680 ff. Pest/plague (Prag, Wien/Praha, Vienn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Joseph I.: 1705-17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Karl [III.] VI: 1705-174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Ende des Hochbarock/high baroqu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ends ca./c. 1735-1750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feld 1"/>
          <p:cNvSpPr/>
          <p:nvPr/>
        </p:nvSpPr>
        <p:spPr>
          <a:xfrm>
            <a:off x="324000" y="1628640"/>
            <a:ext cx="8640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Maria Theresia: 1740-17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Karl (Albrecht) VII.: 1740-174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Franz (Stephan) I.: 1745-176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Neuer Stil/new tone: zwischen Spätbaroc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und Vorklassik/between late baroqu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and pre-classic st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Joseph II.: 1765-179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b050"/>
                </a:solidFill>
                <a:latin typeface="Calibri"/>
              </a:rPr>
              <a:t>Josephinische Refomen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b050"/>
                </a:solidFill>
                <a:latin typeface="Calibri"/>
              </a:rPr>
              <a:t>Josephinism and refor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feld 1"/>
          <p:cNvSpPr/>
          <p:nvPr/>
        </p:nvSpPr>
        <p:spPr>
          <a:xfrm>
            <a:off x="395280" y="1773360"/>
            <a:ext cx="8640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Leopold II: 1790-179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Öffentliches Konzertwesen/public concer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Musikverlage/editors &amp; prin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Musikvereine/music socie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b050"/>
                </a:solidFill>
                <a:latin typeface="Calibri"/>
              </a:rPr>
              <a:t>Französische Revolution &amp; Napoleonische Kriege/French Revolution &amp; Napoleonic W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Franz II./I. (1792-1806/1804-183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b050"/>
                </a:solidFill>
                <a:latin typeface="Calibri"/>
              </a:rPr>
              <a:t>Wiener Kongress/Congress of Vien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Biedermei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Grafik 1" descr=""/>
          <p:cNvPicPr/>
          <p:nvPr/>
        </p:nvPicPr>
        <p:blipFill>
          <a:blip r:embed="rId1"/>
          <a:stretch/>
        </p:blipFill>
        <p:spPr>
          <a:xfrm>
            <a:off x="2556000" y="404640"/>
            <a:ext cx="2340000" cy="3276720"/>
          </a:xfrm>
          <a:prstGeom prst="rect">
            <a:avLst/>
          </a:prstGeom>
          <a:ln w="0">
            <a:noFill/>
          </a:ln>
        </p:spPr>
      </p:pic>
      <p:pic>
        <p:nvPicPr>
          <p:cNvPr id="131" name="Grafik 2" descr=""/>
          <p:cNvPicPr/>
          <p:nvPr/>
        </p:nvPicPr>
        <p:blipFill>
          <a:blip r:embed="rId2"/>
          <a:stretch/>
        </p:blipFill>
        <p:spPr>
          <a:xfrm>
            <a:off x="5576760" y="1870200"/>
            <a:ext cx="3276720" cy="3773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Bildergebnis für biedermeier musik"/>
          <p:cNvPicPr/>
          <p:nvPr/>
        </p:nvPicPr>
        <p:blipFill>
          <a:blip r:embed="rId3"/>
          <a:stretch/>
        </p:blipFill>
        <p:spPr>
          <a:xfrm>
            <a:off x="250920" y="3848040"/>
            <a:ext cx="4608360" cy="2811600"/>
          </a:xfrm>
          <a:prstGeom prst="rect">
            <a:avLst/>
          </a:prstGeom>
          <a:ln w="0">
            <a:noFill/>
          </a:ln>
        </p:spPr>
      </p:pic>
      <p:sp>
        <p:nvSpPr>
          <p:cNvPr id="133" name="Textfeld 3"/>
          <p:cNvSpPr/>
          <p:nvPr/>
        </p:nvSpPr>
        <p:spPr>
          <a:xfrm>
            <a:off x="34920" y="1700280"/>
            <a:ext cx="25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Kaiserhof/Hof/A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(imperial) court &amp; no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feld 4"/>
          <p:cNvSpPr/>
          <p:nvPr/>
        </p:nvSpPr>
        <p:spPr>
          <a:xfrm>
            <a:off x="5732640" y="69228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Kirche/Klöster/Bruderschaft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Church/monasteries/fratern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feld 5"/>
          <p:cNvSpPr/>
          <p:nvPr/>
        </p:nvSpPr>
        <p:spPr>
          <a:xfrm>
            <a:off x="5364000" y="5908680"/>
            <a:ext cx="367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Bürgertum/Stadt(gemeinde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Civil society, middle class/municipal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feld 1"/>
          <p:cNvSpPr/>
          <p:nvPr/>
        </p:nvSpPr>
        <p:spPr>
          <a:xfrm>
            <a:off x="2708640" y="3716280"/>
            <a:ext cx="424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Von 1600 bis ca. 165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From 1600 to c. 165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03T10:44:20Z</dcterms:created>
  <dc:creator>Hilscher, Elisabeth</dc:creator>
  <dc:description/>
  <dc:language>en-US</dc:language>
  <cp:lastModifiedBy>Jana Perutková</cp:lastModifiedBy>
  <cp:lastPrinted>2016-10-04T08:01:33Z</cp:lastPrinted>
  <dcterms:modified xsi:type="dcterms:W3CDTF">2016-12-09T15:26:44Z</dcterms:modified>
  <cp:revision>44</cp:revision>
  <dc:subject/>
  <dc:title>PowerPoint-Präsentation</dc:title>
</cp:coreProperties>
</file>