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4F6-47EA-4412-90BF-CA0B6A6B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3FD-200D-458E-AB79-C95A11A8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E46-8168-4131-B992-C6BEBB37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AD7-44E1-46B3-ADAD-A1FD9873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DD3-64FE-4122-9298-EC888E4F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C4E-1843-45C6-B4F5-AAFC2A68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D3B-C8F0-4BC6-9AD4-EE2D8A58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3CC-90CA-4C97-AD5A-C7F6C26F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ADA-6F9C-4499-80E3-934B2E4D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E86-3C2A-4571-80A8-1BCE16E5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71A-0BC8-4507-B1E0-77E6E98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6ED-27B2-45D0-9E35-3696883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551-1AC8-49B3-9843-9007E7E17B63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446040" y="1803960"/>
            <a:ext cx="8078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671640" cy="472140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ofstil – „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ynonym für die Erstarrung ab circa 17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a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nieri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eine neuen Gatt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nig Weiterentwick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ilkritererien  - Re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rum? (An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Für wen? (Zielpubli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er? (Ausführen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s? (Gattung, Stückauswah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ie? (Stil, Aufführungs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p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schematisierte Libretti (Metastasio) – personalisierte und auf den Anlass bezogene Lic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antat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in Text und Musik auf einen Anlass „durchkomponiert“ (großes Variantenbreite betreffend Umf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cesco Bartolomeo Co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ra cetre, fra tromb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19, Hochzeit Erzherzogin Maria Josepha mit  Kurprinz Friedrich August von Sach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iovanni Bononc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L´oracolo d´Apo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07 (zur Zeit des spanischen Erbfolgekrieges, kein konkreter Anlass bekan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mponimenti per la cam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/Pietro Pari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afne in Lau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Geburtstag Karls VI. 17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uro = Lorbeer = Lob/Ruhm (militärisch/staatsmänn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/Pietro Metastas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 Passione di Gesù Cr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ignor Nos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729 (Fastenoratorium für die Hofkape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ola Porpora/Andrea Peru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Il Ged</a:t>
            </a: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37 (für Wr. Hofkapelle, UA 28.3.17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irchen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aiser-Requiem“ K 51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 „Plaudite, sonat Tuba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n „Ego sum Panis vivus“ &amp; „O Sacrum Conviviu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abat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stil“ – Imperial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a. 1700 bis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mmermusik/Instrumental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hiesa in G-Dur K 3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amera in F-Dur E 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centus musico instrumentalis: Ouverture à 4 (Nr.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ynfonia à 3 K 3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weit wird der Stil am Kaiserhof von anderen Höfen kopiert und nachgeahm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Gibt es einen „Kaiserstil“ ohne Kaiser oder ist es besser von einem Repräsentationsstil zu sprechen mit dem jeweiligen Repräsentanten einer Hofhaltung als „Spiegelfläche“ der Aufführu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lche anderen Vorbilder/anderen Stile werden (vom Hof abgesehen) von den Höfen in den habsburgischen Ländern ab  ca. 1720 aufgesuch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bild: Stil des Kaiserhof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t seine Berechtigung bis ca. 1720/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usik aus der Hofmusikkapelle wird von Höfen/Klöstern kopiert bzw. werden Aufträge an Komponisten des Hofes von diesen verg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 hat sicherlich eine sehr hochstehende Musikpflege mit einer hohen Dichte an exzellenten Musik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 ohne Kai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Streng genommen sind nur dann kaiserlicher Stilelemente angebracht, wenn auch der Kaiser als „Spiegel“ der Repräsentation gemeint i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Kaiserstil“ meint ein Bündel an repräsentativen Stilelementen, die  - je nach Anforderung – zur Anwendung kom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Diese Repräsentations-Stile werden (in angemessen reduzierter Form) auch von allen anderen Hofhaltungen in den habsburgischen Ländern bzw. im Reich angewendet – gespiegelt auf den jeweiligen Repräsentanten (Fürst, Bischof, etc.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eue Wege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 ca. 1725/30 muss der Kaiserhof seine Ausgaben reduzieren (deutlich ab 17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Hofmusikkap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Festlichk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ere Höfe (geistliche wie weltlich) beginnen ab 1720 zunehmend, eigene Vorbilder für ihre Musikpraxis zu suchen (Kaiserhof verliert den Rang, primär Vorbild in musikalischen Dingen zu s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finition(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gesch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wissen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lcher Stil wofü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 – Zeremoni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r Kaiser als „Spiegelfläch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ns Sedlmayr 19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olitische Bedeutung des deutschen Barocks (Der „Reichsstil“)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esamtdeutsche Vergangenheit. FS für Heinrich von Srbik. München 1938, 126-14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“ als eigenständige deutsche Barock-Entwicklung (keine „nur“ Weiterentwicklung des italienisch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gangspunkt: der österreichische Kaiserhof der Prinz Eugen-Z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 ist ein synthetischer Stil aus dem italienischen Hochbarock und der französischen Vor-Klassik (Beispiel: Krautmarkt-Brunnen in Brünn durch Bernini [Italien] und Le Brun [Frankreich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harakteristisch ist eine Annäherung von sakralem und imperialem S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uptvertreter und Haupttheoretiker des Reichsstils ist Johann Bernhard Fischer von Erl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"/>
          <p:cNvPicPr/>
          <p:nvPr/>
        </p:nvPicPr>
        <p:blipFill>
          <a:blip r:embed="rId1"/>
          <a:srcRect l="22187" t="16251" r="27752" b="20938"/>
          <a:stretch/>
        </p:blipFill>
        <p:spPr>
          <a:xfrm>
            <a:off x="1403280" y="836640"/>
            <a:ext cx="705636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19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„Reichsstil“ in der deutschen Musikgeschichte des 18. Jahrhundert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. Reichert – M. Just (Hg.), Bericht über den Int. Musikwissenschaftlichen Kongress Kassel 1962. Kassel etc. 1963, 34-3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von „Reichsstil“ sollte eher von „Imperialstil“ gesprochen we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arallelen betreffend Entwicklung wie künstlerischer Haltung bei Johann Bernhard Fischer von Erlach und Johann Joseph F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ch in der Musik ist eine Synthese von Stilen (italienisch wie französisch) ein Charakteristikum des Imperialstils; Architektur wie Musik sind auch durch ihre Lehrbücher (Fischer/Fux) nachhaltig „stilbildend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 Hauptpunkte: 1) Kaiser als Auftraggeber und Widmungsträger; 2) Repräsentationsstil; 3) Verbreitung an andere Höfe des Rei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llmut Lorenz, 19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Vienna Gloriosa Habsburgica?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Kunsthistoriker 2 (1985) Heft 4/5, 44-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ht kritisch von Sedlmayrs These des „Reichsstils“ aus [Verbindung von Stilwandel und politischem Wande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ritik: J. B. Fischer von Erlach bleibt der Theorie verhaftet und baut NICHT [erst sein Soh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 die Kaiser treten [anders als in der Musik] in der Kunst deutlich hinter den Hofadel zurück; erst Karl VI. zeigt gegen 1720 eine langsam anlaufende Bautätigkeit [Österreichische Hofkanzlei, Hofstallungen, Hofbibliothek, Reichskanzleitrakt, Winterreitschul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„Reichsstil“ ist für Karl VI. eher „Kaiserstil“ zu wählen [wie von F. Matsche vorgeschlagen], da hier der Wille des Kaisers spürbar 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rbert Karner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8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Reichsstil, Kaiserstil oder die Kunst des Heiligen Römischen Reiches deutscher Nation: Kunstgeschichte und politische Begriffskonstruktione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sammenfassung der Begriffsdiskussion ab Sedlmayr bis he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inweis auf die Singularität der kaiserlichen Bauten Karls V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ersönliche Vorlieben der Auftraggeber bestimmten die Auswahl der Künstler, nicht ein verbindendes „Stilbewusstsein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dlmayrs Synthese-Theorie (italienisch- französischer Mischstil) hat sich jedoch bestätig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n Ansätze bei M. Müller (Kastellform als „Logo“ für Schoss- und Repräsentationsbauten im Rei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aiserliche Musik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4 große Theoriewerke: Küchelbecker 1730, Heraeus 1734 bzw. Albrecht 1731, Fischer von Erlach 1721 und Fux 17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ilkennzeichen des Repräsentationsstils: Pauken und Trompeten; Verschmelzung mit liturgischen und para-liturgischen Elem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mischung zwischen Stilvorgaben aufgrund des Anlasses und des durch die meisten Komponisten gepflegten „gemischten Stils“ von italienischen und französischen Elementen [Riedel betont die FUNKTION der Musik im Zeremoniel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12:37Z</dcterms:created>
  <dc:creator>Hilscher, Elisabeth</dc:creator>
  <dc:description/>
  <dc:language>en-US</dc:language>
  <cp:lastModifiedBy>Jana Perutková</cp:lastModifiedBy>
  <cp:lastPrinted>2016-11-21T11:03:40Z</cp:lastPrinted>
  <dcterms:modified xsi:type="dcterms:W3CDTF">2016-12-09T15:48:12Z</dcterms:modified>
  <cp:revision>23</cp:revision>
  <dc:subject/>
  <dc:title>PowerPoint-Präsentation</dc:title>
</cp:coreProperties>
</file>