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8AA-3FE5-4BF4-B35F-BD3676D8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792-C0DF-4417-9C8D-3FD70039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9EF-2B27-441A-8EA3-0BC0C370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2C2-C1BC-41DA-9106-AEE05770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5319-4665-4B30-945A-7A735982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A369-B5ED-4C80-941C-2DE2CAE7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4461-9CE7-4723-AEA2-52F2F77C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A07A-6B8D-49B9-9CF9-269C7EE2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F983-700E-4358-8F4E-567E935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C1CA-6FCE-4CBD-BBDC-8ED97AB3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A880-5B36-4872-ADDC-5869A9C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CDB-1EC9-449B-B75D-D372EFD9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C285-F922-4ABA-9C58-3C00FED0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2348-D0C5-4686-A7F2-097F6E2A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5E09-43D7-4FAE-9BC0-875FD60C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415F-D3D2-451C-AD6D-A777DB90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69AD-A890-4F4E-BB4B-BFBBFE8A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3609-9ADB-41AB-9DFD-A7F3C60B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39DB-B1ED-4F14-B367-62F37F66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A0177-847D-46F1-98CA-A198FAE0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5773-DF2A-440E-A2A9-D5C2BEFA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7886-A13F-4061-BEBF-58AE8EEB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403-829D-4269-8C22-707CC147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81B4E-642A-4806-B093-070B3FBD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6FA7-B7AF-41BE-A047-3398643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13C8-6496-4C24-8372-B6998FD0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2DE93-7060-4C4E-9EE3-8D15997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4BE1-D499-47F5-8A07-2F5BE78C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AAFB-E631-4E92-BD02-14106339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00AA-79D9-44F7-9B48-44176B07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73A4C-8CA1-45D7-A82D-1FD957BA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A981C-EAF8-45E6-A1FD-2AB52AC2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AED56-233C-416C-9B33-12E5AE39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5A2-E3B6-4BC6-B134-55866ACE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E10F-48E6-4166-AA1F-C72503DA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913A0-7771-490D-9EA3-6F83E08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F350-D1D6-43E0-80ED-F958B74F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2A410-A79C-4D98-A095-48495171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D607-5DAB-45DB-BECA-F8B8B32A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A0EC-B463-4964-BCB1-4F8C70C6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C43E-18AE-4F96-B716-D36509B0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1A8B7-B8C3-4179-8528-788F0EDC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89F2-D440-4859-8392-B0DD8C3E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B47D-3128-4F66-B916-FFA8309D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D96-D766-4069-9B61-0E934D45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441F-DBAE-49F8-B448-FC52C434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EEC9-1C53-4391-8F18-85B41DAF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FDEB-F3CC-4978-8065-E41A826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9CDB1-C436-411F-9375-4F680349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4A54B-17C5-4FFC-B353-BFBB6C20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F4DA7-4A72-41CD-9477-1E197C7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B36A-6506-49A7-A724-90F9F999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F3BB3-AA9D-4C0D-B2C4-35A868A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A550F-5AC3-4D9E-8C03-E3CC83A3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9340-D19A-42F5-B986-E7850FC7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286-1B0F-4CDF-8D05-B53261FB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E3DF5-8FC4-45D8-B9DF-2F3C0A63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69B-084D-4ED9-8A52-22265A2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6D7-62CA-463A-AF4D-CB8EA56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A45-9E59-42DC-AA8F-7F086862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1840" y="231840"/>
            <a:ext cx="11734560" cy="6394320"/>
            <a:chOff x="231840" y="231840"/>
            <a:chExt cx="11734560" cy="639432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31840" y="231840"/>
              <a:ext cx="11734560" cy="63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5080" y="237960"/>
              <a:ext cx="1172196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32FDC-659B-4062-BE85-0D2086DFAD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22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46" name="Rectangle 22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" name="Rectangle 9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49" name="Rectangle 9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1" name="Rectangle 10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4" name="Straight Connector 16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5" name="Straight Connector 17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" name="Straight Connector 18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7FBC8-BDAE-46F1-A2ED-B4A5140F2FA5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14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99" name="Rectangle 14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01" name="Rectangle 22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102" name="Rectangle 22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4" name="Rectangle 23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6" name="Group 30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7" name="Straight Connector 31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8" name="Straight Connector 32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9" name="Straight Connector 33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26833-AFFF-4C47-B4B5-D2CA588BF2A0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BDE5E-9DBC-43C4-8BC0-62AD957D8D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4B612-862F-4402-9989-243B33504E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1680" y="2579760"/>
            <a:ext cx="90709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561680" y="3793680"/>
            <a:ext cx="907092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cd0e0"/>
                </a:solidFill>
                <a:latin typeface="Century Gothic"/>
              </a:rPr>
              <a:t>RŮŽENCOVÉ SONÁTY PRO HOUSLE A B.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bcd0e0"/>
                </a:solidFill>
                <a:latin typeface="Century Gothic"/>
              </a:rPr>
              <a:t>Barbora Kadlíčková, 43784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66320" y="2103120"/>
            <a:ext cx="47545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680" y="2103120"/>
            <a:ext cx="74851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ýznamný skladatel a houslis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Narozen 1644 (Stráž pod Ralske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tudoval jezuitské gymnázium, přátelil se s Pavlem Josefem Vejvanovský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68 – komorník a houslista v kapele biskupa Liechtensteina – Castelcorna v Kroměříž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0 – útěk do Salzburgu, zaměstnání u arcibiskupa Maxmiliána Khuenburg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84 – dvorní kapelník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90 – povýšen do šlechtického stav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emřel 1704 (Salzburg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2" name="Obrázek 6" descr=""/>
          <p:cNvPicPr/>
          <p:nvPr/>
        </p:nvPicPr>
        <p:blipFill>
          <a:blip r:embed="rId1"/>
          <a:stretch/>
        </p:blipFill>
        <p:spPr>
          <a:xfrm>
            <a:off x="8788320" y="2103480"/>
            <a:ext cx="2814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Dílo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1706400"/>
            <a:ext cx="10058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oná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attali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Requi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Mš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pe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ouslová tvorba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yspělá technika, hra ve vysokých poloh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polyfonie v sonát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skordatury – přelaďování strun – hra v netypických tóninách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Obrázek 6" descr=""/>
          <p:cNvPicPr/>
          <p:nvPr/>
        </p:nvPicPr>
        <p:blipFill>
          <a:blip r:embed="rId1"/>
          <a:stretch/>
        </p:blipFill>
        <p:spPr>
          <a:xfrm>
            <a:off x="3687840" y="927000"/>
            <a:ext cx="7981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453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ůžencové sonát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23800" y="1964880"/>
            <a:ext cx="658656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6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ro housle a b.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5 sonát a sólová 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ohatá ornamentik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ra dvojhmatů a akordů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chromatik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ariační princi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ymbolika (překřížení strun v 11. sonátě Vzkříšení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Obrázek 6" descr=""/>
          <p:cNvPicPr/>
          <p:nvPr/>
        </p:nvPicPr>
        <p:blipFill>
          <a:blip r:embed="rId1"/>
          <a:stretch/>
        </p:blipFill>
        <p:spPr>
          <a:xfrm>
            <a:off x="7275600" y="1825560"/>
            <a:ext cx="44193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2320"/>
            <a:ext cx="100584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ozdělení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1666800"/>
            <a:ext cx="47545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rado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vštív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roz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Přítomnost Ježíše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Ježíš opět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bole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6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trpení v olivovém háji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7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Bič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8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trn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9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řížová ces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0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křiž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37000" y="1666800"/>
            <a:ext cx="48877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oslav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Vzkříš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stoup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Letni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zet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 g-moll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llegr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Obrázek 4" descr=""/>
          <p:cNvPicPr/>
          <p:nvPr/>
        </p:nvPicPr>
        <p:blipFill>
          <a:blip r:embed="rId1"/>
          <a:stretch/>
        </p:blipFill>
        <p:spPr>
          <a:xfrm>
            <a:off x="434880" y="5513400"/>
            <a:ext cx="11322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Ukázk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www.youtube.com/watch?v=Mq-SrUZUlu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11m2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ávěr Ukřiž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53m23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Zdroje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lias Dann and Jiří Sehnal. "Biber, Heinrich Ignaz Franz von."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Grove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Oxford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Oxford University Press. Web. 2 Dec. 2016. &lt;http://www.oxfordmusiconline.com/subscriber/article/grove/music/03037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louka, Petr.“Biber, Heinrich Ignaz Franz“. Český hudební slovník osob a institucí. &lt;http://www.ceskyhudebnislovnik.cz/slovnik/index.php?option=com_mdictionary&amp;action=record_detail&amp;id=3854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IMSL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cs.wikipedia.org/wiki/R%C5%AF%C5%BEencov%C3%A9_son%C3%A1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Tisk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22:56:38Z</dcterms:created>
  <dc:creator>Barča</dc:creator>
  <dc:description/>
  <dc:language>en-US</dc:language>
  <cp:lastModifiedBy>Jana Perutková</cp:lastModifiedBy>
  <dcterms:modified xsi:type="dcterms:W3CDTF">2016-12-13T13:56:56Z</dcterms:modified>
  <cp:revision>19</cp:revision>
  <dc:subject/>
  <dc:title>Heinrich franz ignaz von biber</dc:title>
</cp:coreProperties>
</file>