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FDA-3955-4E13-B640-2DCD0AE3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30C-5869-4FDC-844F-3E8E710D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767-EF63-488B-AE2A-EDBCBBFC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DC8-BBA7-4A3D-BF06-C18CA2EF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8DE4-DE31-4BE5-8827-6F64748B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603B-69F0-4E5F-BC34-CC718824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C3C7-7D5B-4132-B7BC-82AC9C56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C20B-2F25-48D0-8075-FAD66041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FD5F-D8D3-4282-84F7-16568E1E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15EA-BB33-4FAD-AF9F-2709C99E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0340-5621-4620-A833-CF69CE5B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0B6-FDAD-4A78-A8EA-5880CFBA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9664-966D-41A5-ABF9-6C74016D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806D-DCD5-4242-861E-6BC682E2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D62B-0BE6-4E2E-BD77-A3297D21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7C0E-20F0-497F-A94A-A9BDC5C0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103E-6258-401B-9174-CA6C6825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B060-EBAC-4A84-9C45-79A78C08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F984-B889-4F04-A0DA-FA52D54B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7E2A-61F9-41EF-93FC-DD026C0A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0A7C-7272-4441-ACF1-67B728EA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DA278-785F-414C-A151-795FC845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C46-F332-434A-936B-2E654041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726D9-7A0C-44B6-AB48-B12BA886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A1DF-427C-48F5-9118-68E11309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CD47-4493-46A2-9630-359BE68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C1E4-5AE3-4DDD-9F04-59CBB03F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20B7-DA3C-441A-904D-5B2C59A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0463-2744-4036-8156-E17935F3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B32A-73E2-4767-91F5-949EC03F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0D04-611F-4A29-855F-F7C20484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B63F4-E280-44C4-9436-B551E87A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5FDD7-5033-4660-9987-32635E49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5B4-28E3-414F-BE7E-8D37BF20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88933-877E-4810-AC0A-2AAD49CA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96702-34DA-4F23-BE15-35B8F61F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4F5B-3803-457B-B55D-52CAC0A5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A533-6FEA-4C2B-9514-447E045F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52B70-3478-43E8-B5B2-2B4E7892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7565-284B-41E9-ACD4-FE7D677A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720C3-F38C-4F9F-BE9C-5266D06B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64BC2-F28B-4566-9092-97FAEBC3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05053-E13F-41F8-A895-7E752BA3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15D56-A551-4C03-928A-E167629E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912-75B0-49C2-BFD0-B0BCEFEA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CA6CA-D46D-4773-96EB-844D5B92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F11DB-3417-4268-B312-DE299BBB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33DC0-EBAD-4FFB-A7E4-FBB94BDC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DAF49-63EB-4565-87BD-A1696254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D10B5-531C-4722-9712-0300BB95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FE146-A5FF-4BE1-932D-37D52BCA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1DFF1-DB37-4AAA-A05A-8571D25D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0359D-7AFD-4873-9391-95850246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08A5E-D94C-42EB-8DC2-5DF97A17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27802-F0E7-4FED-A2D2-673C4590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431-7A9E-4E7A-BADA-DCDD10C2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CE9A2-0C0A-4647-87C9-F5496EFB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4B7-51E8-4E97-B7A1-84BDBB78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F0B-5BA1-4DC1-A810-E1D84BD6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FDF-6B7A-4CF1-BCED-B9B507C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31840" y="231840"/>
            <a:ext cx="11734560" cy="6394320"/>
            <a:chOff x="231840" y="231840"/>
            <a:chExt cx="11734560" cy="639432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31840" y="231840"/>
              <a:ext cx="11734560" cy="63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5080" y="237960"/>
              <a:ext cx="1172196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146EB-4A3D-4A09-902C-605BDC608F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22"/>
          <p:cNvGrpSpPr/>
          <p:nvPr/>
        </p:nvGrpSpPr>
        <p:grpSpPr>
          <a:xfrm>
            <a:off x="-6480" y="-6480"/>
            <a:ext cx="12204720" cy="6870960"/>
            <a:chOff x="-6480" y="-6480"/>
            <a:chExt cx="12204720" cy="6870960"/>
          </a:xfrm>
        </p:grpSpPr>
        <p:pic>
          <p:nvPicPr>
            <p:cNvPr id="46" name="Rectangle 22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" name="Rectangle 9"/>
          <p:cNvGrpSpPr/>
          <p:nvPr/>
        </p:nvGrpSpPr>
        <p:grpSpPr>
          <a:xfrm>
            <a:off x="1249200" y="1206360"/>
            <a:ext cx="9693360" cy="4432320"/>
            <a:chOff x="1249200" y="1206360"/>
            <a:chExt cx="9693360" cy="4432320"/>
          </a:xfrm>
        </p:grpSpPr>
        <p:pic>
          <p:nvPicPr>
            <p:cNvPr id="49" name="Rectangle 9" descr=""/>
            <p:cNvPicPr/>
            <p:nvPr/>
          </p:nvPicPr>
          <p:blipFill>
            <a:blip r:embed="rId4"/>
            <a:stretch/>
          </p:blipFill>
          <p:spPr>
            <a:xfrm>
              <a:off x="1249200" y="1206360"/>
              <a:ext cx="9693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1" name="Rectangle 10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bcd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4" name="Straight Connector 16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5" name="Straight Connector 17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" name="Straight Connector 18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cd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B0B31-8EDD-4222-A43A-2724A68876C9}" type="slidenum">
              <a:rPr b="0" lang="en-US" sz="1000" spc="-1" strike="noStrike">
                <a:solidFill>
                  <a:srgbClr val="bcd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14"/>
          <p:cNvGrpSpPr/>
          <p:nvPr/>
        </p:nvGrpSpPr>
        <p:grpSpPr>
          <a:xfrm>
            <a:off x="-6480" y="-6480"/>
            <a:ext cx="12204720" cy="6870960"/>
            <a:chOff x="-6480" y="-6480"/>
            <a:chExt cx="12204720" cy="6870960"/>
          </a:xfrm>
        </p:grpSpPr>
        <p:pic>
          <p:nvPicPr>
            <p:cNvPr id="99" name="Rectangle 14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01" name="Rectangle 22"/>
          <p:cNvGrpSpPr/>
          <p:nvPr/>
        </p:nvGrpSpPr>
        <p:grpSpPr>
          <a:xfrm>
            <a:off x="1249200" y="1206360"/>
            <a:ext cx="9693360" cy="4432320"/>
            <a:chOff x="1249200" y="1206360"/>
            <a:chExt cx="9693360" cy="4432320"/>
          </a:xfrm>
        </p:grpSpPr>
        <p:pic>
          <p:nvPicPr>
            <p:cNvPr id="102" name="Rectangle 22" descr=""/>
            <p:cNvPicPr/>
            <p:nvPr/>
          </p:nvPicPr>
          <p:blipFill>
            <a:blip r:embed="rId4"/>
            <a:stretch/>
          </p:blipFill>
          <p:spPr>
            <a:xfrm>
              <a:off x="1249200" y="1206360"/>
              <a:ext cx="9693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4" name="Rectangle 23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bcd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6" name="Group 30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07" name="Straight Connector 31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8" name="Straight Connector 32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9" name="Straight Connector 33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cd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26DA3-DBF5-4284-806F-74BB8DEAD6C4}" type="slidenum">
              <a:rPr b="0" lang="en-US" sz="1000" spc="-1" strike="noStrike">
                <a:solidFill>
                  <a:srgbClr val="bcd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3494b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8EFB7-4FF4-4211-9285-84C3FCF5CF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3494b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C1C61-FE43-4B38-BAF8-A0B304B0EB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61680" y="2579760"/>
            <a:ext cx="90709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entury Gothic"/>
              </a:rPr>
              <a:t>HEINRICH FRANZ IGNAZ VON BIBER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561680" y="3793680"/>
            <a:ext cx="907092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cd0e0"/>
                </a:solidFill>
                <a:latin typeface="Century Gothic"/>
              </a:rPr>
              <a:t>RŮŽENCOVÉ SONÁTY PRO HOUSLE A B.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bcd0e0"/>
                </a:solidFill>
                <a:latin typeface="Century Gothic"/>
              </a:rPr>
              <a:t>Barbora Kadlíčková, 43784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Heinrich Franz Ignaz von Biber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66320" y="2103120"/>
            <a:ext cx="475452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680" y="2103120"/>
            <a:ext cx="748512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ýznamný skladatel a houslist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Narozen 1644 (Stráž pod Ralskem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tudoval jezuitské gymnázium, přátelil se s Pavlem Josefem Vejvanovský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68 – komorník a houslista v kapele biskupa Liechtensteina – Castelcorna v Kroměříž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70 – útěk do Salzburgu, zaměstnání u arcibiskupa Maxmiliána Khuenburg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84 – dvorní kapelník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90 – povýšen do šlechtického stav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emřel 1704 (Salzburg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2" name="Obrázek 6" descr=""/>
          <p:cNvPicPr/>
          <p:nvPr/>
        </p:nvPicPr>
        <p:blipFill>
          <a:blip r:embed="rId1"/>
          <a:stretch/>
        </p:blipFill>
        <p:spPr>
          <a:xfrm>
            <a:off x="8788320" y="2103480"/>
            <a:ext cx="2814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Dílo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680" y="1706400"/>
            <a:ext cx="10058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oná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Battali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Requie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Mš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pe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ouslová tvorba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yspělá technika, hra ve vysokých polohá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polyfonie v sonátá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skordatury – přelaďování strun – hra v netypických tóninách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Obrázek 6" descr=""/>
          <p:cNvPicPr/>
          <p:nvPr/>
        </p:nvPicPr>
        <p:blipFill>
          <a:blip r:embed="rId1"/>
          <a:stretch/>
        </p:blipFill>
        <p:spPr>
          <a:xfrm>
            <a:off x="3687840" y="927000"/>
            <a:ext cx="7981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453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Růžencové sonát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23800" y="1964880"/>
            <a:ext cx="658656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76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ro housle a b.c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5 sonát a sólová Passacagl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bohatá ornamentik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ra dvojhmatů a akordů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chromatik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ariační princi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ymbolika (překřížení strun v 11. sonátě Vzkříšení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Obrázek 6" descr=""/>
          <p:cNvPicPr/>
          <p:nvPr/>
        </p:nvPicPr>
        <p:blipFill>
          <a:blip r:embed="rId1"/>
          <a:stretch/>
        </p:blipFill>
        <p:spPr>
          <a:xfrm>
            <a:off x="7275600" y="1825560"/>
            <a:ext cx="44193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82320"/>
            <a:ext cx="100584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Rozdělení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1666800"/>
            <a:ext cx="4754520" cy="3748320"/>
          </a:xfrm>
          <a:prstGeom prst="rect">
            <a:avLst/>
          </a:prstGeom>
          <a:noFill/>
          <a:ln w="9360">
            <a:solidFill>
              <a:srgbClr val="3494ba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radost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Zvěst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2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vštív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3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roz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4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Přítomnost Ježíše v chrám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5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Ježíš opět v chrám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bolest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6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Utrpení v olivovém háji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7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Bič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8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orunování trny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9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řížová ces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0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Ukřiž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37000" y="1666800"/>
            <a:ext cx="4887720" cy="3748320"/>
          </a:xfrm>
          <a:prstGeom prst="rect">
            <a:avLst/>
          </a:prstGeom>
          <a:noFill/>
          <a:ln w="9360">
            <a:solidFill>
              <a:srgbClr val="3494ba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oslav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1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Vzkříš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2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nebevstoup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3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Letni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4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nebevzetí Panny Mari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5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orunování Panny Mari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assacaglia g-moll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dagi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llegr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dagi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Obrázek 4" descr=""/>
          <p:cNvPicPr/>
          <p:nvPr/>
        </p:nvPicPr>
        <p:blipFill>
          <a:blip r:embed="rId1"/>
          <a:stretch/>
        </p:blipFill>
        <p:spPr>
          <a:xfrm>
            <a:off x="434880" y="5513400"/>
            <a:ext cx="11322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Ukázk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www.youtube.com/watch?v=Mq-SrUZUlu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věstování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youtu.be/7IBlivYSrBo?t=11m2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ávěr Ukřižování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youtu.be/7IBlivYSrBo?t=53m23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assacagl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Zdroje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Elias Dann and Jiří Sehnal. "Biber, Heinrich Ignaz Franz von." </a:t>
            </a:r>
            <a:r>
              <a:rPr b="0" i="1" lang="cs-CZ" sz="1800" spc="-1" strike="noStrike">
                <a:solidFill>
                  <a:srgbClr val="ffffff"/>
                </a:solidFill>
                <a:latin typeface="Century Gothic"/>
              </a:rPr>
              <a:t>Grove Music Online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i="1" lang="cs-CZ" sz="1800" spc="-1" strike="noStrike">
                <a:solidFill>
                  <a:srgbClr val="ffffff"/>
                </a:solidFill>
                <a:latin typeface="Century Gothic"/>
              </a:rPr>
              <a:t>Oxford Music Online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. Oxford University Press. Web. 2 Dec. 2016. &lt;http://www.oxfordmusiconline.com/subscriber/article/grove/music/03037&gt;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louka, Petr.“Biber, Heinrich Ignaz Franz“. Český hudební slovník osob a institucí. &lt;http://www.ceskyhudebnislovnik.cz/slovnik/index.php?option=com_mdictionary&amp;action=record_detail&amp;id=3854&gt;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IMSL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cs.wikipedia.org/wiki/R%C5%AF%C5%BEencov%C3%A9_son%C3%A1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Tisk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22:56:38Z</dcterms:created>
  <dc:creator>Barča</dc:creator>
  <dc:description/>
  <dc:language>en-US</dc:language>
  <cp:lastModifiedBy>Jana Perutková</cp:lastModifiedBy>
  <dcterms:modified xsi:type="dcterms:W3CDTF">2016-12-13T13:56:56Z</dcterms:modified>
  <cp:revision>19</cp:revision>
  <dc:subject/>
  <dc:title>Heinrich franz ignaz von biber</dc:title>
</cp:coreProperties>
</file>