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AB-30CD-4CEC-9617-05AE1F06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D70-A9E0-4D08-A7E4-A08D4C9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B02-4F82-4122-8A9D-4248C9D6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659-FD64-4808-A0C2-619C0586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6C10-E02D-4F40-B6C5-6786D44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490F-07E5-4D8E-8555-4A10672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057-98C7-4FB4-9C0D-7724456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B42-ACD8-457D-A506-9938B7B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1C3C-D471-454B-B073-A63E5AC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C4B3-7E33-4CE8-801C-7AE63272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FA89-050A-4DD5-A904-D260BAA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63F-28C0-4670-B986-B80FF80A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09F5-750E-44F5-AD9D-214938B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5546-D6E4-4759-B46C-FC41F2F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2B1-F281-4D9B-AA86-EB4CA18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9B5A-B712-4329-AFBE-C93D75F1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1335-E1E3-4EAF-A8F2-1328FA5B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5DDE-4E13-4C3B-9B68-86EE05F9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F695-DF1A-425B-8171-B1CB10D3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44D2-B8C8-4C00-B8AA-EFF7F9D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FA36-0331-45FE-A613-F22F4D0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B0B4-D696-4B3F-BFAB-1BA7A87D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808-1179-43BC-BE2D-C4F957C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C2A4E-E532-43AA-8758-108D6B3A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192A-9E0A-4AF5-AF97-D11310B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CF2C-3220-4E43-94CE-3CC5DDD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5BAA-AD66-41DA-954B-2EA6615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7474-83A9-44E4-A184-114FEEC8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76F0-FD89-4364-A30C-A43B68ED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BD83-429F-4A4A-A7FC-8C2E7A2F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C8D2-32AC-4EFF-8590-F6BBC3E2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7B64-F0A8-4E8B-BFB6-6B60CFED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B969-D11E-43BF-92EE-92BC2E8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516-0470-496D-8106-6FDD125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B196-FA40-446B-A6DC-EAABD5A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A363-D3B7-4CD5-A1DE-E72472E7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6EF9-22D5-41DC-8034-7DA51FB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5705-00E9-4989-AC04-86FF1B1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A1B1-CCA7-4FCC-9346-A83D9FB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24DB-89D4-4AC6-B220-8C482214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C882-1CE6-4FC6-8FC5-98885712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2F53-2791-42A3-83BE-B6D1875C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F211-1210-4D3C-8B83-7E29C597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837A-B526-4344-BB41-6C771E30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B5D-5F32-488D-B1B5-CAD0C827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39D3-22E6-47FB-8E65-E82EB538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0178-7C9A-4E1B-BAA2-D658E4B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3932-7D83-4A42-AD0B-528BE94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41B23-6F0A-4FD1-9FB5-12CDD74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DB6B-969B-42B1-8EFC-8B698E49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5CBB-8C6D-4D5F-8878-5EBE5BE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5F66-B5EE-4601-8DD9-E55432A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61F9-872A-4D65-8EEF-24D8E9B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D154-9FA8-4F8A-9B7F-3F14D7D1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C927-C937-4397-B20E-8D4845DC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12C-2043-43EC-A713-67C272A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E0F5-C113-4655-9B68-F966F7FE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26B-7993-47CB-A8DE-9D7A01C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8B1-2FE2-419F-8EFD-B1B3BAA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2DA-24DA-4AE6-962A-916F816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1840" y="231840"/>
            <a:ext cx="11734560" cy="6394320"/>
            <a:chOff x="231840" y="231840"/>
            <a:chExt cx="11734560" cy="6394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31840" y="231840"/>
              <a:ext cx="11734560" cy="63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960"/>
              <a:ext cx="1172196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CD3D3-FD88-441A-9045-570D5F2CD6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2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46" name="Rectangle 22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49" name="Rectangle 9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4C985-70B8-49A4-A49F-525AFD95C90F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14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99" name="Rectangle 14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01" name="Rectangle 22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102" name="Rectangle 22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7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8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7F59E-A317-47BF-8794-76D050334035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EB125-7296-4B7E-9D0E-904DFCA63E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AE285-FC83-4571-97F3-28B0280320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579760"/>
            <a:ext cx="90709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3793680"/>
            <a:ext cx="90709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cd0e0"/>
                </a:solidFill>
                <a:latin typeface="Century Gothic"/>
              </a:rPr>
              <a:t>RŮŽENCOVÉ SONÁTY PRO HOUSLE A B.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cd0e0"/>
                </a:solidFill>
                <a:latin typeface="Century Gothic"/>
              </a:rPr>
              <a:t>Barbora Kadlíčková, 43784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2103120"/>
            <a:ext cx="47545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2103120"/>
            <a:ext cx="74851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ýznamný skladatel a houslis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Narozen 1644 (Stráž pod Ralske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tudoval jezuitské gymnázium, přátelil se s Pavlem Josefem Vejvanovský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68 – komorník a houslista v kapele biskupa Liechtensteina – Castelcorna v Kroměříž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0 – útěk do Salzburgu, zaměstnání u arcibiskupa Maxmiliána Khuenburg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84 – dvorní kapelní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90 – povýšen do šlechtického stav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emřel 1704 (Salzbur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Obrázek 6" descr=""/>
          <p:cNvPicPr/>
          <p:nvPr/>
        </p:nvPicPr>
        <p:blipFill>
          <a:blip r:embed="rId1"/>
          <a:stretch/>
        </p:blipFill>
        <p:spPr>
          <a:xfrm>
            <a:off x="8788320" y="2103480"/>
            <a:ext cx="28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Díl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706400"/>
            <a:ext cx="10058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oná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attal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Requi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Mš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pe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ouslová tvorb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yspělá technika, hra ve vysokých poloh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polyfonie v sonát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skordatury – přelaďování strun – hra v netypických tóninác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Obrázek 6" descr=""/>
          <p:cNvPicPr/>
          <p:nvPr/>
        </p:nvPicPr>
        <p:blipFill>
          <a:blip r:embed="rId1"/>
          <a:stretch/>
        </p:blipFill>
        <p:spPr>
          <a:xfrm>
            <a:off x="3687840" y="927000"/>
            <a:ext cx="798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53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ůžencové sonát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23800" y="1964880"/>
            <a:ext cx="658656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6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ro housle a b.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5 sonát a sólová 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ohatá ornamenti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ra dvojhmatů a akord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chromatik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ariační princi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ymbolika (překřížení strun v 11. sonátě Vzkříšení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1"/>
          <a:stretch/>
        </p:blipFill>
        <p:spPr>
          <a:xfrm>
            <a:off x="7275600" y="1825560"/>
            <a:ext cx="4419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2320"/>
            <a:ext cx="10058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ozdělení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666800"/>
            <a:ext cx="47545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rado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vštív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roz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Přítomnost Ježíše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Ježíš opět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bole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6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trpení v olivovém háj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7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Bič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8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trn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9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řížová ces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0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křiž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37000" y="1666800"/>
            <a:ext cx="48877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oslav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Vzkříš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stoup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Letn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zet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 g-mol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llegr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Obrázek 4" descr=""/>
          <p:cNvPicPr/>
          <p:nvPr/>
        </p:nvPicPr>
        <p:blipFill>
          <a:blip r:embed="rId1"/>
          <a:stretch/>
        </p:blipFill>
        <p:spPr>
          <a:xfrm>
            <a:off x="434880" y="5513400"/>
            <a:ext cx="11322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Ukázk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www.youtube.com/watch?v=Mq-SrUZUlu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11m2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ávěr Ukřiž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53m23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Zdroje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lias Dann and Jiří Sehnal. "Biber, Heinrich Ignaz Franz von."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Grove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Oxford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Oxford University Press. Web. 2 Dec. 2016. &lt;http://www.oxfordmusiconline.com/subscriber/article/grove/music/03037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louka, Petr.“Biber, Heinrich Ignaz Franz“. Český hudební slovník osob a institucí. &lt;http://www.ceskyhudebnislovnik.cz/slovnik/index.php?option=com_mdictionary&amp;action=record_detail&amp;id=3854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IMSL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cs.wikipedia.org/wiki/R%C5%AF%C5%BEencov%C3%A9_son%C3%A1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Tisk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22:56:38Z</dcterms:created>
  <dc:creator>Barča</dc:creator>
  <dc:description/>
  <dc:language>en-US</dc:language>
  <cp:lastModifiedBy>Jana Perutková</cp:lastModifiedBy>
  <dcterms:modified xsi:type="dcterms:W3CDTF">2016-12-13T13:56:56Z</dcterms:modified>
  <cp:revision>19</cp:revision>
  <dc:subject/>
  <dc:title>Heinrich franz ignaz von biber</dc:title>
</cp:coreProperties>
</file>