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C59-E20D-4A86-A58F-5AAB7D71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3CA-A1C7-40FF-A53A-04DCF0F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0B5-0B1D-408B-BC91-30E0C683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571-01A5-4F7E-B0A3-73F10A9E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FD6B-1A41-4C19-8D02-5958001E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0E4-8194-4413-83A6-2F0A4885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C75-281D-4A7A-BDEC-2D506914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0C57-4170-47F6-B450-09C7541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98F-D068-49B8-B1E7-B3E776F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8EF7-E91E-4AA8-B149-F5F7FB6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B36-457F-4CE4-BEDE-70950C6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FCA-397D-4BEB-9848-EC767D0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0EE2-65FD-45DD-B405-DE9719D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D7CA-E176-411B-9E93-4D97CDF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3501-2ED0-4C13-875F-00D905F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EFF6-4EEE-482C-9B46-64CC4D0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F09B-7393-4B07-8772-8A83175A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E6EA-8F96-4E39-A54B-C6BA3C2C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85AB-1D74-4007-9224-E2E2590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F11F-CBA0-4B74-B086-9FE5601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045E-F022-4CC3-B90F-D41E5E92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CCBF-56DC-4B28-972D-19C43789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2A9-0185-4462-8384-986BDE0A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66CE-26E4-417C-BAE7-1BAA310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E9A7-AABE-4017-BB6D-F1B521B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3E90-E355-4C8D-81DC-DA7B91E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2BC1-5E1F-4CC6-9368-2002602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1FF0-282E-419D-82B7-C6340631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EDD5-84BA-4486-A1BA-38CE782E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238E-8D5C-4F2A-BDC3-79EDD665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E8D3-6F1A-43D9-A2DC-18950EFE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2437-1981-4A79-8E94-CD5F25B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13D0-695A-4992-9189-980483C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F8D-72E6-4560-88DF-F038A128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2E41-ACFB-414F-B026-7C6E46A9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74C4-EA8F-4F73-9408-FFB8E33D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7C7D-E9E3-4250-9ECF-009A6F5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8D68-909B-4FD8-BDDD-A1789C6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2E25-E1BF-471A-BE60-CDA69DB2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4BDB6-5B6A-4C23-82C6-C48C421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1F50-076F-4532-9BB3-9127E094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D6AB-2662-4DB7-967D-4A69188C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9E4E-49E2-427A-AB36-0AED55E9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5DF3-15E2-4F11-A083-CFB39BB8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DBE-A321-49AD-AF6C-E061BE7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61DBD-770C-4D02-A29E-BFE6E8AF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9465-58CB-48BE-9775-0231C45C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8F22-8325-4D63-8750-E9ABDC50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48C3-6155-42B8-AA3F-BA9AE166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8400-B731-4706-A098-AF940302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BB064-8A5A-4113-8191-CEC535E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51A0-3DB8-4AC6-9791-75822E4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9EB0-D218-41D4-9B7C-E010147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ABA4-8FB6-423D-B64E-9278A75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5DA7-F933-47D3-83E3-EBAECC4A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0D2-534C-47F1-86C2-3900364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1223C-2240-42F9-BFFB-3198A9BA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88B-29BA-491D-BD0C-8FA8921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F28-FE39-45BE-AE6B-6EAC103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86D-E5EB-4EB3-9639-41EB4F3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1840" y="231840"/>
            <a:ext cx="11734560" cy="6394320"/>
            <a:chOff x="231840" y="231840"/>
            <a:chExt cx="11734560" cy="6394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31840" y="231840"/>
              <a:ext cx="11734560" cy="63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960"/>
              <a:ext cx="1172196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B1454-0FF3-48C8-B1A2-5784F8E7E3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2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46" name="Rectangle 22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49" name="Rectangle 9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4AB1E-6F73-4C31-BCC1-48F5AA4B19DE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14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99" name="Rectangle 14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01" name="Rectangle 22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102" name="Rectangle 22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7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8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59BEA-DC5E-4876-BECB-959E65AAA73A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2D2EA-68CE-4EA7-9FE7-908A4CFC1B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25BF8-16D5-4CEE-BD96-092B4A076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579760"/>
            <a:ext cx="90709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3793680"/>
            <a:ext cx="90709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cd0e0"/>
                </a:solidFill>
                <a:latin typeface="Century Gothic"/>
              </a:rPr>
              <a:t>RŮŽENCOVÉ SONÁTY PRO HOUSLE A B.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cd0e0"/>
                </a:solidFill>
                <a:latin typeface="Century Gothic"/>
              </a:rPr>
              <a:t>Barbora Kadlíčková, 43784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2103120"/>
            <a:ext cx="47545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2103120"/>
            <a:ext cx="74851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ýznamný skladatel a houslis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Narozen 1644 (Stráž pod Ralske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tudoval jezuitské gymnázium, přátelil se s Pavlem Josefem Vejvanovský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68 – komorník a houslista v kapele biskupa Liechtensteina – Castelcorna v Kroměříž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0 – útěk do Salzburgu, zaměstnání u arcibiskupa Maxmiliána Khuenburg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84 – dvorní kapelní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90 – povýšen do šlechtického stav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emřel 1704 (Salzbur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Obrázek 6" descr=""/>
          <p:cNvPicPr/>
          <p:nvPr/>
        </p:nvPicPr>
        <p:blipFill>
          <a:blip r:embed="rId1"/>
          <a:stretch/>
        </p:blipFill>
        <p:spPr>
          <a:xfrm>
            <a:off x="8788320" y="2103480"/>
            <a:ext cx="28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Díl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706400"/>
            <a:ext cx="10058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oná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attal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Requi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Mš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pe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ouslová tvorb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yspělá technika, hra ve vysokých poloh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polyfonie v sonát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skordatury – přelaďování strun – hra v netypických tóninác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Obrázek 6" descr=""/>
          <p:cNvPicPr/>
          <p:nvPr/>
        </p:nvPicPr>
        <p:blipFill>
          <a:blip r:embed="rId1"/>
          <a:stretch/>
        </p:blipFill>
        <p:spPr>
          <a:xfrm>
            <a:off x="3687840" y="927000"/>
            <a:ext cx="798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53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ůžencové sonát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23800" y="1964880"/>
            <a:ext cx="658656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6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ro housle a b.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5 sonát a sólová 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ohatá ornamenti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ra dvojhmatů a akord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chromatik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ariační princi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ymbolika (překřížení strun v 11. sonátě Vzkříšení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1"/>
          <a:stretch/>
        </p:blipFill>
        <p:spPr>
          <a:xfrm>
            <a:off x="7275600" y="1825560"/>
            <a:ext cx="4419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2320"/>
            <a:ext cx="10058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ozdělení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666800"/>
            <a:ext cx="47545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rado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vštív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roz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Přítomnost Ježíše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Ježíš opět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bole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6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trpení v olivovém háj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7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Bič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8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trn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9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řížová ces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0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křiž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37000" y="1666800"/>
            <a:ext cx="48877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oslav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Vzkříš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stoup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Letn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zet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 g-mol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llegr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Obrázek 4" descr=""/>
          <p:cNvPicPr/>
          <p:nvPr/>
        </p:nvPicPr>
        <p:blipFill>
          <a:blip r:embed="rId1"/>
          <a:stretch/>
        </p:blipFill>
        <p:spPr>
          <a:xfrm>
            <a:off x="434880" y="5513400"/>
            <a:ext cx="11322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Ukázk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www.youtube.com/watch?v=Mq-SrUZUlu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11m2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ávěr Ukřiž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53m23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Zdroje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lias Dann and Jiří Sehnal. "Biber, Heinrich Ignaz Franz von."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Grove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Oxford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Oxford University Press. Web. 2 Dec. 2016. &lt;http://www.oxfordmusiconline.com/subscriber/article/grove/music/03037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louka, Petr.“Biber, Heinrich Ignaz Franz“. Český hudební slovník osob a institucí. &lt;http://www.ceskyhudebnislovnik.cz/slovnik/index.php?option=com_mdictionary&amp;action=record_detail&amp;id=3854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IMSL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cs.wikipedia.org/wiki/R%C5%AF%C5%BEencov%C3%A9_son%C3%A1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Tisk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22:56:38Z</dcterms:created>
  <dc:creator>Barča</dc:creator>
  <dc:description/>
  <dc:language>en-US</dc:language>
  <cp:lastModifiedBy>Jana Perutková</cp:lastModifiedBy>
  <dcterms:modified xsi:type="dcterms:W3CDTF">2016-12-13T13:56:56Z</dcterms:modified>
  <cp:revision>19</cp:revision>
  <dc:subject/>
  <dc:title>Heinrich franz ignaz von biber</dc:title>
</cp:coreProperties>
</file>