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B3D6-646D-4D1A-88A2-4E459B810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FFAA-04F6-4DC7-9C27-3B697A50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C2A3-9EB0-458B-AD0E-F421B4A1A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29B3-839F-46BF-AC95-00CC7310A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F8AB-DAD0-48AD-AFD5-951FD8C3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F104-B106-4900-A7ED-AF26819B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BB9E-8C91-4674-A616-1BB0CBB3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8795-1AB8-4CEC-9EBC-582B75E8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9621-2272-45CF-A9CA-5F2F28F5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DB45-0E4A-45CF-9167-AF98B9ED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1ACB-BC43-44BE-AEFD-AB31A3AB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A450-9856-4299-A924-60062A14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A316-A4FC-4829-AECD-14B11FF4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1228-BF80-4CC5-AEE9-187299D1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847B-DF8A-4878-B8AF-B16F7A11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5209-8D73-4053-8B8D-9DB16F670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6F50-47FE-4225-A8D7-F89A66C1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1D4A4-8413-496A-96B0-CC2E0B37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0EE77-4861-441B-A349-7D8FC8FF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38208-E418-4976-9D5B-47D8EBEE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1F255-DDAA-4AD7-A854-45DB40C9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113FD-4CD6-4ED6-AD49-C1D4C447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6C2B-D63B-4BC8-A004-B5215E61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362F2-A10C-42EE-903C-892EE9F4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6AD5A-43EB-48A7-BD7F-15BDE12D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2881E-C3D9-4BC2-80AA-093A4306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F4866-42FF-4245-96B3-460F8960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E5518-D6B1-4CF3-BDA5-61546812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024C7-8ADD-49A6-901B-19B5553D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2AB25-69F4-4E3B-B237-56945DAD4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CA326-FA21-4C55-A24A-8255A901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14210-D8E6-4138-A505-B0352722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6CD71-36F8-4D42-80A7-87FFDF51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583E-7FA3-4670-83EC-8197F6DD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C2B55-2CA3-4EBA-A422-F23E001E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4BA51-B1FC-470E-BDBD-CA6AEF34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4E5C8-B109-4700-9345-5CFBA7B6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7B3AD-9DFF-4420-B669-2B271F54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A1D47-6614-46AA-8967-5E1AC333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B0482-FEE4-44AD-A525-507E5E5D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CF92B-2652-4D47-87B7-290A6726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E777D-8CA6-4F38-9EC2-DBDC52E0F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F8368-307D-441C-84E8-BA7762999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15B69-1E18-478B-A7F7-0B18AEA23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5242-0DDF-41BC-896F-263783B7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A9325-6097-4BD8-85A5-D55C8ED6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642C9-9F10-4373-8DFD-B9DD4721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CF4F4-00D4-4612-8EFF-10C3612D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4D5AF-8B85-40B8-B062-BF71712F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E1D59-618B-42D7-82C9-3FD0974F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09AE7-817D-4DB9-B7C9-F5C7108F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6F08D-F30D-4D8A-B8C7-96FCB9B7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94127-625D-447B-8759-DAC9BA8F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40CF0-F811-4A6A-A548-4681A8FE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E17E7-5B92-4CC1-BC74-5A70E6E5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3FB1-5BA3-4F62-A30B-2F94F557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4A366-EBD4-4CE6-BD28-5DB8B13C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BC76-4077-48AF-85F2-AEC0C961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309A-655C-4E24-BF0D-811E3F3B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9DF9-3142-4907-84D9-7589463E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35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231840" y="231840"/>
            <a:ext cx="11734560" cy="6394320"/>
            <a:chOff x="231840" y="231840"/>
            <a:chExt cx="11734560" cy="639432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231840" y="231840"/>
              <a:ext cx="11734560" cy="639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35080" y="237960"/>
              <a:ext cx="1172196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88800" y="6215040"/>
            <a:ext cx="27432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89120" y="6215040"/>
            <a:ext cx="52131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0314000" y="6215040"/>
            <a:ext cx="14637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5A4BCB-6647-4348-B591-D1AE5385AD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Rectangle 7"/>
          <p:cNvSpPr/>
          <p:nvPr/>
        </p:nvSpPr>
        <p:spPr>
          <a:xfrm>
            <a:off x="371520" y="374760"/>
            <a:ext cx="11449080" cy="610848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Rectangle 22"/>
          <p:cNvGrpSpPr/>
          <p:nvPr/>
        </p:nvGrpSpPr>
        <p:grpSpPr>
          <a:xfrm>
            <a:off x="-6480" y="-6480"/>
            <a:ext cx="12204720" cy="6870960"/>
            <a:chOff x="-6480" y="-6480"/>
            <a:chExt cx="12204720" cy="6870960"/>
          </a:xfrm>
        </p:grpSpPr>
        <p:pic>
          <p:nvPicPr>
            <p:cNvPr id="46" name="Rectangle 22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122047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entury Gothic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48" name="Rectangle 9"/>
          <p:cNvGrpSpPr/>
          <p:nvPr/>
        </p:nvGrpSpPr>
        <p:grpSpPr>
          <a:xfrm>
            <a:off x="1249200" y="1206360"/>
            <a:ext cx="9693360" cy="4432320"/>
            <a:chOff x="1249200" y="1206360"/>
            <a:chExt cx="9693360" cy="4432320"/>
          </a:xfrm>
        </p:grpSpPr>
        <p:pic>
          <p:nvPicPr>
            <p:cNvPr id="49" name="Rectangle 9" descr=""/>
            <p:cNvPicPr/>
            <p:nvPr/>
          </p:nvPicPr>
          <p:blipFill>
            <a:blip r:embed="rId4"/>
            <a:stretch/>
          </p:blipFill>
          <p:spPr>
            <a:xfrm>
              <a:off x="1249200" y="1206360"/>
              <a:ext cx="969336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308240" y="1268280"/>
              <a:ext cx="9575640" cy="430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1" name="Rectangle 10"/>
          <p:cNvSpPr/>
          <p:nvPr/>
        </p:nvSpPr>
        <p:spPr>
          <a:xfrm>
            <a:off x="1447920" y="1411200"/>
            <a:ext cx="9296280" cy="4035600"/>
          </a:xfrm>
          <a:prstGeom prst="rect">
            <a:avLst/>
          </a:prstGeom>
          <a:noFill/>
          <a:ln cap="sq" w="6480">
            <a:solidFill>
              <a:srgbClr val="bcd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5135400" y="1268280"/>
            <a:ext cx="1920960" cy="730440"/>
          </a:xfrm>
          <a:prstGeom prst="rect">
            <a:avLst/>
          </a:prstGeom>
          <a:solidFill>
            <a:srgbClr val="3494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53" name="Group 3"/>
          <p:cNvGrpSpPr/>
          <p:nvPr/>
        </p:nvGrpSpPr>
        <p:grpSpPr>
          <a:xfrm>
            <a:off x="5249880" y="1268280"/>
            <a:ext cx="1692360" cy="644760"/>
            <a:chOff x="5249880" y="1268280"/>
            <a:chExt cx="1692360" cy="644760"/>
          </a:xfrm>
        </p:grpSpPr>
        <p:sp>
          <p:nvSpPr>
            <p:cNvPr id="54" name="Straight Connector 16"/>
            <p:cNvSpPr/>
            <p:nvPr/>
          </p:nvSpPr>
          <p:spPr>
            <a:xfrm>
              <a:off x="5249880" y="1268280"/>
              <a:ext cx="0" cy="639720"/>
            </a:xfrm>
            <a:prstGeom prst="line">
              <a:avLst/>
            </a:prstGeom>
            <a:ln w="6480">
              <a:solidFill>
                <a:srgbClr val="d4ea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5" name="Straight Connector 17"/>
            <p:cNvSpPr/>
            <p:nvPr/>
          </p:nvSpPr>
          <p:spPr>
            <a:xfrm>
              <a:off x="6942240" y="1268280"/>
              <a:ext cx="0" cy="639720"/>
            </a:xfrm>
            <a:prstGeom prst="line">
              <a:avLst/>
            </a:prstGeom>
            <a:ln w="6480">
              <a:solidFill>
                <a:srgbClr val="d4ea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6" name="Straight Connector 18"/>
            <p:cNvSpPr/>
            <p:nvPr/>
          </p:nvSpPr>
          <p:spPr>
            <a:xfrm>
              <a:off x="5249880" y="1913040"/>
              <a:ext cx="1692360" cy="0"/>
            </a:xfrm>
            <a:prstGeom prst="line">
              <a:avLst/>
            </a:prstGeom>
            <a:ln w="6480">
              <a:solidFill>
                <a:srgbClr val="d4ea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5317920" y="1341360"/>
            <a:ext cx="155556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1454040" y="5211360"/>
            <a:ext cx="5905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607600" y="5211360"/>
            <a:ext cx="2111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cd0e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397FAB-8B46-4DC3-BAF9-6916FCBD8864}" type="slidenum">
              <a:rPr b="0" lang="en-US" sz="1000" spc="-1" strike="noStrike">
                <a:solidFill>
                  <a:srgbClr val="bcd0e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Rectangle 14"/>
          <p:cNvGrpSpPr/>
          <p:nvPr/>
        </p:nvGrpSpPr>
        <p:grpSpPr>
          <a:xfrm>
            <a:off x="-6480" y="-6480"/>
            <a:ext cx="12204720" cy="6870960"/>
            <a:chOff x="-6480" y="-6480"/>
            <a:chExt cx="12204720" cy="6870960"/>
          </a:xfrm>
        </p:grpSpPr>
        <p:pic>
          <p:nvPicPr>
            <p:cNvPr id="99" name="Rectangle 14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122047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entury Gothic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01" name="Rectangle 22"/>
          <p:cNvGrpSpPr/>
          <p:nvPr/>
        </p:nvGrpSpPr>
        <p:grpSpPr>
          <a:xfrm>
            <a:off x="1249200" y="1206360"/>
            <a:ext cx="9693360" cy="4432320"/>
            <a:chOff x="1249200" y="1206360"/>
            <a:chExt cx="9693360" cy="4432320"/>
          </a:xfrm>
        </p:grpSpPr>
        <p:pic>
          <p:nvPicPr>
            <p:cNvPr id="102" name="Rectangle 22" descr=""/>
            <p:cNvPicPr/>
            <p:nvPr/>
          </p:nvPicPr>
          <p:blipFill>
            <a:blip r:embed="rId4"/>
            <a:stretch/>
          </p:blipFill>
          <p:spPr>
            <a:xfrm>
              <a:off x="1249200" y="1206360"/>
              <a:ext cx="969336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1308240" y="1268280"/>
              <a:ext cx="9575640" cy="430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4" name="Rectangle 23"/>
          <p:cNvSpPr/>
          <p:nvPr/>
        </p:nvSpPr>
        <p:spPr>
          <a:xfrm>
            <a:off x="1447920" y="1411200"/>
            <a:ext cx="9296280" cy="4035600"/>
          </a:xfrm>
          <a:prstGeom prst="rect">
            <a:avLst/>
          </a:prstGeom>
          <a:noFill/>
          <a:ln cap="sq" w="6480">
            <a:solidFill>
              <a:srgbClr val="bcd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Rectangle 29"/>
          <p:cNvSpPr/>
          <p:nvPr/>
        </p:nvSpPr>
        <p:spPr>
          <a:xfrm>
            <a:off x="5135400" y="1268280"/>
            <a:ext cx="1920960" cy="730440"/>
          </a:xfrm>
          <a:prstGeom prst="rect">
            <a:avLst/>
          </a:prstGeom>
          <a:solidFill>
            <a:srgbClr val="3494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06" name="Group 30"/>
          <p:cNvGrpSpPr/>
          <p:nvPr/>
        </p:nvGrpSpPr>
        <p:grpSpPr>
          <a:xfrm>
            <a:off x="5249880" y="1268280"/>
            <a:ext cx="1692360" cy="644760"/>
            <a:chOff x="5249880" y="1268280"/>
            <a:chExt cx="1692360" cy="644760"/>
          </a:xfrm>
        </p:grpSpPr>
        <p:sp>
          <p:nvSpPr>
            <p:cNvPr id="107" name="Straight Connector 31"/>
            <p:cNvSpPr/>
            <p:nvPr/>
          </p:nvSpPr>
          <p:spPr>
            <a:xfrm>
              <a:off x="5249880" y="1268280"/>
              <a:ext cx="0" cy="639720"/>
            </a:xfrm>
            <a:prstGeom prst="line">
              <a:avLst/>
            </a:prstGeom>
            <a:ln w="6480">
              <a:solidFill>
                <a:srgbClr val="d4ea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08" name="Straight Connector 32"/>
            <p:cNvSpPr/>
            <p:nvPr/>
          </p:nvSpPr>
          <p:spPr>
            <a:xfrm>
              <a:off x="6942240" y="1268280"/>
              <a:ext cx="0" cy="639720"/>
            </a:xfrm>
            <a:prstGeom prst="line">
              <a:avLst/>
            </a:prstGeom>
            <a:ln w="6480">
              <a:solidFill>
                <a:srgbClr val="d4ea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09" name="Straight Connector 33"/>
            <p:cNvSpPr/>
            <p:nvPr/>
          </p:nvSpPr>
          <p:spPr>
            <a:xfrm>
              <a:off x="5249880" y="1913040"/>
              <a:ext cx="1692360" cy="0"/>
            </a:xfrm>
            <a:prstGeom prst="line">
              <a:avLst/>
            </a:prstGeom>
            <a:ln w="6480">
              <a:solidFill>
                <a:srgbClr val="d4ea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373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5321160" y="1344240"/>
            <a:ext cx="15559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1453680" y="5211360"/>
            <a:ext cx="5907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04000" y="5211360"/>
            <a:ext cx="2112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cd0e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CE4727-C260-4A39-A34D-1A5BECDDF0E2}" type="slidenum">
              <a:rPr b="0" lang="en-US" sz="1000" spc="-1" strike="noStrike">
                <a:solidFill>
                  <a:srgbClr val="bcd0e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35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9020160" y="237960"/>
            <a:ext cx="2925720" cy="6382080"/>
          </a:xfrm>
          <a:prstGeom prst="rect">
            <a:avLst/>
          </a:prstGeom>
          <a:solidFill>
            <a:srgbClr val="3494ba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9158400" y="374760"/>
            <a:ext cx="2651040" cy="610848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388800" y="6215040"/>
            <a:ext cx="27432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489120" y="6215040"/>
            <a:ext cx="52131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10314000" y="6215040"/>
            <a:ext cx="14637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ED9147-A470-4D5B-B85D-DE365BBFCA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35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9"/>
          <p:cNvSpPr/>
          <p:nvPr/>
        </p:nvSpPr>
        <p:spPr>
          <a:xfrm>
            <a:off x="9020160" y="237960"/>
            <a:ext cx="2925720" cy="6382080"/>
          </a:xfrm>
          <a:prstGeom prst="rect">
            <a:avLst/>
          </a:prstGeom>
          <a:solidFill>
            <a:srgbClr val="3494ba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9158400" y="374760"/>
            <a:ext cx="2651040" cy="610848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388800" y="6215040"/>
            <a:ext cx="27432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489120" y="6215040"/>
            <a:ext cx="52131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10314000" y="6215040"/>
            <a:ext cx="14637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734241-295B-481E-A44C-4C40C5CCDB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61680" y="2579760"/>
            <a:ext cx="907092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Century Gothic"/>
              </a:rPr>
              <a:t>HEINRICH FRANZ IGNAZ VON BIBER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561680" y="3793680"/>
            <a:ext cx="9070920" cy="13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bcd0e0"/>
                </a:solidFill>
                <a:latin typeface="Century Gothic"/>
              </a:rPr>
              <a:t>RŮŽENCOVÉ SONÁTY PRO HOUSLE A B.C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bcd0e0"/>
                </a:solidFill>
                <a:latin typeface="Century Gothic"/>
              </a:rPr>
              <a:t>Barbora Kadlíčková, 437848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642600"/>
            <a:ext cx="1005840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Century Gothic"/>
              </a:rPr>
              <a:t>Heinrich Franz Ignaz von Biber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066320" y="2103120"/>
            <a:ext cx="4754520" cy="37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066680" y="2103120"/>
            <a:ext cx="7485120" cy="37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Významný skladatel a houslist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Narozen 1644 (Stráž pod Ralskem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Studoval jezuitské gymnázium, přátelil se s Pavlem Josefem Vejvanovským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1668 – komorník a houslista v kapele biskupa Liechtensteina – Castelcorna v Kroměříži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1670 – útěk do Salzburgu, zaměstnání u arcibiskupa Maxmiliána Khuenburg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1684 – dvorní kapelník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1690 – povýšen do šlechtického stavu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Zemřel 1704 (Salzburg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2" name="Obrázek 6" descr=""/>
          <p:cNvPicPr/>
          <p:nvPr/>
        </p:nvPicPr>
        <p:blipFill>
          <a:blip r:embed="rId1"/>
          <a:stretch/>
        </p:blipFill>
        <p:spPr>
          <a:xfrm>
            <a:off x="8788320" y="2103480"/>
            <a:ext cx="28148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Century Gothic"/>
              </a:rPr>
              <a:t>Dílo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066680" y="1706400"/>
            <a:ext cx="10058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Sonát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Battali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Requiem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Mš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Oper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Houslová tvorba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Vyspělá technika, hra ve vysokých polohách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Užívání polyfonie v sonátách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Užívání skordatury – přelaďování strun – hra v netypických tóninách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5" name="Obrázek 6" descr=""/>
          <p:cNvPicPr/>
          <p:nvPr/>
        </p:nvPicPr>
        <p:blipFill>
          <a:blip r:embed="rId1"/>
          <a:stretch/>
        </p:blipFill>
        <p:spPr>
          <a:xfrm>
            <a:off x="3687840" y="927000"/>
            <a:ext cx="7981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453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Century Gothic"/>
              </a:rPr>
              <a:t>Růžencové sonáty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23800" y="1964880"/>
            <a:ext cx="658656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1676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pro housle a b.c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15 sonát a sólová Passacagl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bohatá ornamentik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hra dvojhmatů a akordů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užívání chromatik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variační princip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symbolika (překřížení strun v 11. sonátě Vzkříšení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8" name="Obrázek 6" descr=""/>
          <p:cNvPicPr/>
          <p:nvPr/>
        </p:nvPicPr>
        <p:blipFill>
          <a:blip r:embed="rId1"/>
          <a:stretch/>
        </p:blipFill>
        <p:spPr>
          <a:xfrm>
            <a:off x="7275600" y="1825560"/>
            <a:ext cx="441936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82320"/>
            <a:ext cx="10058400" cy="138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Century Gothic"/>
              </a:rPr>
              <a:t>Rozdělení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66320" y="1666800"/>
            <a:ext cx="4754520" cy="3748320"/>
          </a:xfrm>
          <a:prstGeom prst="rect">
            <a:avLst/>
          </a:prstGeom>
          <a:noFill/>
          <a:ln w="9360">
            <a:solidFill>
              <a:srgbClr val="3494ba"/>
            </a:solidFill>
            <a:miter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Pět radostných mysterií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1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Zvěstování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2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Navštívení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3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Narození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4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Přítomnost Ježíše v chrámu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5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Ježíš opět v chrámu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Pět bolestných mysterií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6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Utrpení v olivovém háji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7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Bičování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8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Korunování trny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9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Křížová cesta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10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Ukřižování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237000" y="1666800"/>
            <a:ext cx="4887720" cy="3748320"/>
          </a:xfrm>
          <a:prstGeom prst="rect">
            <a:avLst/>
          </a:prstGeom>
          <a:noFill/>
          <a:ln w="9360">
            <a:solidFill>
              <a:srgbClr val="3494ba"/>
            </a:solidFill>
            <a:miter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Pět oslavných mysterií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11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Vzkříšení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12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Nanebevstoupení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13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Letnic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14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Nanebevzetí Panny Mari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sonáta 15 </a:t>
            </a:r>
            <a:r>
              <a:rPr b="0" i="1" lang="cs-CZ" sz="1600" spc="-1" strike="noStrike">
                <a:solidFill>
                  <a:srgbClr val="ffffff"/>
                </a:solidFill>
                <a:latin typeface="Century Gothic"/>
              </a:rPr>
              <a:t>Korunování Panny Mari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Passacaglia g-moll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Adagio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Allegro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Century Gothic"/>
              </a:rPr>
              <a:t>Adagio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2" name="Obrázek 4" descr=""/>
          <p:cNvPicPr/>
          <p:nvPr/>
        </p:nvPicPr>
        <p:blipFill>
          <a:blip r:embed="rId1"/>
          <a:stretch/>
        </p:blipFill>
        <p:spPr>
          <a:xfrm>
            <a:off x="434880" y="5513400"/>
            <a:ext cx="1132200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Century Gothic"/>
              </a:rPr>
              <a:t>Ukázky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https://www.youtube.com/watch?v=Mq-SrUZUluU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Zvěstování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https://youtu.be/7IBlivYSrBo?t=11m2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Závěr Ukřižování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https://youtu.be/7IBlivYSrBo?t=53m23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Passacagl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Century Gothic"/>
              </a:rPr>
              <a:t>Zdroje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Elias Dann and Jiří Sehnal. "Biber, Heinrich Ignaz Franz von." </a:t>
            </a:r>
            <a:r>
              <a:rPr b="0" i="1" lang="cs-CZ" sz="1800" spc="-1" strike="noStrike">
                <a:solidFill>
                  <a:srgbClr val="ffffff"/>
                </a:solidFill>
                <a:latin typeface="Century Gothic"/>
              </a:rPr>
              <a:t>Grove Music Online</a:t>
            </a: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. </a:t>
            </a:r>
            <a:r>
              <a:rPr b="0" i="1" lang="cs-CZ" sz="1800" spc="-1" strike="noStrike">
                <a:solidFill>
                  <a:srgbClr val="ffffff"/>
                </a:solidFill>
                <a:latin typeface="Century Gothic"/>
              </a:rPr>
              <a:t>Oxford Music Online</a:t>
            </a: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. Oxford University Press. Web. 2 Dec. 2016. &lt;http://www.oxfordmusiconline.com/subscriber/article/grove/music/03037&gt;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Slouka, Petr.“Biber, Heinrich Ignaz Franz“. Český hudební slovník osob a institucí. &lt;http://www.ceskyhudebnislovnik.cz/slovnik/index.php?option=com_mdictionary&amp;action=record_detail&amp;id=3854&gt;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IMSLP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entury Gothic"/>
              </a:rPr>
              <a:t>https://cs.wikipedia.org/wiki/R%C5%AF%C5%BEencov%C3%A9_son%C3%A1t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buClr>
                <a:srgbClr val="bcd0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7" name="DefaultOcx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2286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Tisk"/>
          <p:cNvPicPr/>
          <p:nvPr/>
        </p:nvPicPr>
        <p:blipFill>
          <a:blip r:embed="rId2"/>
          <a:stretch/>
        </p:blipFill>
        <p:spPr>
          <a:xfrm>
            <a:off x="0" y="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1T22:56:38Z</dcterms:created>
  <dc:creator>Barča</dc:creator>
  <dc:description/>
  <dc:language>en-US</dc:language>
  <cp:lastModifiedBy>Jana Perutková</cp:lastModifiedBy>
  <dcterms:modified xsi:type="dcterms:W3CDTF">2016-12-13T13:56:56Z</dcterms:modified>
  <cp:revision>19</cp:revision>
  <dc:subject/>
  <dc:title>Heinrich franz ignaz von biber</dc:title>
</cp:coreProperties>
</file>