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E02-106D-4C97-A842-331A6D94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7F2-06E2-4EDB-9180-E6CBBFA6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F6943-8EA3-42A6-A649-AEA43BE4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75D62-6980-472F-B445-F0AA4B32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A63832-1F48-4FEA-A640-15C7D6BD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F193E4-5D48-4CFF-A117-E5F5F58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47F710-3551-4018-A235-69E4C424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30158-D12D-4ADF-A978-643A90EB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0F2084-EF74-492C-A8DB-BE39BAF6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01BBD-CC8F-4722-A1AE-F60B9835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16D83-111D-4A3D-A113-6B02D267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9F6DEB-DF18-4D35-9996-3BB9A857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F03-F16B-46B7-91DF-11427E5B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2F4E2D-27CE-401B-B2F7-F54748D2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F55E07-F701-48EA-B9AF-BECE228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D4404D-299A-44E8-BD60-427301BD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ACAC6-67F0-482B-90C3-B341DA00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2B551E-1511-4DC8-BA2B-A46575E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258D6F-5D28-4B3F-8C16-FCF099E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DE414-4D36-4DF7-827D-53E49BE1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F5688-D56B-42B5-9074-7FD5C6A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57B307-4E94-40C7-9002-9FC4C17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3080A-AF23-4C88-8AC5-0E2B2D01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B3B-4982-4692-A049-972737D9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059C3-F680-4972-B447-BDEA44E8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9340A-9690-45D5-90C0-6263EE32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A2EB5-723B-49F5-8C3F-1A5CCAE5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8E8F-7F9C-4AF3-B755-8DCBFDC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1E87-B515-456A-BD60-C9EA87C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FEFD-75DF-4E4F-A59E-98778D8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2058-1A9E-4609-B7C0-7DD36EA2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3E1CB-5EF4-4B3F-8CEB-538B5FE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15D53-E7C0-46EA-B24F-7EEDDDFE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78DF7-5856-4B2A-8465-85DC3BD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367D0-509F-42CA-9292-2F4E1A0C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10B2-C721-4AB8-A0E0-95D7821B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7D8DA-507D-4A8F-A26D-46CEC034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7F4D-C39D-4573-8C80-65B6FB8C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13B00-65FE-46BB-85BD-B0CB84CA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FF972-16CC-43D8-B4DF-839D186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337F0-BDB6-49C1-AB7B-EDDDBAE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08326-CCAC-48BF-BE65-308D212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4783-685E-483C-BD68-99AD2B3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F708F-304C-42EA-B409-FC7A5C61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9A86E-FA9C-4F20-BA33-F5583F04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E1AB-5B72-45C0-8D3D-22C5DD02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C310D-07C4-4E77-82B4-BB039D11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51345-4E18-475B-9226-8B904E06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2580A-9A5D-4A98-9A81-92A9A066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6BA7F-13EF-4C25-82C5-4628C0DF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5FAAE-DC7D-4244-AD7C-BABC3738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C5F1D-ADAC-4D0D-A1D4-CE857506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3677E-3389-487F-8BDB-FCC697CD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7143D-9553-41B1-B593-B20D23EF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D2A82-2888-4ABE-824D-60E089DD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0C305-424F-45B3-A22F-63FDFCC8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5B6-0481-4C45-985F-9A108DB1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2898-68C2-4D27-92F4-398536B7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9AAB4-E8FD-4FF3-BAB8-E4B0FA89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5840-3501-4815-AB6F-EF8004A6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F0BA9-7B45-497E-9091-C17517F9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9802-FF6E-421C-A57C-2DFBD004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49037-4FA5-4D8A-B6DE-91CDC457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3E784-7609-46A0-8AD4-A37DC1E8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CF5B-E419-429B-BFEE-E53E5A3F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200C3-7392-4E8C-944E-6BDA653E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1D653-6D8E-4FF3-BF8B-665D4AD1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21A-1CEE-48EA-B1B9-D9012F8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A1315-47A6-4D3E-ABF2-B8A63C8A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60C3E-F8A0-47A4-A0C9-D92AA853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19173-EF4B-4D70-9BB8-847E997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E3CC2-B812-48E7-8866-C614A0DA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5A2AD-3067-4399-B1C1-393E799A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02246-3662-44AA-9E1B-79D65FFB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50DEC-25CE-499C-8BE0-851C9AB2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7FAA6-B710-41CF-B027-A78BBC91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C023B-7957-47D9-9A0A-76D11E0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E4838-8712-43A0-B85D-B90C8C3C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B2F-52BC-4EA0-A88F-4A57758D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613A3-534B-4DA1-B6CA-BF74280F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86AC6-3107-4BC5-A5D2-EF51AB3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0E6C7-158B-4C32-A64C-BDDB8DB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4D9F8-0DC4-41BC-A849-9DC3AE9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5AA45-7CA3-419D-886C-2DDED51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8EF0AA-D31C-41F9-B36B-9EB0F71F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2DB48-3BF8-4445-9AE9-C56C455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FA8DB-611C-4ED7-B02E-66E1C0AD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1E3C6-CD16-41AB-9458-EEE27E22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96932-E93F-47C3-AE3C-C0FBC962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A0D-95C8-41AA-B680-507CDD28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8E933-8BFF-43D8-8879-010155B6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86ED1-A8B4-428C-9582-FDADFD52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1D15F-29D0-4EF9-9D99-A325C6D4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D08DE1-0B2C-4F37-AF6E-14509C5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19A87-68F1-451F-B747-51F78D77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CD6D4-5F58-472F-B858-51BD465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35218-6D92-4175-8133-E5B2C51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C3F93-B5A8-4ED1-B901-944CE72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1005A-992C-414C-B93D-A756CCF4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DFB15-A083-4889-B51B-97E468AC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B4F-B088-49A3-99DA-B161238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029F7-E756-45C0-AEA8-CA30E45E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C008A-DC8A-4600-B840-57B78BA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5F190-95AC-4927-A98A-74195D32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DE6BE-5339-434F-8395-F87297D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79BD6-F050-4C09-9BFA-E56D47E7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C4252-2349-4F36-904C-767AD54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D7ED8-41E2-457E-ADDD-49FFFBEC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D02EA-69D2-45C5-B5ED-8BDD2E07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E5A30-5856-49D8-93FA-22933471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921F6-C9E5-4BB2-A598-6DE2211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6C3-6F94-4773-8776-90FC398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F16EB-14D8-4C0B-9CBF-73ECFB06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93DF4-C4C1-47FD-8883-1E5F913B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ADC22-9D56-48F0-AA7B-8CAD2207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A6E27-9A68-4AC4-B78A-B7BCBD9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E3900F-2517-42D7-8A1A-77489EA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A37AF-E246-405B-97F6-8E19D124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91A3D-F092-4BF9-807D-8E26E3D0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5E20E-18A1-41D8-A991-473A6D3F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6E0A5-3BBC-46D8-97ED-6369092E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F65D8-F812-4966-8F11-9E0709E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882-4116-4B23-80D4-C760699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EDD87-0009-47AD-B3E0-968D55E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122EF-5592-42B2-B0CB-AE2A3B86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5A099-2E14-4931-B6CD-EA869C2B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481167-DE0B-4435-9A42-E6695814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B7A29-BBC6-43CC-BF87-C771464F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EB016-16DB-4DB9-A51B-1133B5F0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BD66B5-C5E1-4058-B260-DD6557F3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77EDF2-F0A8-442D-A2E9-B3E7A83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374E0-18B6-41EE-8E40-798BD775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B0A12-857B-4FA8-BE61-67564E92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463-6654-455E-A6F7-DDA4E76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47178E-9F1B-4534-8AA2-DD3D395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D0EA8D-71B4-485A-A517-90A14E67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E4A33-E2B4-4D43-A28A-BA0F612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CF653-BE19-48A3-98CB-40108369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6C209B-FE17-4D7B-AF9A-7D023F60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E2CBB4-155D-4F19-B522-2852F64B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73FEF-5E9D-4ACB-86BF-A9B1F06D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2C09C6-85E7-4080-B74F-1699D848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69006-C4A4-4B76-95DE-AD5FB0BE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63C1E-D131-4949-B721-9C35FC7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9B5C-2E5D-46E3-B143-DFA481AECB6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8FAA-1356-45AA-BC6B-DC4593D5C4A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C26D-3BA5-46D0-92C4-BA5C41A3872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A52C-0E01-463C-902F-8D40803CEE9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1439-63E4-4AAC-A094-F423FBF00835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46FE-A8D1-4C89-8575-9417397C799D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8B86-99B4-423F-89E8-57123A9A4D59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A22-9470-49EE-B029-4B63025658AB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0B8C-A854-4707-B6DE-A79C65BB91D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5BB0-4006-4E55-BBFA-DD32237B44A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187-E7D6-4349-98C0-E25DEF2AA8A4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521-141F-4865-AEFE-E412BDECFF68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xfordmusiconline.com/subscriber/article/opr/t114/e4519?q=claudio+monteverdi&amp;search=quick&amp;pos=13&amp;_start=1#firsthit" TargetMode="External"/><Relationship Id="rId2" Type="http://schemas.openxmlformats.org/officeDocument/2006/relationships/hyperlink" Target="http://www.oxfordmusiconline.com/subscriber/article/opr/t114/e4519?q=claudio+monteverdi&amp;search=quick&amp;pos=13&amp;_start=1#firsthit" TargetMode="External"/><Relationship Id="rId3" Type="http://schemas.openxmlformats.org/officeDocument/2006/relationships/hyperlink" Target="http://imslp.org/wiki/Madrigals,_Book_8,_SV_146&#8211;167_(Monteverdi,_Claudio)" TargetMode="External"/><Relationship Id="rId4" Type="http://schemas.openxmlformats.org/officeDocument/2006/relationships/hyperlink" Target="http://imslp.org/wiki/Madrigals,_Book_8,_SV_146&#8211;167_(Monteverdi,_Claudio)" TargetMode="External"/><Relationship Id="rId5" Type="http://schemas.openxmlformats.org/officeDocument/2006/relationships/hyperlink" Target="https://www.discogs.com/Monteverdi-Marazzoli-Le-Po&#232;me-Harmonique-Vincent-Dumestre-Combattimenti/release/3035553" TargetMode="External"/><Relationship Id="rId6" Type="http://schemas.openxmlformats.org/officeDocument/2006/relationships/hyperlink" Target="https://www.discogs.com/Monteverdi-Marazzoli-Le-Po&#232;me-Harmonique-Vincent-Dumestre-Combattimenti/release/3035553" TargetMode="External"/><Relationship Id="rId7" Type="http://schemas.openxmlformats.org/officeDocument/2006/relationships/hyperlink" Target="https://www.discogs.com/Monteverdi-Marazzoli-Le-Po&#232;me-Harmonique-Vincent-Dumestre-Combattimenti/release/3035553" TargetMode="External"/><Relationship Id="rId8" Type="http://schemas.openxmlformats.org/officeDocument/2006/relationships/hyperlink" Target="http://web.archive.org/web/20071109183656/http:/www.geocities.com/vienna/1790/m_works.ht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68000" y="501300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Pavlína Němcová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Filozofická fakulta Masarykovy univerzity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Hudební věda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201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Nadpis 1" descr=""/>
          <p:cNvPicPr/>
          <p:nvPr/>
        </p:nvPicPr>
        <p:blipFill>
          <a:blip r:embed="rId1"/>
          <a:stretch/>
        </p:blipFill>
        <p:spPr>
          <a:xfrm>
            <a:off x="-19080" y="450720"/>
            <a:ext cx="8059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ástupný symbol pro obsah 6" descr=""/>
          <p:cNvPicPr/>
          <p:nvPr/>
        </p:nvPicPr>
        <p:blipFill>
          <a:blip r:embed="rId1"/>
          <a:stretch/>
        </p:blipFill>
        <p:spPr>
          <a:xfrm>
            <a:off x="352440" y="1698480"/>
            <a:ext cx="7680240" cy="425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5320"/>
            <a:ext cx="7680240" cy="406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86120"/>
            <a:ext cx="7680240" cy="3679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7120"/>
            <a:ext cx="7680240" cy="4057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74640"/>
            <a:ext cx="7680240" cy="4502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Emphasis (klimax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47960"/>
            <a:ext cx="7680240" cy="3755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85800"/>
            <a:ext cx="7680240" cy="448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3" descr=""/>
          <p:cNvPicPr/>
          <p:nvPr/>
        </p:nvPicPr>
        <p:blipFill>
          <a:blip r:embed="rId1"/>
          <a:stretch/>
        </p:blipFill>
        <p:spPr>
          <a:xfrm>
            <a:off x="557280" y="1463760"/>
            <a:ext cx="7270560" cy="47242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57551"/>
                </a:solidFill>
                <a:latin typeface="Corbel"/>
              </a:rPr>
              <a:t>Saltus duriusculu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Lamento della ninf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bsa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7680240" cy="3479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680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Corbel"/>
              </a:rPr>
              <a:t>Exclamatio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92d050"/>
                </a:solidFill>
                <a:latin typeface="Corbel"/>
              </a:rPr>
              <a:t>epizeuxis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7030a0"/>
                </a:solidFill>
                <a:latin typeface="Corbel"/>
              </a:rPr>
              <a:t>paronomasia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Corbel"/>
              </a:rPr>
              <a:t>augumentati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631960"/>
            <a:ext cx="7680240" cy="2387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Doprovodné hlasy - imit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24040"/>
            <a:ext cx="7680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839960"/>
            <a:ext cx="768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2440" y="1463400"/>
            <a:ext cx="76802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Slovenská hudba. Revue pre hudobnú kultúru. Ročník XX, č. 3-4. Antológia - renesancia a barok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Bratislava, 1994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Arnold, Denis; Carter, Tim.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Grove Music - Oxford Music Online. Oxford University Press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://www.oxfordmusiconline.com/subscriber/article/opr/t114/e4519?q=claudio+monteverdi&amp;search=quick&amp;pos=13&amp;_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2"/>
              </a:rPr>
              <a:t>start=1#firsthit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ff"/>
                </a:solidFill>
                <a:uFillTx/>
                <a:latin typeface="Corbel"/>
              </a:rPr>
              <a:t>IMSLP, Petrucci Music Library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. Madrigals, Book 8.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3"/>
              </a:rPr>
              <a:t>http://imslp.org/wiki/Madrigals,_Book_8,_SV_146%E2%80%93167_(Monteverdi,_Claudio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4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iscogs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Marazzoli / Le Poème Harmonique, Vincent Dumestre ‎– Combattimenti!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5"/>
              </a:rPr>
              <a:t>https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6"/>
              </a:rPr>
              <a:t>://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7"/>
              </a:rPr>
              <a:t>www.discogs.com/Monteverdi-Marazzoli-Le-Po%C3%A8me-Harmonique-Vincent-Dumestre-Combattimenti/release/3035553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Internet archive, Wayback Machine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, List of Monteverdi's Works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8"/>
              </a:rPr>
              <a:t>http://web.archive.org/web/20071109183656/http://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www.geocities.com/vienna/1790/m_works.ht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Madrigali guerrieri et amorosi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Madrigali_guerrieri_et_amorosi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Lamento della Ninfa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Lamento_della_Ninfa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orbel"/>
              </a:rPr>
              <a:t>Použitá literatura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* 1567 Cremo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pr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8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second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9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terz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59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art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int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sest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Concerto. Sett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†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1643 Benátk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e canzonette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, Benátky 165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Claudi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 Monteverd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por s Giovannim Artusi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-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Seconda pratica ouero Perfettione della moderna mus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iulio Caesare Monteverdi –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Dichiaratione della lettera stampatanel Quinto libro de suoi Madregal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iprian de Rore, Marca‘Antonio Ingegneri, Luca Marenzio, Giaches de Wert, Luzzasco Luzzaschi, Jacopo Peri, Giulio Caccini a nejvznešenější duchvéy, kteří prý rozumí pravému umění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, et amorosi con alcuni opuscoli in genere rappresentativo, che saranno per brevi episodii frà i canti senza gesto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Guerrier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rbel"/>
              </a:rPr>
              <a:t>Lamento della ninf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56364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Fébus ještě nepřinesl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ové jitro světu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ze svého domu vyběh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ívka v plném krásy květu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Její bledou tvář zřetelně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olest poznamena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nová chvíle zase nový vzdech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 hrudi jí vyrvala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ak zašlapala květy do země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bíhala kolem bez cíle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svou lásku ztracenou takt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aklínala zoufal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havea Febo anc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Recato al mondo il dí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una donzella fu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Del proprio albergo uscí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ul pallidetto v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corgeasi il suo dolor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esso gli venia sci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Un gran sospir dal cor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calpestando fi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Errava hor qua, hor là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I suoi perduti am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piangendo v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42920" y="671040"/>
            <a:ext cx="38862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o“, </a:t>
            </a: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vzdychla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a zůstala stát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s pohledem k nebesům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Lásko, kde, ach, kde je ta věrnost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co mi ten zrádce sliboval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rať mi miláčka jak býval dří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mne miloval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nebo žití mne zba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ť trápit se nemusím dál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Nepatří mi již jeho dech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yť se přiblížil kdykoli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ne, Bože, ušetři mne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ej, ať ta rána víc nebolí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ach ne, ne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Snad že mne trápí pr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šechnu mou pýchu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což vrátí-li se, když se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 modlitbách zřeknu hříchů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674640"/>
            <a:ext cx="266544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Dice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il ciel mirando,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il piè fermo,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 dove, dov’è la fè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el traditor giurò?“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Fa che ritorni il m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 com’ei pur fu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O tu m’ancidi, ch’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mi tormenti più.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n vo’ più ch’ei sosp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lontan da me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, no che i mart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iù non dirammi af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Ah miserella, ah più, no, no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erché di lui mi struggo,Tutt’orgoglioso sta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he sí, che sí se’l fugg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ncor mi pregherà?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Corbel"/>
              </a:rPr>
              <a:t>Amo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Obdélník 4"/>
          <p:cNvSpPr/>
          <p:nvPr/>
        </p:nvSpPr>
        <p:spPr>
          <a:xfrm>
            <a:off x="6084720" y="844560"/>
            <a:ext cx="278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ciglio ha più ser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olei, che’l mio non è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Già non rinchiude in s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mor sí bella 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mai sí dolci bac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Da quella bocca havra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più soavi, ah tac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Taci, che troppo il sai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Obdélník 5"/>
          <p:cNvSpPr/>
          <p:nvPr/>
        </p:nvSpPr>
        <p:spPr>
          <a:xfrm>
            <a:off x="6084720" y="3645000"/>
            <a:ext cx="295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… ať si jeho oči září víc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ž oči mé, nezaselas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nezavřela v jeho hrudi tak krásný cit,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rty mé, sladkost těch polibků již neokusíte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budou něžnější, ach mlčte ústa má, dobře to víte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70800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tak uprostřed vzlyků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zvedla k nebi svůj hl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rávě tak v srdci milujícím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mísí oheň a mráz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tra sdegnosi pi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argea le voci al ciel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ne’ cori am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Mesce amor fiamma, e gel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21:55:54Z</dcterms:created>
  <dc:creator>Pavlina</dc:creator>
  <dc:description/>
  <dc:language>en-US</dc:language>
  <cp:lastModifiedBy>Jana Perutková</cp:lastModifiedBy>
  <dcterms:modified xsi:type="dcterms:W3CDTF">2016-12-11T19:54:27Z</dcterms:modified>
  <cp:revision>95</cp:revision>
  <dc:subject/>
  <dc:title>Lamento della ninfa</dc:title>
</cp:coreProperties>
</file>