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621-161C-4AA9-8F69-D05DA812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E8C-082C-45EC-B00E-6BEFADEE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952AE4-1FED-42B5-B24A-A302C94D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7CA5CB-D648-41AB-B4FC-6CCE231B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A8BB8A-CDED-4591-BD67-12288980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BC2BC3-5A78-4436-B4E5-A2416614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5E4B71-7C1D-4392-97DA-72AE514C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5CB2FA-0230-4998-8DB6-834616E1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7E044-8BFB-48C5-9B3B-F52D7544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234C9A-225E-4820-9FDA-73285085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CD256-5345-4B41-A2B1-72BAEE1F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033EE-9B56-4069-ABAE-141FCE32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21B-8049-406F-AD80-4C96E345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EC13FE-6E87-4BCB-9F42-7CC9109A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CC037D-8D24-4C8C-9798-EB867C66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E0F976-8FC6-45BA-BE0E-439C027D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F72304-3213-458A-A41C-65829C98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D1FABD-4FB5-4C2D-9E26-9CCD7202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7FE024-8030-41CC-B137-0427B9C5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4349BB-8F2F-4A89-9B5A-6A49BA77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BFF8C2-ADE2-4D82-8402-FDFE39CA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1C32CF-C238-4D63-9310-D3278EF5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55D6C2-12AD-4A99-8487-C3C09EAE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C1D-2777-4450-9FB7-9D21C3CC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76D877-E2F4-4EF0-8740-990A80C0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55711-F4B5-4A9A-94E7-31DC4AE3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6E548-6A5C-47D7-A3E1-6A5E98FA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F4AC3-2FDC-4B51-8BF9-E80807FD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3B8E8-8D3D-46C6-805E-D33022C2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D0C11-F5FC-4AD2-AAEE-D4807243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06A61-E836-48FC-BFA1-BB3B3C53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E9144-00D0-4EB0-B6D0-992A05B8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B6BF2-D20A-47E4-80F0-A952C8E1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EFD4E-27D8-4623-8DFD-EF52C98C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D2FEA-A2C1-4227-90EC-009B60B5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A3263-6C70-4552-934B-C828272F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BD72A-9093-40FB-AD49-B95BE042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AB8BA-EC1C-4A91-B126-16524647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C5836-667B-4829-84AC-A1A822C3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0AA59-4FB6-419A-BC0B-68CBA7D4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C23DB-8154-4F71-AAF9-327D7395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4CD25-B852-4539-927F-6E231492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8DED6-08C2-4813-8F08-813366A6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55D98-1F3E-4777-919C-EF8AF52D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ADAB5-E66E-4484-9576-26DB061E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F664F-5496-457A-A76B-AB6F6831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73764-5F54-4B08-9745-3D5D2DEA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2A256-F144-44FB-9985-90B35F1B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4ECA4-FDC2-4B0F-9378-EDCB99BA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88662-6CC1-4303-9214-7D922251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2FF01-2348-4BA8-948D-BABD6957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80208-CDAD-48FD-9BA1-C1DF982F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36902-4F1E-4807-AECA-86D3CA97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8BE5D-3728-4205-90A5-1F61163F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47A5F-78AD-4E9E-98E1-DE868043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CB42C-8D98-4E09-8B3D-C322E8BA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B94-43BA-47E6-8A91-FA8F9168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1B72D-1893-4705-BE68-A39BF981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34EA7-2240-4EA6-A864-9F7FB69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7E6B9-D22B-419D-AB1E-3A6BF526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7187F-9236-463E-8A50-D45F104E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990E3-518E-4C8A-A035-16A672FE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46F76-AE59-40E1-AFA1-93CC02F6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0804B-A699-44C8-9FFB-F5A4B7C6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E009D-A2CD-4A13-9A8B-A8A885C5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EAF97-3343-4EA1-B290-D5D173B1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D6DDE-135A-439F-9A8A-8399A0CD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F83-3EBE-4A1A-AF9F-096D5BFF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79DC4-EAAF-40D8-9A0F-424BF0F8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7BB29-1B87-4299-BC94-CFA305C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882A2-E932-478D-806D-0730C14A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6D93B-C2CD-4299-BD76-959E332C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C8613-9D36-4014-8901-B1EDB082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627B8-39A6-4C8E-B174-0C9C3EE6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63E23-39B7-43F0-878A-457DF47F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62A3B-85FA-4805-A119-FC31FEB5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08A53-8B12-4992-89C6-715580CD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1BBB5-CABC-4F10-904F-733E777A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C63-A764-4D0D-B2D5-FC85243F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17589-1EB3-445C-A92B-B0DEC935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37098-A86F-4D2D-8DB7-32420A9C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848636-2C4B-422E-A391-E7EF8DCC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F9A12-CC83-4D69-9F0A-8EAF876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077FA-2474-43F0-8DA4-FF10D134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07EEC-C449-47CC-ACBD-91781936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9AF5F-D9D9-4A5C-A2C1-ADC56D44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3DFD6-64C6-408B-AE0C-4582B2B0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A11AE-A2A9-45D6-95DB-FF84827C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0AF73-D437-4957-AABE-33CA7A5F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455-AD12-49EB-86A6-0C691BFC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1448F-0781-4486-BE1C-A98A0E75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CEC2A-9DB4-41EF-BAD7-AF6C9556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D5F4F-F207-4ECF-8A1F-20B0B201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D2848-608E-40E6-9DA8-554E8423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663E2-52F7-4B67-A6AA-62D5D63D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03AA4-08EE-4032-A592-C1E9C575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10387-A1D5-422A-801A-3BEF2D0B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C2C85-6416-49E1-95DD-56F58E40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8E6F1-C880-446A-9B4A-89FDFC39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2C99D-AAEF-45BA-9817-2326774B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A53-5A34-494D-9BF2-6F948E3D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E37E5F-7F79-43FD-8B0F-64EA97FE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9D3E1-8CE1-4EFD-83FD-085CAAA2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33A62-DFBB-48DA-9BD6-C53490E5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35516-0567-49D6-A094-564C5D91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AD00F-3EAE-422B-B757-6ACA8895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7B37A-72F0-4A24-8784-1EFD63C1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4CD4A-101E-488A-A747-EEA0F9E2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4AB1E-A087-4F35-B9CC-DDCC962F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E0B36-0B00-4594-BCBB-733888FC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C3D8E-C2A8-4D16-9386-F4F3F32E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3EC-A4C9-4B90-82DF-324ABD88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31166-85FF-45FD-9D76-E9B61D6C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B58E57-0BC7-43DE-AA0A-1E19959F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CFCBC-C24A-4B1E-9A1F-0020AB54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A47B1A-0103-4898-854D-2C513B69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137B6F-D249-445E-8CC4-EFB24690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2E0DD1-FEA7-4D13-A618-2E4719B0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6148A-8416-4EA1-AF15-E27A67EE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7D080-F816-4730-A677-F3DF98EA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19FC4-4D9F-4995-84A7-7A9688CD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3822B-C1C6-4478-B406-64084168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BE0-FED5-4709-81B9-9168A55D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501C3-1181-4B6F-95B4-3B593AE3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DB593-6E28-478E-8E52-EECB6B9F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DAF1C-0FD5-457A-B169-45A9B63C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4EBA1-E83F-4113-B629-429AB95B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54662-5A17-41CC-AB77-69725F06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328F5-0818-45E2-91A8-20315AB9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8FE392-F684-436B-82D9-7BDA4E9C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0DD95-5E63-4052-A621-FC7CA075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4BEB1A-3502-4E72-8CE8-227BF611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DC0DF9-6131-47DB-B94A-8D3D9281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F13-6449-444C-8B0C-5EBF2465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2908C2-96F3-4CA1-9C00-172F3933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A856D4-8607-496F-BAC3-D0E17FCC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EE0279-C9D2-427D-855C-666F714C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CBB4B9-14B7-4A44-BCCF-ECF1AA6E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8B0A02-3E47-4DC2-9861-C24929CD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2E44C7-55B1-429A-B4F7-BAF6F575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D227B5-804F-4A5D-BE52-494196D2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7F62CE-5347-4105-98AA-28A83F12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10B0F1-2718-4740-B70B-3B8FBB1A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8E7C7E-7913-4858-9C1D-A05A73A4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2E1F-4177-4F46-B77D-E79FA6C49E2F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1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296-DC9F-4BB0-A737-D7BE509064E1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FE12-B58E-4A01-B157-D96FB1870113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758A-FE65-4619-85FE-6977E8847AB7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15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139C-9A87-481A-A02F-2CE2C6C07CF6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6678-39F8-48DF-BF1D-B9B21B168E50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17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7EE2-5423-4469-90FC-6C3B6623FA76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E2EE-ECAC-4D82-AF2D-03696B2DFE03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3885-91BD-4F56-8A7F-4E93BEC6FF13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72D2-3BBD-4DA8-A67A-656F8E06DCA5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7E6B-3E7F-4298-93BA-E05CD6B4757F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2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349E-B8D3-480F-9EF0-BAE56EA3615B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xfordmusiconline.com/subscriber/article/opr/t114/e4519?q=claudio+monteverdi&amp;search=quick&amp;pos=13&amp;_start=1#firsthit" TargetMode="External"/><Relationship Id="rId2" Type="http://schemas.openxmlformats.org/officeDocument/2006/relationships/hyperlink" Target="http://www.oxfordmusiconline.com/subscriber/article/opr/t114/e4519?q=claudio+monteverdi&amp;search=quick&amp;pos=13&amp;_start=1#firsthit" TargetMode="External"/><Relationship Id="rId3" Type="http://schemas.openxmlformats.org/officeDocument/2006/relationships/hyperlink" Target="http://imslp.org/wiki/Madrigals,_Book_8,_SV_146&#8211;167_(Monteverdi,_Claudio)" TargetMode="External"/><Relationship Id="rId4" Type="http://schemas.openxmlformats.org/officeDocument/2006/relationships/hyperlink" Target="http://imslp.org/wiki/Madrigals,_Book_8,_SV_146&#8211;167_(Monteverdi,_Claudio)" TargetMode="External"/><Relationship Id="rId5" Type="http://schemas.openxmlformats.org/officeDocument/2006/relationships/hyperlink" Target="https://www.discogs.com/Monteverdi-Marazzoli-Le-Po&#232;me-Harmonique-Vincent-Dumestre-Combattimenti/release/3035553" TargetMode="External"/><Relationship Id="rId6" Type="http://schemas.openxmlformats.org/officeDocument/2006/relationships/hyperlink" Target="https://www.discogs.com/Monteverdi-Marazzoli-Le-Po&#232;me-Harmonique-Vincent-Dumestre-Combattimenti/release/3035553" TargetMode="External"/><Relationship Id="rId7" Type="http://schemas.openxmlformats.org/officeDocument/2006/relationships/hyperlink" Target="https://www.discogs.com/Monteverdi-Marazzoli-Le-Po&#232;me-Harmonique-Vincent-Dumestre-Combattimenti/release/3035553" TargetMode="External"/><Relationship Id="rId8" Type="http://schemas.openxmlformats.org/officeDocument/2006/relationships/hyperlink" Target="http://web.archive.org/web/20071109183656/http:/www.geocities.com/vienna/1790/m_works.htm" TargetMode="External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68000" y="501300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Pavlína Němcová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Filozofická fakulta Masarykovy univerzity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Hudební věda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201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Nadpis 1" descr=""/>
          <p:cNvPicPr/>
          <p:nvPr/>
        </p:nvPicPr>
        <p:blipFill>
          <a:blip r:embed="rId1"/>
          <a:stretch/>
        </p:blipFill>
        <p:spPr>
          <a:xfrm>
            <a:off x="-19080" y="450720"/>
            <a:ext cx="8059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Zástupný symbol pro obsah 6" descr=""/>
          <p:cNvPicPr/>
          <p:nvPr/>
        </p:nvPicPr>
        <p:blipFill>
          <a:blip r:embed="rId1"/>
          <a:stretch/>
        </p:blipFill>
        <p:spPr>
          <a:xfrm>
            <a:off x="352440" y="1698480"/>
            <a:ext cx="7680240" cy="42544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95320"/>
            <a:ext cx="7680240" cy="40608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986120"/>
            <a:ext cx="7680240" cy="36795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97120"/>
            <a:ext cx="7680240" cy="40575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Klima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574640"/>
            <a:ext cx="7680240" cy="45021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Klima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14560"/>
            <a:ext cx="7680240" cy="36226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Emphasis (klimax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947960"/>
            <a:ext cx="7680240" cy="37558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585800"/>
            <a:ext cx="7680240" cy="44802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3" descr=""/>
          <p:cNvPicPr/>
          <p:nvPr/>
        </p:nvPicPr>
        <p:blipFill>
          <a:blip r:embed="rId1"/>
          <a:stretch/>
        </p:blipFill>
        <p:spPr>
          <a:xfrm>
            <a:off x="557280" y="1463760"/>
            <a:ext cx="7270560" cy="47242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14560"/>
            <a:ext cx="7680240" cy="36226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57551"/>
                </a:solidFill>
                <a:latin typeface="Corbel"/>
              </a:rPr>
              <a:t>Saltus duriusculu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laudio Monteverdi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rima a seconda pratic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Lamento della ninfa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Obsah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85840"/>
            <a:ext cx="7680240" cy="34797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768024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b0f0"/>
                </a:solidFill>
                <a:latin typeface="Corbel"/>
              </a:rPr>
              <a:t>Exclamatio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3600" spc="-1" strike="noStrike">
                <a:solidFill>
                  <a:srgbClr val="92d050"/>
                </a:solidFill>
                <a:latin typeface="Corbel"/>
              </a:rPr>
              <a:t>epizeuxis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3600" spc="-1" strike="noStrike">
                <a:solidFill>
                  <a:srgbClr val="7030a0"/>
                </a:solidFill>
                <a:latin typeface="Corbel"/>
              </a:rPr>
              <a:t>paronomasia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 a </a:t>
            </a:r>
            <a:r>
              <a:rPr b="0" lang="cs-CZ" sz="3600" spc="-1" strike="noStrike">
                <a:solidFill>
                  <a:srgbClr val="ffff00"/>
                </a:solidFill>
                <a:latin typeface="Corbel"/>
              </a:rPr>
              <a:t>augumentati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631960"/>
            <a:ext cx="7680240" cy="238788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Doprovodné hlasy - imita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24040"/>
            <a:ext cx="7680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839960"/>
            <a:ext cx="76802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52440" y="1463400"/>
            <a:ext cx="768024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Slovenská hudba. Revue pre hudobnú kultúru. Ročník XX, č. 3-4. Antológia - renesancia a barok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. Bratislava, 1994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Arnold, Denis; Carter, Tim.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. Grove Music - Oxford Music Online. Oxford University Press. 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1"/>
              </a:rPr>
              <a:t>http://www.oxfordmusiconline.com/subscriber/article/opr/t114/e4519?q=claudio+monteverdi&amp;search=quick&amp;pos=13&amp;_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2"/>
              </a:rPr>
              <a:t>start=1#firsthit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ff"/>
                </a:solidFill>
                <a:uFillTx/>
                <a:latin typeface="Corbel"/>
              </a:rPr>
              <a:t>IMSLP, Petrucci Music Library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. Madrigals, Book 8.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3"/>
              </a:rPr>
              <a:t>http://imslp.org/wiki/Madrigals,_Book_8,_SV_146%E2%80%93167_(Monteverdi,_Claudio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4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iscogs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Marazzoli / Le Poème Harmonique, Vincent Dumestre ‎– Combattimenti!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5"/>
              </a:rPr>
              <a:t>https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6"/>
              </a:rPr>
              <a:t>://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7"/>
              </a:rPr>
              <a:t>www.discogs.com/Monteverdi-Marazzoli-Le-Po%C3%A8me-Harmonique-Vincent-Dumestre-Combattimenti/release/3035553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Internet archive, Wayback Machine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, List of Monteverdi's Works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8"/>
              </a:rPr>
              <a:t>http://web.archive.org/web/20071109183656/http://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www.geocities.com/vienna/1790/m_works.htm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ChoralWiki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Claudio Monteverdi, Madrigali guerrieri et amorosi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http://www0.cpdl.org/wiki/index.php/Madrigali_guerrieri_et_amorosi_(Claudio_Monteverdi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ChoralWiki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Claudio Monteverdi, Lamento della Ninfa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http://www0.cpdl.org/wiki/index.php/Lamento_della_Ninfa_(Claudio_Monteverdi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orbel"/>
              </a:rPr>
              <a:t>Použitá literatura</a:t>
            </a: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* 1567 Cremon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Il prim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58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secondo libro de madrigali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59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terzo libro de madrigali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, Benátky 159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quarto libro de madrigali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, Benátky 1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quinto libro de madrigali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05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Il sest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14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Concerto. Settim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3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†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1643 Benátk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e canzonette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, Benátky 165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orbel"/>
              </a:rPr>
              <a:t>Claudi</a:t>
            </a: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o</a:t>
            </a:r>
            <a:r>
              <a:rPr b="0" lang="pt-BR" sz="4000" spc="-1" strike="noStrike">
                <a:solidFill>
                  <a:srgbClr val="ffffff"/>
                </a:solidFill>
                <a:latin typeface="Corbel"/>
              </a:rPr>
              <a:t> Monteverd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Spor s Giovannim Artusi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laudio Monteverdi - 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Seconda pratica ouero Perfettione della moderna music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iulio Caesare Monteverdi – 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Dichiaratione della lettera stampatanel Quinto libro de suoi Madregal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iprian de Rore, Marca‘Antonio Ingegneri, Luca Marenzio, Giaches de Wert, Luzzasco Luzzaschi, Jacopo Peri, Giulio Caccini a nejvznešenější duchvéy, kteří prý rozumí pravému umění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Prima a seconda pratic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guerrieri, et amorosi con alcuni opuscoli in genere rappresentativo, che saranno per brevi episodii frà i canti senza gesto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anti Guerrier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anti Amoros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Non havea Febo ancor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Amo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Si tra sdegnosi piant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rbel"/>
              </a:rPr>
              <a:t>Lamento della ninf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563640" y="1483920"/>
            <a:ext cx="38862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Fébus ještě nepřinesl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ové jitro světu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když ze svého domu vyběhla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dívka v plném krásy květu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Její bledou tvář zřetelně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bolest poznamenala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nová chvíle zase nový vzdech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z hrudi jí vyrvala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ak zašlapala květy do země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obíhala kolem bez cíle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svou lásku ztracenou takto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zaklínala zoufale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2080" y="1463760"/>
            <a:ext cx="38862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Non havea Febo ancora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Recato al mondo il dí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h’una donzella fuora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Del proprio albergo uscí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ul pallidetto volt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corgeasi il suo dolor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pesso gli venia sciolt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Un gran sospir dal cor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í calpestando fiori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Errava hor qua, hor là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I suoi perduti amori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osí piangendo va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Corbel"/>
              </a:rPr>
              <a:t>Non havea Febo ancor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842920" y="671040"/>
            <a:ext cx="38862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o“, </a:t>
            </a: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vzdychla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a zůstala stát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s pohledem k nebesům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Lásko, kde, ach, kde je ta věrnost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co mi ten zrádce sliboval?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Ubohá)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rať mi miláčka jak býval dřív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když mne miloval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nebo žití mne zbav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ť trápit se nemusím dál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Nepatří mi již jeho dech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byť se přiblížil kdykoli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ch ne, Bože, ušetři mne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dej, ať ta rána víc nebolí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ach ne, ne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Snad že mne trápí pro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šechnu mou pýchu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což vrátí-li se, když se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 modlitbách zřeknu hříchů?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0920" y="674640"/>
            <a:ext cx="2665440" cy="61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Amor,“ </a:t>
            </a: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Dicea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Amor,“ </a:t>
            </a: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il ciel mirando,</a:t>
            </a:r>
            <a:br>
              <a:rPr sz="1600"/>
            </a:b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il piè fermo,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Amor, dove, dov’è la fè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h’el traditor giurò?“</a:t>
            </a:r>
            <a:br>
              <a:rPr sz="1600"/>
            </a:b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Miserella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Fa che ritorni il mi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Amor com’ei pur fu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O tu m’ancidi, ch’i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Non mi tormenti più.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on vo’ più ch’ei sospiri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se lontan da me,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o, no che i martiri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Più non dirammi affè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Ah miserella, ah più, no, no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Perché di lui mi struggo,Tutt’orgoglioso sta,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Che sí, che sí se’l fuggo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Ancor mi pregherà?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ffffff"/>
                </a:solidFill>
                <a:latin typeface="Corbel"/>
              </a:rPr>
              <a:t>Amor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Obdélník 4"/>
          <p:cNvSpPr/>
          <p:nvPr/>
        </p:nvSpPr>
        <p:spPr>
          <a:xfrm>
            <a:off x="6084720" y="844560"/>
            <a:ext cx="2783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Se ciglio ha più seren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Colei, che’l mio non è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Già non rinchiude in sen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Amor sí bella fè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e mai sí dolci bac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Da quella bocca havrai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e più soavi, ah taci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Taci, che troppo il sai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Obdélník 5"/>
          <p:cNvSpPr/>
          <p:nvPr/>
        </p:nvSpPr>
        <p:spPr>
          <a:xfrm>
            <a:off x="6084720" y="3645000"/>
            <a:ext cx="295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… ať si jeho oči září víc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ž oči mé, nezaselas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a nezavřela v jeho hrudi tak krásný cit,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ch rty mé, sladkost těch polibků již neokusíte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budou něžnější, ach mlčte ústa má, dobře to víte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ubohá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708000" y="1483920"/>
            <a:ext cx="38862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tak uprostřed vzlyků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ozvedla k nebi svůj hlas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rávě tak v srdci milujícím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a mísí oheň a mráz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52080" y="1463760"/>
            <a:ext cx="38862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í tra sdegnosi piant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pargea le voci al ciel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osí ne’ cori amant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Mesce amor fiamma, e gel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Corbel"/>
              </a:rPr>
              <a:t>Si tra sdegnosi piant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21:55:54Z</dcterms:created>
  <dc:creator>Pavlina</dc:creator>
  <dc:description/>
  <dc:language>en-US</dc:language>
  <cp:lastModifiedBy>Jana Perutková</cp:lastModifiedBy>
  <dcterms:modified xsi:type="dcterms:W3CDTF">2016-12-11T19:54:27Z</dcterms:modified>
  <cp:revision>95</cp:revision>
  <dc:subject/>
  <dc:title>Lamento della ninfa</dc:title>
</cp:coreProperties>
</file>