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948-66DA-492F-AFF5-0A412C70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192-2E4B-4CE1-98CB-583D522C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EC7E9C-21BE-44D4-917D-63377E7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D04BA1-E337-446F-8774-74BB751A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7F7BDF-48DD-4737-B996-7FE76EC1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4A01A-41A2-4F7C-ABE1-111E726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01FA4D-EBE0-475E-8E16-D40B471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AAE1B-7E63-47B4-9BA9-C02134D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EBF9C-31F4-435C-B2EB-2CC5977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05E162-F993-40C9-8F20-EBAF2BBF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56CC77-4893-48A0-8DFA-4EEC96FF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07D9E-7C9C-4EC9-AA1C-CB7702C8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020-2FC0-4442-A952-9141A345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E00B84-257E-42F5-87B3-C60E53B3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AD02E5-4287-4E26-9CEC-D308767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2E8268-A78B-4768-B7A7-E38529E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539FA-2338-499C-BB48-7A9DEB1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03656-2094-4984-81BC-1641577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74415-3598-4749-8231-CEB1E07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9F64D-3198-4E18-9CB2-89C59F05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C617F-7754-4356-8A6B-E982F291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9604C-7223-4ED7-9401-BE93178B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90301F-7275-4CFB-94B3-357D6CCA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030-C0C9-461B-93EC-AEA1DC6E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5B40C-14A1-4CB4-A92E-F19DE098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63D3-B04A-4D51-8BEE-39D09908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270D0-CE74-4EB3-9C4C-F421C353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D027-EA36-479C-A453-DFF39BE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81A8-EE99-4ACF-BA10-7CA9AB4F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0373-EFE1-4B22-84AF-C959E8C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6BDCC-1195-40AC-B4FB-0260FBE9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7835-2BC7-4D69-800A-6DB9C35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A1D7-26CD-4686-8AFE-7AC6684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EC0D9-C86D-4132-9753-5615D0E8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807E8-9782-4919-AD82-28D60996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9073C-EC8B-4984-9A6A-B731E7D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4BCA-3FF4-4B99-9104-4F52D6E9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853A9-48DB-49C4-A7CA-EF6D68D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05992-2267-413E-B30D-E81E7F0D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0F104-B4B8-4E3A-8B24-844C75A5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D0AB-33FC-4223-8525-4DF1D50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6758E-955C-40F2-99FF-0C6DEC9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9DB75-D67B-4A64-9680-AF55BD4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D99AF-CDB1-4EE1-B5DE-D8084711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6AB50-8B2E-44B4-92E6-6D08770E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5FCA6-83C9-433B-A5C2-C9ED7CAF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5536F-1606-4418-B498-AB91E02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4BCBD-54B7-40D5-96FA-F52F3E3D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E2563-7BAB-4D1E-8053-7B6F6AC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33894-C781-4A72-88E7-D33220FF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B7BDE-DEA6-4731-BCB7-CD7F1CDD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C28DD-7E8F-40BB-8451-98A0BF2E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1DB4-12D0-4743-A5FF-29F6932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B738A-3825-4985-B772-E5C46C6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6E470-CE7B-487E-97E8-12ACEAC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28C43-8958-4E1F-968F-9561356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C2E-E891-491C-9242-FAD51868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ABE2-60C3-4EEC-97ED-7F201BC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7ED1-65D5-4B4E-9C4E-42008C2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5ABE-865E-4F6D-914A-D01E1AE4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590BE-D527-4094-8A49-3E133FE8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2AF23-4F36-447E-A150-C483EB8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2C956-3DB9-463D-BF06-49007AD6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908F9-372A-47CC-9B05-F9E1D98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ADE0A-1A43-418D-9490-9B189517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7172E-A688-4411-8A64-D6E4D94B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06F22-60A7-4E76-A7CB-41F7FFAB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913-FF08-4528-B510-9CACD99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88029-1160-4CE1-B228-C88491C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6E8BC-6B44-4739-96E9-5079B5E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636AC-6850-4689-902D-962233E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90C42-3E8E-4C49-9A58-BFD3683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5DA85-5D33-410E-8A34-77B8187D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21484-9372-4D81-8D55-42D56269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ECF06-A30A-4078-B3E1-0122D162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C80A3-18FD-4896-8175-0149CE70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8F852-BA85-41E4-A6FC-CBC51EC8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1C3B7-762A-41D4-AF5B-A6868C9C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0E1-DC43-4EAE-ABA0-ABC887D6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D1817-5CD7-4729-8C64-AEE47AB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9DC2E-7562-4204-98FA-811B34D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B683A-52A7-4DF6-9F99-A1832E3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84E8F-E81F-4DE9-B4FC-C96A8D31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9AD4F-D374-49EF-886F-D4C17E4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C86AF-9A69-4D45-9E52-54D8F01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5B64E-9D0F-4E6F-A692-36156DA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59ED3-3E32-4071-878F-9FE15016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A9020-C386-4820-891A-A838F88E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F70CF-CAFD-478D-9A6B-DAF753F2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FEF-8995-46CA-8B32-1FE6517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1A184-09A9-494A-9285-004EB4F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C361C-2433-4B4A-A487-736A68F5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811C4-FCE0-4A6E-A0C8-EBC7938F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C46B2-930B-4D49-AD97-5CE54568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7BF91-1CF2-463C-8111-39D64DF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8E80B-E785-49F7-896C-8709353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7770D-2E31-4CFC-AD43-79C8D55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09C2C-B666-41BE-8B64-5482DF7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77386-46CA-43E0-9B49-2E65D61C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FE920-E637-4809-8133-CD781C59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61D-09C8-48C5-AD84-F5D42BE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F060F-92EB-428A-8982-57CAD0E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C4190-70E7-4EEB-A8EF-8BB27A26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221BD-0AFE-49A3-8026-4ECA8E4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B0D88-4EBA-4A29-AE02-B6890D05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6B623-92D0-46EE-851E-CB2F2F8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17688-B432-4D3E-A982-2E810698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58705-0F2E-4357-93D3-409C209B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0768B-8A31-4617-AC3A-85E3408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56B63-4A57-4312-80EE-3C0B231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4F86A-905F-4B40-8EA5-2CED5A1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538-9AFD-4B50-858F-B44B8C0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C0CFB-6E54-4E99-B6E0-5E1371D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E9188-5386-49DE-AC50-8150EB13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2255F-DCBB-4C31-B82C-7CA67AF8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CA820-9BBC-462E-9947-2C60A9F2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2236C-C398-4D37-AB53-68055D0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4E449-E80B-4B68-9369-2638E31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485E2-5872-46F6-9704-F4CEC019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AF1E8-6E19-4FAE-8E9E-6C13672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EBCEC-3937-4386-8BD6-21D8CED9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6A9DD-4D36-4A37-BF0E-FC47F0D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CC0-E60E-4870-9D25-14D6FB6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F5FE2-FEF1-4287-A831-45273F7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EAB99-919B-4AA4-8760-64ACBFF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FD3C5-6D87-4996-B52C-4DB0BAC2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D6062-F8D9-4099-B187-FD648AD3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86EF8-C96B-44A3-AD63-A65F74D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E4B46-D910-4D08-875C-FD5419AE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70F22-99B3-4A81-9E13-9A37A9AF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644F8-8D5C-47CB-BF6D-0696BED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A2694-EA83-4827-AAA8-0FDF6BE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AEE276-531A-48FB-8594-2C65F94D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D88-BCC9-474F-86A2-3DED542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82366-78C3-4D9B-A5E3-2F076599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68508-733D-4491-8C02-1ED92AD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98BAF-221E-450D-8DEE-A18F6B7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B6FEF-EA77-426D-BAE6-B37E298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C0F21-6A5D-4EC5-BDBA-DA495520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039E5-BDB7-4E56-96FE-242EC4C9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F4166-FEF2-4869-8067-73AB9CF7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264FC-8E19-4B4D-9A66-798F5672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3B899-0666-4FFF-BFBD-40E5E59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5A678-8C79-4F65-B12E-EE64452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1E71-E9D0-44B3-B80E-C7F79400EB5C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8545-CB00-4212-8382-9147E91F8ED4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9FBE-1911-4AEC-A6E6-A3F8A81B595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1DC-2BA6-472D-A6B4-69669B0B836C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93DE-BCBC-490F-84F9-19710782042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2A73-27E3-4C81-A9E2-0A4E498D9335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A95D-DC86-4B20-B3FF-B1B915C545A6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D04D-0A32-4B47-97BA-E5FEB5428214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D32-AB23-4B2C-A2C9-025F6E46BC39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E569-D986-437F-B0AB-3FC37C5C3AFB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579-FD93-4570-87FD-7B593FE1828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9E88-448C-43AF-B614-FD4DE696F6ED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xfordmusiconline.com/subscriber/article/opr/t114/e4519?q=claudio+monteverdi&amp;search=quick&amp;pos=13&amp;_start=1#firsthit" TargetMode="External"/><Relationship Id="rId2" Type="http://schemas.openxmlformats.org/officeDocument/2006/relationships/hyperlink" Target="http://www.oxfordmusiconline.com/subscriber/article/opr/t114/e4519?q=claudio+monteverdi&amp;search=quick&amp;pos=13&amp;_start=1#firsthit" TargetMode="External"/><Relationship Id="rId3" Type="http://schemas.openxmlformats.org/officeDocument/2006/relationships/hyperlink" Target="http://imslp.org/wiki/Madrigals,_Book_8,_SV_146&#8211;167_(Monteverdi,_Claudio)" TargetMode="External"/><Relationship Id="rId4" Type="http://schemas.openxmlformats.org/officeDocument/2006/relationships/hyperlink" Target="http://imslp.org/wiki/Madrigals,_Book_8,_SV_146&#8211;167_(Monteverdi,_Claudio)" TargetMode="External"/><Relationship Id="rId5" Type="http://schemas.openxmlformats.org/officeDocument/2006/relationships/hyperlink" Target="https://www.discogs.com/Monteverdi-Marazzoli-Le-Po&#232;me-Harmonique-Vincent-Dumestre-Combattimenti/release/3035553" TargetMode="External"/><Relationship Id="rId6" Type="http://schemas.openxmlformats.org/officeDocument/2006/relationships/hyperlink" Target="https://www.discogs.com/Monteverdi-Marazzoli-Le-Po&#232;me-Harmonique-Vincent-Dumestre-Combattimenti/release/3035553" TargetMode="External"/><Relationship Id="rId7" Type="http://schemas.openxmlformats.org/officeDocument/2006/relationships/hyperlink" Target="https://www.discogs.com/Monteverdi-Marazzoli-Le-Po&#232;me-Harmonique-Vincent-Dumestre-Combattimenti/release/3035553" TargetMode="External"/><Relationship Id="rId8" Type="http://schemas.openxmlformats.org/officeDocument/2006/relationships/hyperlink" Target="http://web.archive.org/web/20071109183656/http:/www.geocities.com/vienna/1790/m_works.ht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68000" y="501300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Pavlína Němcová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Filozofická fakulta Masarykovy univerzity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Hudební věda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201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Nadpis 1" descr=""/>
          <p:cNvPicPr/>
          <p:nvPr/>
        </p:nvPicPr>
        <p:blipFill>
          <a:blip r:embed="rId1"/>
          <a:stretch/>
        </p:blipFill>
        <p:spPr>
          <a:xfrm>
            <a:off x="-19080" y="450720"/>
            <a:ext cx="8059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ástupný symbol pro obsah 6" descr=""/>
          <p:cNvPicPr/>
          <p:nvPr/>
        </p:nvPicPr>
        <p:blipFill>
          <a:blip r:embed="rId1"/>
          <a:stretch/>
        </p:blipFill>
        <p:spPr>
          <a:xfrm>
            <a:off x="352440" y="1698480"/>
            <a:ext cx="7680240" cy="425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5320"/>
            <a:ext cx="7680240" cy="406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86120"/>
            <a:ext cx="7680240" cy="3679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7120"/>
            <a:ext cx="7680240" cy="4057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74640"/>
            <a:ext cx="7680240" cy="4502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Emphasis (klimax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47960"/>
            <a:ext cx="7680240" cy="3755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85800"/>
            <a:ext cx="7680240" cy="448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3" descr=""/>
          <p:cNvPicPr/>
          <p:nvPr/>
        </p:nvPicPr>
        <p:blipFill>
          <a:blip r:embed="rId1"/>
          <a:stretch/>
        </p:blipFill>
        <p:spPr>
          <a:xfrm>
            <a:off x="557280" y="1463760"/>
            <a:ext cx="7270560" cy="47242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57551"/>
                </a:solidFill>
                <a:latin typeface="Corbel"/>
              </a:rPr>
              <a:t>Saltus duriusculu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Lamento della ninf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bsa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7680240" cy="3479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680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Corbel"/>
              </a:rPr>
              <a:t>Exclamatio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92d050"/>
                </a:solidFill>
                <a:latin typeface="Corbel"/>
              </a:rPr>
              <a:t>epizeuxis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7030a0"/>
                </a:solidFill>
                <a:latin typeface="Corbel"/>
              </a:rPr>
              <a:t>paronomasia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Corbel"/>
              </a:rPr>
              <a:t>augumentati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631960"/>
            <a:ext cx="7680240" cy="2387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Doprovodné hlasy - imit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24040"/>
            <a:ext cx="7680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839960"/>
            <a:ext cx="768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2440" y="1463400"/>
            <a:ext cx="76802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Slovenská hudba. Revue pre hudobnú kultúru. Ročník XX, č. 3-4. Antológia - renesancia a barok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Bratislava, 1994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Arnold, Denis; Carter, Tim.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Grove Music - Oxford Music Online. Oxford University Press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://www.oxfordmusiconline.com/subscriber/article/opr/t114/e4519?q=claudio+monteverdi&amp;search=quick&amp;pos=13&amp;_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2"/>
              </a:rPr>
              <a:t>start=1#firsthit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ff"/>
                </a:solidFill>
                <a:uFillTx/>
                <a:latin typeface="Corbel"/>
              </a:rPr>
              <a:t>IMSLP, Petrucci Music Library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. Madrigals, Book 8.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3"/>
              </a:rPr>
              <a:t>http://imslp.org/wiki/Madrigals,_Book_8,_SV_146%E2%80%93167_(Monteverdi,_Claudio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4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iscogs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Marazzoli / Le Poème Harmonique, Vincent Dumestre ‎– Combattimenti!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5"/>
              </a:rPr>
              <a:t>https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6"/>
              </a:rPr>
              <a:t>://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7"/>
              </a:rPr>
              <a:t>www.discogs.com/Monteverdi-Marazzoli-Le-Po%C3%A8me-Harmonique-Vincent-Dumestre-Combattimenti/release/3035553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Internet archive, Wayback Machine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, List of Monteverdi's Works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8"/>
              </a:rPr>
              <a:t>http://web.archive.org/web/20071109183656/http://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www.geocities.com/vienna/1790/m_works.ht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Madrigali guerrieri et amorosi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Madrigali_guerrieri_et_amorosi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Lamento della Ninfa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Lamento_della_Ninfa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orbel"/>
              </a:rPr>
              <a:t>Použitá literatura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* 1567 Cremo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pr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8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second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9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terz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59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art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int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sest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Concerto. Sett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†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1643 Benátk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e canzonette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, Benátky 165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Claudi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 Monteverd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por s Giovannim Artusi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-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Seconda pratica ouero Perfettione della moderna mus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iulio Caesare Monteverdi –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Dichiaratione della lettera stampatanel Quinto libro de suoi Madregal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iprian de Rore, Marca‘Antonio Ingegneri, Luca Marenzio, Giaches de Wert, Luzzasco Luzzaschi, Jacopo Peri, Giulio Caccini a nejvznešenější duchvéy, kteří prý rozumí pravému umění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, et amorosi con alcuni opuscoli in genere rappresentativo, che saranno per brevi episodii frà i canti senza gesto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Guerrier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rbel"/>
              </a:rPr>
              <a:t>Lamento della ninf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56364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Fébus ještě nepřinesl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ové jitro světu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ze svého domu vyběh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ívka v plném krásy květu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Její bledou tvář zřetelně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olest poznamena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nová chvíle zase nový vzdech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 hrudi jí vyrvala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ak zašlapala květy do země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bíhala kolem bez cíle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svou lásku ztracenou takt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aklínala zoufal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havea Febo anc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Recato al mondo il dí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una donzella fu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Del proprio albergo uscí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ul pallidetto v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corgeasi il suo dolor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esso gli venia sci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Un gran sospir dal cor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calpestando fi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Errava hor qua, hor là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I suoi perduti am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piangendo v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42920" y="671040"/>
            <a:ext cx="38862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o“, </a:t>
            </a: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vzdychla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a zůstala stát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s pohledem k nebesům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Lásko, kde, ach, kde je ta věrnost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co mi ten zrádce sliboval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rať mi miláčka jak býval dří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mne miloval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nebo žití mne zba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ť trápit se nemusím dál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Nepatří mi již jeho dech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yť se přiblížil kdykoli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ne, Bože, ušetři mne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ej, ať ta rána víc nebolí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ach ne, ne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Snad že mne trápí pr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šechnu mou pýchu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což vrátí-li se, když se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 modlitbách zřeknu hříchů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674640"/>
            <a:ext cx="266544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Dice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il ciel mirando,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il piè fermo,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 dove, dov’è la fè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el traditor giurò?“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Fa che ritorni il m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 com’ei pur fu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O tu m’ancidi, ch’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mi tormenti più.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n vo’ più ch’ei sosp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lontan da me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, no che i mart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iù non dirammi af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Ah miserella, ah più, no, no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erché di lui mi struggo,Tutt’orgoglioso sta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he sí, che sí se’l fugg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ncor mi pregherà?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Corbel"/>
              </a:rPr>
              <a:t>Amo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Obdélník 4"/>
          <p:cNvSpPr/>
          <p:nvPr/>
        </p:nvSpPr>
        <p:spPr>
          <a:xfrm>
            <a:off x="6084720" y="844560"/>
            <a:ext cx="278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ciglio ha più ser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olei, che’l mio non è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Già non rinchiude in s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mor sí bella 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mai sí dolci bac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Da quella bocca havra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più soavi, ah tac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Taci, che troppo il sai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Obdélník 5"/>
          <p:cNvSpPr/>
          <p:nvPr/>
        </p:nvSpPr>
        <p:spPr>
          <a:xfrm>
            <a:off x="6084720" y="3645000"/>
            <a:ext cx="295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… ať si jeho oči září víc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ž oči mé, nezaselas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nezavřela v jeho hrudi tak krásný cit,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rty mé, sladkost těch polibků již neokusíte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budou něžnější, ach mlčte ústa má, dobře to víte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70800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tak uprostřed vzlyků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zvedla k nebi svůj hl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rávě tak v srdci milujícím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mísí oheň a mráz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tra sdegnosi pi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argea le voci al ciel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ne’ cori am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Mesce amor fiamma, e gel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21:55:54Z</dcterms:created>
  <dc:creator>Pavlina</dc:creator>
  <dc:description/>
  <dc:language>en-US</dc:language>
  <cp:lastModifiedBy>Jana Perutková</cp:lastModifiedBy>
  <dcterms:modified xsi:type="dcterms:W3CDTF">2016-12-11T19:54:27Z</dcterms:modified>
  <cp:revision>95</cp:revision>
  <dc:subject/>
  <dc:title>Lamento della ninfa</dc:title>
</cp:coreProperties>
</file>